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F7E6-EFA0-416F-8601-1AC923E8D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F714-5485-4D72-906D-64420FA02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8673-2222-4ABB-9A05-7302A6DA5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72B2-B361-4B70-B081-C55C7917F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75E6-434E-4E14-B517-A2487213A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5343-6A76-4D3B-B429-37E3E62AF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B7DE-6457-4882-B2CC-911B03476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9ED0-6071-4A8A-AB54-AAE7D0E42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D0CE-0322-4FB0-AD9F-2535B7FE8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06B9-CCDE-41A5-AE13-4ADB21E40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B32E-1224-4958-9389-19027EBD0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667E-C397-4C4D-AF1A-BA34A37FD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B55B-C4A2-40D9-A0F7-283E8EF34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73CF-7C68-43E0-9FD0-7123A344B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FD4D-5AAF-4D86-8466-B106CCE9F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A9D1-B8AA-4C81-8AC5-6EB644E99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D8E3-EA5D-4E22-85CF-156B539FF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90AE-278A-4A7A-B7BF-BD876CD0E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76D8-EAF3-46A8-84DA-82C3C8BDF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7835-96F3-4DF9-9544-EE7F75A91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7925-68DF-41CD-97C1-21B295C13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C5E3-56BB-4727-90C4-CF1D77C8C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5245-4521-40A0-822F-C7D5B231A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DB88-FC90-472C-99CA-C2771BE78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5562-6C8D-4CF1-B562-0A770A734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4852-67B1-4913-978C-66C7CAF1F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A949-7845-4A32-ADA3-F9EB4FBD9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E080-7DBB-46C0-AB5D-2AD893F41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3680-968B-4975-96FB-B24292DB7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36F3-F329-4AF5-9F66-D43A85A56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D2AD-5830-4F77-9E7B-5D1FDDF86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8588-CF53-4248-91D4-DF742CAB3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5046-16ED-4F1D-96B7-38C48279B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F537-1EC6-4D06-84A6-529D42D7E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C573-4A42-4CD1-9E2F-0CAF092F2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7C3BAB-A32F-43A0-96EB-ADAC1E5BD7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CF576C-50CA-4FF8-9560-03BFF8992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9FD9FC-FCC8-4B63-89FB-3BBA304CCB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082109-D3CC-4512-85EF-FACD2E2DB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B2F9FF-2034-48FC-B776-D4B02A5E96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F793F3-96EC-478B-A023-9D429D9833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FA1199-29A5-49E7-A010-987295C83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B54659-6FF8-412D-AD34-A9FB29937D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3DFE3-BA7F-42F1-83DF-68BB2CB46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FF2F5-A8C2-4023-AB5D-D1069BE00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77713-7037-4087-A0A7-914E44FCE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41DCCD-2B78-4E15-875F-D21FA74A6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EEEDFA32-4D31-487D-8230-A8B566A4112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2D76E37-6A7C-4215-AF28-FF676C2B38E4}"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47B7EFE-0B5A-4C2D-B937-9201663CAFEE}"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2BC48F8-6DFD-4F27-A4B5-B516FF0A67ED}"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2AE253D-23D3-4FF9-B9D0-56CCD0092324}"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96CB3A0-9DD0-4C9F-83CB-08834F1D44C8}"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0435450-AC34-4DA2-A24F-C2451FE9E595}"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6D0D3B8-BF49-4E84-B978-C5826519BAF1}"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0C1DC7B-15AB-4426-B3A1-FC02ED17099E}"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582FD0D-A9B4-4058-B28C-926C466C8079}"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4B8D9EF-89F6-4F5E-B811-8FB53D871692}"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01FF89-FB63-41BC-A7BB-6B0E29FA775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CE343C5-BF95-4918-845D-7441F4A5FC80}"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C363B2A-47D0-4E5F-8D1F-6AB35DD55208}"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DBD82F1-18BF-4FAB-B7DC-3C694FC688D7}"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08927D1-99AF-4EE1-B43B-C5CD845B1C02}"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36FB7AB-3D31-4AA5-AA7C-B844E02D07C6}"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4415B67-18D5-4488-932F-85695E56A990}"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D208C3A-2128-4FF4-847C-510728992769}"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A02D723-8199-4403-B255-DEF1FF4E87C2}"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AFE35FD-F466-458C-AD50-E4E41947716A}"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C6DA329-5EB8-43EB-9CDF-CE9D5B6F6472}"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2C33EE-A280-4888-A025-55539482DAD0}"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43DA0E-0C71-48D9-8CF1-85FDF12E788E}"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42C4AA3A-7AED-4BE2-BD2D-732AEFB2D16B}"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9E160C2-A2E4-485E-9AFC-DAE3C8F26AB8}"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A81D4D2-4BAB-4169-AC7C-B9EC94B6B47B}"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A213A26-597A-4368-99D7-DCF899F8CFBA}"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4F44EDC-06E2-442D-B434-306C9281B1EA}"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29AEF6E-338C-4CA4-87FB-D062D503DA8D}"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2FDED3E-D9B3-4732-83EB-32DBE7BB33D4}"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D27576-15CB-4014-963C-CDB1F1AAD82F}"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3801E76-5358-4EC4-9D30-3D643943F1C0}"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C7064F2-8C49-4DBC-BD69-714B34B2AE12}"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7A0E840-A88F-4879-BFB0-866A34C866F7}"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F7EC766-3554-435A-BE27-CB1309DAC835}"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D4C55460-3C6F-4FD4-A913-29E82D8C843B}"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22FFFD3-6C4F-497E-83AE-03755562F792}"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C5F67A17-780B-4365-88ED-FBBF30BA1238}"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04A8F6-F845-4706-AD81-FBEB45CF4DA6}"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F8C0A9-E934-4C69-8AA7-F55F3819D8F9}"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7470BD-98AD-4A0E-A58B-2A9310593CB4}"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D05A8B-C16C-4B89-97F2-2DBB2C3B4817}"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CAC33D9-EEBE-4C0B-8AA0-0F0C14C9B86F}"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DB40E5-9248-4E33-B588-254D535DDD8A}"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4A972164-C2A4-4E7D-B5AB-700FF182CD4C}"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169B694B-C242-4B5D-873C-4D8A7869025D}"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56AB213-009C-439D-8681-2D7A44668CBC}"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944EA7AA-8944-40A9-B6B3-71CF3C944C32}"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Teodoro Wigodski</cp:lastModifiedBy>
  <dcterms:modified xsi:type="dcterms:W3CDTF">2006-07-14T03:21:10Z</dcterms:modified>
  <cp:revision>49</cp:revision>
  <dc:subject>Chapter 3</dc:subject>
  <dc:title>Strategic Management 7e.</dc:title>
</cp:coreProperties>
</file>