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4B1A-9970-413A-973C-5CCC98A3C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48F-70E7-46DE-95B9-2D40A3D8B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EA2A-3A2C-4D11-890E-BA4142073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9776-D9AA-4595-832C-ABCD5C68B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B0D2-257C-4CC4-944E-A23437768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0EC4-1721-4753-849D-8B3C73503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7FB1-F3CA-4F4D-BFBB-3174E5B3A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8881-516D-44A6-8377-A2809B65C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2E32-DE85-477A-9508-62EEE7810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A5DE-7EDB-4B9F-98D3-DFA56BBA6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1006-5104-4182-BF82-CBF7DFD9B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20FD-1045-4481-BAD5-EFCAA68A2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FBEC-3CB1-4127-B36C-29662BD71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3452-1830-457F-AF2F-C964A4F7C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388EC2CE-7283-4101-A643-DC94C5C004D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1F12-1201-4145-8B68-00202782C1F9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2E39-D915-4400-946D-D6280EBF7F03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5E1B-E8D9-46EC-98E8-48C074818CB6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1E88-9993-47DB-BD1C-18D906B6C1B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2590-9F63-408A-A3DF-11DBE3E7209F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4B46-0510-4558-82BF-50B3FA801A06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5FA0-2149-426A-851F-4A64D2FA587D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995A-ECBD-4953-97C1-F3762032ADC9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7814-8FFF-445D-A80E-DB504DB2F50A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9F20-E530-4994-B2C5-99917E9B7E5E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D079-B44F-4CC0-83EE-0FA213A9DE6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AEDE-AD7B-4B54-9404-4840AB46E0A8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7507-B6A7-473A-A4DC-B7F681EF8C2E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56A2-4D54-42B2-B72E-E1DC2D1F6B25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93AA-3D4E-427B-9838-A704E3F74A53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357A-C09B-403E-9998-469984196291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D43A-7334-4071-8707-F15C8B3DF93E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8042-EACD-445D-A49C-785B8A0DD160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D169-B0C7-4188-ACD0-C5C5414707B8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72DF-86D9-41A2-A5DC-4B3DE199CF8D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B969-D074-4BF4-8894-487058598DF5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3DE6-8419-44CB-B3DC-01D680622BA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7E75-9B9B-4CC8-BE41-7676295D2D6F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4CB3-E38D-4CF3-AA46-07223E983F09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5412-C5E5-417F-98CC-F2947BE30903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D206-9B90-40D1-816F-63A300FA168A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A7A80-E77E-49AE-8055-E7FEB80821BE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BD53-0DE9-41F0-B8F9-6E909BD53BD6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8BE9-7274-40DA-A76A-EFDC60AF6E96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6FFD-469E-43B5-800F-A373F804EFBB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5808-50D9-4A70-9551-98B03C09ECBB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6DA0-E934-4D4A-8155-72197D733F94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77B3-3639-4470-985B-887AD3A3C981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9BAB-BB71-46B3-903D-6F3B0105C004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9E5C-D2F3-4013-AA28-41EF5067C9F7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05B4-AE17-48A2-972F-7816034385F9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8700-0B53-405F-B451-7319DC28A836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3090-6B41-46D5-995D-C9EB4032B6E1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55AE-6298-465B-BAE0-BC82AC83BCB5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FD38-1D8D-4DA2-A63D-346EEC4A454F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6AF1-3BCD-4BAC-8626-FF74EAD1BCDB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47D0-DFB6-43FD-B05B-F1DF71CF1919}" type="slidenum">
              <a:t>48</a:t>
            </a:fld>
          </a:p>
        </p:txBody>
      </p:sp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41AC-9C04-4E49-ACD0-22ADC3C7D03E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73E5-8C29-423B-8950-4350AC1D5476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3BEC-4B47-40FA-B081-5C3ACC3D4627}" type="slidenum">
              <a:t>50</a:t>
            </a:fld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F4AD-1F4D-45E0-85BF-7565EB42D999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19E3-71C1-4D65-820B-9A0B628A9C35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388A-B555-480C-A98A-82B9334E1994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14DD-72B8-4328-B645-39182DBAE63F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D968-BD2A-4720-B0F7-9CC1D76D2177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D996-9D08-4114-9808-8A40195E75DE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DD68-48B1-4A01-AAEC-66CE2A510785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mplement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32B5-D300-40F0-9544-9743BDF8CB6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298F-3B36-40F6-90DA-AA286CB1EDF0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14T03:20:02Z</dcterms:modified>
  <cp:revision>53</cp:revision>
  <dc:subject>Chapter 1</dc:subject>
  <dc:title>Strategic Management 7e.</dc:title>
</cp:coreProperties>
</file>