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1F1-69CB-493C-9211-DEAE8166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16B-DD73-48F7-BDF8-6C1DFF47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24F-96E5-4044-B41B-31413A589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281F-4977-4095-BDD6-9BBDB4C3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22C-9577-4470-8D27-6EF8E1AEC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699-7A69-4BFA-809D-9D799FD6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080-224E-4E13-AFA4-0FAFB043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037-372E-4C2B-AB30-1202B913C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6336-53DB-474F-9265-F2544DF6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363-DC9E-4DA6-9F2E-0F15F0DC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0A6D-D71F-4DC1-802A-3051EFFF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3F2-4084-4F19-85AF-F17578E2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B96-5C65-43DB-A9B4-A95BF7CF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BB4-31E1-4D8A-8E50-B77DB533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4D2-2440-4098-AAB2-B2EC021F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C90B-FDA2-49B2-AA8E-73370A84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419-B836-45C1-AC24-54DB18FD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103-36DD-46FB-8975-D0231FCBE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1BBD-119E-4065-805C-5B5D08ED0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182-EABF-4694-8FFD-A7DE6CC2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D83-7A86-4CC5-B840-6A0C9C37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1BA5-547B-4470-A52F-66A39C471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507-85D8-4013-9F2C-8E722A73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463-E314-4AE0-BC60-D0D11CEC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0E7-2763-4859-AD03-F18C4CFFA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1D4-0247-4465-9324-6125F6ADC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DCB-46CC-4E30-BC15-8835E3F38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941-2B76-4CFA-A9B5-BC58B214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6029-C7BE-4A15-B308-20DFD456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888C-CDF1-4D7B-AEF9-696D0709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3A9-E612-4473-8515-0E8F69FF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9D2C-7428-4086-820D-3DB7EFDC1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26FD-3012-4E98-8C4C-0E937C64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CE25-0F1B-4530-8E1C-16DC09EE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96AE-6A6C-4014-8678-1FD100CD9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0F90-FEC2-47DD-8EF6-34F7BC8FE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6643-5542-4C04-98E3-699D027B5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F3A6-6158-441F-AAD6-84F592FD0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8A24-BBDD-44FA-8B52-AD42A7CD0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1651-3D2B-46CC-8C22-8711C0850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0BCF-F33F-4448-A057-19205918F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CE8C-071C-47D1-8FF6-BB7F98F8C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F8AC-0B80-44F7-8EA1-1E2FBF2DC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4DD52016-60CB-4624-8D09-BBB472CAE87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CD78-BF4C-4409-869D-AD0D4F6BB1BD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568A-BED7-4EE5-9110-2BAF69FBB179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1FAC-3A7D-4343-B809-E06F7515A0B0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F5A3-1BF3-489D-A86D-02CC6A677FB4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1205-7A29-4343-A2A0-F97E55AA3E71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A02B-41DE-4A95-85D0-431CB989DB43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744B-832B-4BC0-BFF0-59D9FC643051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13C7-F855-4467-955C-3BD7FE8D6C18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42A6-8097-4EB3-B658-8C7C56406C25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D024-7249-4C17-A2B6-268D5999FD5A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8D7B-D0A2-4EE4-AD9B-9B6172ED4CD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F15B-B26A-446F-9377-E239496F5B5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24D3-FFB5-43AB-A78E-28D9F183D8D3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07B4-EB26-4BFC-B9C2-8EB8360CEE54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0165-9EC8-4CCE-900F-749D31A402AE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D660-2FFF-43D7-AC3F-A2CB6D447065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5BD0-653B-4C02-8B53-315A7BDE730A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3153-7799-4BE5-B953-8D7FA79F5DEC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8EE7-E59E-4A05-8497-B385AB2838B4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6F3C-BB48-48EA-8EB0-88C07872382E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CF92-EDD5-4B8E-BDD5-336B8F74EAA1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D4FB-EA17-47C0-A7F5-D1E3FFAB3DB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20B8-6BDA-4B34-900D-520AE173CA4A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AA2B-A99B-49BB-8738-CCCB5B144F4D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FCAE-9688-4C60-8341-9902F0A8C051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F13E-C5B2-47F8-9BFD-1622DFC54BEC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3EA7-AAF2-48D5-BDDC-A0F92033A58B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6025-D869-430A-9F55-66450113A3A8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A2A6-895D-449E-9058-13E125371F2C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6935-3C5A-4869-9C40-FC674D6614E7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45E2-E1E3-4D36-8F03-34AFC4470DFF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2DE9-C23A-46B5-B2A3-49DEF5240005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B861-90BF-4302-AF6F-9E1F623890F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AD01-17B7-4696-B6D8-4E490D7E3615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418D-34DA-463E-A175-D445807D78A7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5C73-7F5A-413E-9C63-5D123398EE55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A4F9-F554-4D47-BA65-1EE73580F21C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7011-4E1B-46EE-AB32-755D5688C502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D92F-F0D4-42B6-AC0B-C1CB30ECF1D2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29T17:32:23Z</dcterms:modified>
  <cp:revision>44</cp:revision>
  <dc:subject>Chapter 2</dc:subject>
  <dc:title>Strategic Management 7e.</dc:title>
</cp:coreProperties>
</file>