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99B1-9A67-4A16-9D20-26CF5BEA5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FCCF-3311-4E6F-AC51-E0464A52C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E1C4-BC0D-41B7-9F31-8A248FAD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17E2-D257-42A0-A81A-876196270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3695-5B59-42D8-AB8B-96A98370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762A-BB5C-4346-B1CE-3F70E4D9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166F-4214-4864-8D8D-7B9DAEA68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242-8865-4E0E-95D8-5A039612C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896D-9803-46FE-B139-7B72EDD2F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C2F3-A3C2-4B23-968B-D81874C41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F82F-FCFE-41B3-83C6-80DD92D51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25BF-75C9-46F0-8807-777A252BF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EB85-2553-4DCA-9105-64AF5FE2E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CDCF-6DDD-4793-B46A-6A46399F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26CD-1FE9-4E53-A800-8DE216381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81AC-689F-41E7-A0C7-5DB40F1F2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B974-A52D-4568-A428-D31F3334C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EE40-95D9-44B9-8456-E5027D95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5E9-0ADE-44B1-BA69-F8F0E62F1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4518-216C-4F8A-B0D8-DB8CD2D23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346E-D807-44FE-97E9-2434E00C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09D7-8B91-494E-B979-F834D446D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D14F-C185-4268-BC42-B20F637E2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65BA-B585-4A16-A5E0-C77305A99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3C1F-76C1-44FE-ACFE-0729B535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4D98-8E85-441E-BC91-88A70FCF9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8E01-29FB-4837-92E8-6396CC5C5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57B0-6D81-4054-B682-F7B5534C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4355-F919-4ECC-98B4-3D2E8AB32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9171-B2E9-4E79-9B5B-22BF08CB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FEBC-C36A-4677-A71D-AB612A2B3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9B8A-2514-49BA-AACA-CB7962471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43A3-C396-4BFA-9051-D18B22065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6FCB-EBB1-4DBB-8B84-1CCD745EF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7E56-D829-40DF-AF51-8525EFB54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61D6-FE6B-45CC-AE2A-25374499F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C5A2-B89D-44E5-8C94-513557BC0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9946-2E2A-4178-86E4-E93E73563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345E-D23C-4612-89C9-E5EDB2DAC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4BC7-BECC-4CB4-B830-14B5723AF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9582-C09E-4394-9566-FA8B0D37C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EAB2-7530-44F3-B379-8FE5A2F2E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8652-4919-4BB4-B5C0-397871972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D3772C8C-36D6-43E3-A151-5F5C62D00A4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511B-42CA-4C9B-94BF-7443E5E2F234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BF46-3AC1-4EBC-985C-BF14FBD5CCDC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BE18-BF76-4265-9826-055D828B8EB0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CFE5-3551-4C70-8D13-8507D74EBC75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5CBD-A3D8-4F9F-BF72-16C6B8AEA1C0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4B42-939D-490C-94F1-FB2EFB75523A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D2DB-8BD4-4EF1-A762-D19C3047B6C8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AF48-7576-40D1-AC0F-F5969C491CC0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25E8-35B8-47E4-8E2C-AA5CF2B7E3AC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779B-8B11-4EF6-8312-442FDE670994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0A13-DA32-49C9-A6BC-6F743106317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4EC7-C876-4B04-818D-FE87F8B63BB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7C5A-0EE4-499E-A327-E58E22DDD203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DF9F-A081-49A4-B9E8-D7103C6D238A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1257-8069-46F1-91EE-06E83C391850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BAFD-9B49-473E-B648-110B1AECC706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F486-D4B5-4419-B920-D016BABB7C2A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89DB-A8E2-4E7D-9D0F-19E232A19528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9F31-6562-4CB9-B4AE-FFA5467FE1B1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0BAC-F1FC-4EA6-9CCD-AEFBABFB5EBD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FEE3-1F66-40B6-B502-ADF23733AE41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5CAC-1A03-4835-A233-52FF05295B3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C0CD-8FAA-4EC9-85E3-B529E8B63126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E20F-83F2-4147-AA20-4F4A767A84C7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4B97-1551-46B8-827A-8857D3B81DCB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6D0D-E2CD-4AE9-A1D7-FC6982E9B8CC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9C78-5E42-462E-88C0-6B36C4D0961D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8061-B4C2-42D2-8A56-9B02AEFCD448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AAF3-54AA-4EAB-B5A0-36579C6EEF20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31DA-8EC5-4316-84CA-3BDD4528EB79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41A0-D246-40AE-A302-D05605428EB4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3F94-677E-4DD9-A789-9EA6635D4A32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48BF-4524-4346-B634-A520CDCF1FA6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D5C7-7AAF-4ECB-8891-7F314C598BF7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0B7CF-3425-4654-8A38-BC6512EBAABD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32DF-D079-4752-92E5-5056A59F2CD9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B0F6-53FC-42FD-9FE5-DF40E356D789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814C-51F6-428F-8003-2DA726F6F0F8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F2BC-5294-4714-8613-69557B2FAFA1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29T17:32:23Z</dcterms:modified>
  <cp:revision>44</cp:revision>
  <dc:subject>Chapter 2</dc:subject>
  <dc:title>Strategic Management 7e.</dc:title>
</cp:coreProperties>
</file>