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2.wmf" ContentType="image/x-wmf"/>
  <Override PartName="/ppt/media/image16.wmf" ContentType="image/x-wmf"/>
  <Override PartName="/ppt/media/image1.png" ContentType="image/png"/>
  <Override PartName="/ppt/media/image3.jpeg" ContentType="image/jpeg"/>
  <Override PartName="/ppt/media/image15.png" ContentType="image/png"/>
  <Override PartName="/ppt/media/image9.wmf" ContentType="image/x-wmf"/>
  <Override PartName="/ppt/media/image4.jpeg" ContentType="image/jpeg"/>
  <Override PartName="/ppt/media/image2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Click to move the slide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B94F6-0F13-4F35-9B25-09F3BEF582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38C9B-A6A8-4919-A1DC-2E29A799A1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D07D5-1442-4195-A7D8-8182CCC0CF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7DE60-7B68-4536-84B8-EFE2802C33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365CA-8DB7-41B8-9B03-DA6C8FF283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02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272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478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02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272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E5907-30E2-4884-843B-5B0B0471A9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47840" y="312480"/>
            <a:ext cx="822960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15DC1-5D63-4989-A490-CE691825C4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02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1272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478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02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1272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ABCA8-98D4-48BD-A0EE-01DF46BBC9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A34F1-A00E-438F-9B39-B238E442BE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B6236-2E6F-4C88-81ED-5FECD57287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47840" y="312480"/>
            <a:ext cx="822960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51899-4DB9-4F43-9076-512E571F6C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1B761-B526-48DE-80FF-C111D36F51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12FE5-65DF-4FD1-A648-038BAE7538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C83E3-9DE2-49B6-9AB4-A0E7DD4883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57200" y="6476760"/>
            <a:ext cx="41148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81440" y="6476760"/>
            <a:ext cx="12956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–</a:t>
            </a:r>
            <a:fld id="{02B271E3-0BBE-4A98-9FC3-235F51945027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4328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Click to edit the title text format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09920" y="60958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048120"/>
            <a:ext cx="213372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AGEM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8120" y="2057400"/>
            <a:ext cx="5943600" cy="14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CHAPTER 1</a:t>
            </a:r>
            <a:br>
              <a:rPr sz="28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Strategic Management and Strategic Competitiveness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lobal Econom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Global Econom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oods, people, skills, and ideas move freely across geographic bord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vement is relatively unfettered by artificial constrain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ansion into global arena complicates a firm’s competitive environ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rt-term: Where is the fastest growth likely to occu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-term: Where will sustainable growth occu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F6132-3E85-4C19-8959-77F8647C0B5E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lobal Econom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March of Globalizat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reased economic interdependence among countries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Arial"/>
              </a:rPr>
              <a:t>—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low of goods and services, financial capital, and knowledge across country bord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r performance leve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ality, cost, productivity, product introduction time, and operational 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reased range of opportunities for companies competing in the 21st-century competitive landscap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ability of foreignn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the risks of participating outside of a firm’s domestic country in the global econo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mount of time required for firms to learn how to compete in markets that are new to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759F6-E86A-49F0-8752-71D9BFF77686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echnology and Technological Chang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echnology Diffus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speed at which new technologies become availabl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isruptive Technologi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ies that destroy the value of existing technology and create new marke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Perpetual Innovat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rapidity and consistency with which new, information-intensive technologies replace older on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B75F8-8211-489C-A1F9-224582CF43F8}" type="slidenum">
              <a:t>12</a:t>
            </a:fld>
          </a:p>
        </p:txBody>
      </p:sp>
    </p:spTree>
  </p:cSld>
  <p:transition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echnological Chang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Information Ag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ability to effectively and efficiently access and use information has become an important source of competitive advanta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y includes personal computers, cellular phones, artificial intelligence, virtual reality, massive databases, electronic networks, internet trad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248520" y="4419720"/>
            <a:ext cx="1892160" cy="1724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82914-ADF4-4BB8-B530-B69D6204C6DE}" type="slidenum">
              <a:t>13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echnological Chang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creasing Knowledge Intensit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Knowledge as a critical organizational resource for creating an intangible competitive advantag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Strategic flexibility: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 the set of capabilities used to respond to various demands and opportunities in dynamic and uncertain competitive environme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Organizational slack: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 slack resources that allow the firm flexibility to respond to environmental chang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rganizational capacity to lear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394E8-EBB5-4D25-A468-77EC45B0701D}" type="slidenum">
              <a:t>14</a:t>
            </a:fld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/O Model of Above-Average Retur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ominance of the External Environmen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industry in which a firm competes has a stronger influence on the firm’s performance than do the choices managers make inside their organiza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ustry Properties Determining Performanc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conomies of scal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arriers to market en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versific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differenti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gree of concentration of firms in the indus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37600-3EC4-4940-9468-DB2FDD06A510}" type="slidenum">
              <a:t>15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our Assumptions of the I/O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82840" y="1486080"/>
            <a:ext cx="697536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External environment imposes pressures and constraints that determine strategies leading to above-average return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49360" y="1459080"/>
            <a:ext cx="838080" cy="761760"/>
            <a:chOff x="549360" y="1459080"/>
            <a:chExt cx="838080" cy="761760"/>
          </a:xfrm>
        </p:grpSpPr>
        <p:sp>
          <p:nvSpPr>
            <p:cNvPr id="138" name=""/>
            <p:cNvSpPr/>
            <p:nvPr/>
          </p:nvSpPr>
          <p:spPr>
            <a:xfrm>
              <a:off x="549360" y="1459080"/>
              <a:ext cx="838080" cy="7617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89320" y="1528200"/>
              <a:ext cx="758160" cy="62316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49360" y="2705040"/>
            <a:ext cx="838080" cy="762120"/>
            <a:chOff x="549360" y="2705040"/>
            <a:chExt cx="838080" cy="762120"/>
          </a:xfrm>
        </p:grpSpPr>
        <p:sp>
          <p:nvSpPr>
            <p:cNvPr id="141" name=""/>
            <p:cNvSpPr/>
            <p:nvPr/>
          </p:nvSpPr>
          <p:spPr>
            <a:xfrm>
              <a:off x="549360" y="2705040"/>
              <a:ext cx="838080" cy="7621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89320" y="2774160"/>
              <a:ext cx="758160" cy="62352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1539720" y="2743200"/>
            <a:ext cx="7147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Most firms competing in an industry control similar strategically relevant resources and pursue similar strateg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39720" y="3867120"/>
            <a:ext cx="60962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Resources used to implement strategies are highly mobile across fir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549360" y="3832200"/>
            <a:ext cx="838080" cy="762120"/>
            <a:chOff x="549360" y="3832200"/>
            <a:chExt cx="838080" cy="762120"/>
          </a:xfrm>
        </p:grpSpPr>
        <p:sp>
          <p:nvSpPr>
            <p:cNvPr id="146" name=""/>
            <p:cNvSpPr/>
            <p:nvPr/>
          </p:nvSpPr>
          <p:spPr>
            <a:xfrm>
              <a:off x="549360" y="3832200"/>
              <a:ext cx="838080" cy="7621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89320" y="3901320"/>
              <a:ext cx="758160" cy="62352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549360" y="5105520"/>
            <a:ext cx="838080" cy="761760"/>
            <a:chOff x="549360" y="5105520"/>
            <a:chExt cx="838080" cy="761760"/>
          </a:xfrm>
        </p:grpSpPr>
        <p:sp>
          <p:nvSpPr>
            <p:cNvPr id="149" name=""/>
            <p:cNvSpPr/>
            <p:nvPr/>
          </p:nvSpPr>
          <p:spPr>
            <a:xfrm>
              <a:off x="549360" y="5105520"/>
              <a:ext cx="838080" cy="7617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9320" y="5174640"/>
              <a:ext cx="758160" cy="62316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539720" y="5029200"/>
            <a:ext cx="6858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Organizational decision makers are assumed to be rational and committed to acting in the firm’s best interests (profit-maximizi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9EBFA-E90A-4059-9603-4A1EF6E35F7D}" type="slidenum">
              <a:t>16</a:t>
            </a:fld>
          </a:p>
        </p:txBody>
      </p:sp>
    </p:spTree>
  </p:cSld>
  <p:transition>
    <p:random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2155680" cy="13716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55200"/>
            <a:ext cx="190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.2</a:t>
            </a:r>
            <a:r>
              <a:rPr b="1" i="1" lang="en-US" sz="1200" spc="-1" strike="noStrike">
                <a:solidFill>
                  <a:srgbClr val="cc3300"/>
                </a:solidFill>
                <a:latin typeface="Tahoma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e I/O Model of Above-Average Returns</a:t>
            </a:r>
            <a:endParaRPr b="0" lang="en-US" sz="14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684360"/>
            <a:ext cx="0" cy="47916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99072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2743200" y="380880"/>
            <a:ext cx="4781520" cy="6096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2F149-9D82-4714-8D7B-587539C3C692}" type="slidenum">
              <a:t>17</a:t>
            </a:fld>
          </a:p>
        </p:txBody>
      </p:sp>
    </p:spTree>
  </p:cSld>
  <p:transition>
    <p:random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586440" y="1833480"/>
            <a:ext cx="3842280" cy="4340160"/>
            <a:chOff x="586440" y="1833480"/>
            <a:chExt cx="3842280" cy="4340160"/>
          </a:xfrm>
        </p:grpSpPr>
        <p:sp>
          <p:nvSpPr>
            <p:cNvPr id="158" name=""/>
            <p:cNvSpPr/>
            <p:nvPr/>
          </p:nvSpPr>
          <p:spPr>
            <a:xfrm>
              <a:off x="609480" y="2152800"/>
              <a:ext cx="3687840" cy="368748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997280" y="2205000"/>
              <a:ext cx="91224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Glob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573200" y="5349960"/>
              <a:ext cx="176256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Technologic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7976600">
              <a:off x="3161160" y="4602960"/>
              <a:ext cx="127188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Econom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3531600">
              <a:off x="2964960" y="3099240"/>
              <a:ext cx="172152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Demograph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3576600">
              <a:off x="360720" y="4550040"/>
              <a:ext cx="167868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Sociocultu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17993400">
              <a:off x="290880" y="3016080"/>
              <a:ext cx="181440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Political/Leg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36520" y="2894040"/>
              <a:ext cx="2633760" cy="2278080"/>
            </a:xfrm>
            <a:prstGeom prst="hexagon">
              <a:avLst>
                <a:gd name="adj" fmla="val 28903"/>
                <a:gd name="vf" fmla="val 11547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621080" y="3024360"/>
              <a:ext cx="166500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Indust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Enviro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21080" y="4319640"/>
              <a:ext cx="166500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Competi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Enviro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911960" y="1833480"/>
              <a:ext cx="10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Gene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621080" y="5805360"/>
              <a:ext cx="166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nviro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328760" y="4284720"/>
              <a:ext cx="224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/O Model of Above-Average Retur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876560" y="1255320"/>
            <a:ext cx="3886200" cy="40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trategy is dictated by the external environment of the firm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i="1" lang="en-US" sz="2400" spc="-1" strike="noStrike">
                <a:solidFill>
                  <a:srgbClr val="336699"/>
                </a:solidFill>
                <a:latin typeface="Arial"/>
              </a:rPr>
              <a:t>what opportunities exist in these environments?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Firm develops internal skills required by external environment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i="1" lang="en-US" sz="2400" spc="-1" strike="noStrike">
                <a:solidFill>
                  <a:srgbClr val="336699"/>
                </a:solidFill>
                <a:latin typeface="Arial"/>
              </a:rPr>
              <a:t>what can the firm do about the opportunities?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40160" y="1403280"/>
            <a:ext cx="366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ternal Enviro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397400" y="1681200"/>
            <a:ext cx="507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100320" y="1681200"/>
            <a:ext cx="1805040" cy="1379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2876040" y="1700280"/>
            <a:ext cx="2009880" cy="528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903040" y="1681200"/>
            <a:ext cx="2001960" cy="2670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16B2D-BB79-47C0-B26D-74F1858926ED}" type="slidenum">
              <a:t>18</a:t>
            </a:fld>
          </a:p>
        </p:txBody>
      </p:sp>
    </p:spTree>
  </p:cSld>
  <p:transition>
    <p:random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500"/>
                            </p:stCondLst>
                            <p:childTnLst>
                              <p:par>
                                <p:cTn id="1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22680" y="1447920"/>
            <a:ext cx="407664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tudy the external environment, especially the industry environment: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Economies of scale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Barriers to market entry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iversification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duct differentiation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egree of concentration of firms in the industry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41440" y="1380960"/>
            <a:ext cx="3801960" cy="593640"/>
            <a:chOff x="541440" y="1380960"/>
            <a:chExt cx="3801960" cy="593640"/>
          </a:xfrm>
        </p:grpSpPr>
        <p:sp>
          <p:nvSpPr>
            <p:cNvPr id="181" name=""/>
            <p:cNvSpPr/>
            <p:nvPr/>
          </p:nvSpPr>
          <p:spPr>
            <a:xfrm>
              <a:off x="541440" y="13809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50000">
                  <a:srgbClr val="bbe0e3"/>
                </a:gs>
                <a:gs pos="100000">
                  <a:srgbClr val="43505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20640" y="1452240"/>
              <a:ext cx="3643560" cy="449280"/>
            </a:xfrm>
            <a:prstGeom prst="rect">
              <a:avLst/>
            </a:prstGeom>
            <a:gradFill rotWithShape="0">
              <a:gsLst>
                <a:gs pos="0">
                  <a:srgbClr val="7b9395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ED747-4AFF-4012-9804-911C670A0427}" type="slidenum">
              <a:t>19</a:t>
            </a:fld>
          </a:p>
        </p:txBody>
      </p:sp>
    </p:spTree>
  </p:cSld>
  <p:transition>
    <p:random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5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185760"/>
            <a:ext cx="4267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72404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rategic competitiveness, strategy, competitive advantage, above-average returns, and the strategic management proces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21st-century competitive landscape and explain how globalization and technological changes shape it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industrial organization (I/O) model to explain how firms can earn above-average return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resource-based model to explain how firms can earn above-average returns.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88596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0F78C-3626-4DA0-84A1-1B39D0399128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02240" y="1981080"/>
            <a:ext cx="352584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Locate an attractive industry with a high potential for above-average return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952880" y="3429000"/>
            <a:ext cx="3505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ttractive indust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One whose structural characteristics suggest above-average retur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541440" y="1371600"/>
            <a:ext cx="3801960" cy="593640"/>
            <a:chOff x="541440" y="1371600"/>
            <a:chExt cx="3801960" cy="593640"/>
          </a:xfrm>
        </p:grpSpPr>
        <p:sp>
          <p:nvSpPr>
            <p:cNvPr id="187" name=""/>
            <p:cNvSpPr/>
            <p:nvPr/>
          </p:nvSpPr>
          <p:spPr>
            <a:xfrm>
              <a:off x="541440" y="13716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20640" y="14428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541440" y="1982880"/>
            <a:ext cx="3801960" cy="593640"/>
            <a:chOff x="541440" y="1982880"/>
            <a:chExt cx="3801960" cy="593640"/>
          </a:xfrm>
        </p:grpSpPr>
        <p:sp>
          <p:nvSpPr>
            <p:cNvPr id="190" name=""/>
            <p:cNvSpPr/>
            <p:nvPr/>
          </p:nvSpPr>
          <p:spPr>
            <a:xfrm>
              <a:off x="541440" y="19828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20640" y="20541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6DB1D-E6A1-491B-BA24-CDFB3EDC0C81}" type="slidenum">
              <a:t>20</a:t>
            </a:fld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2640" y="2592000"/>
            <a:ext cx="411480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Identify the strategy called for by the attractive industry to earn above-average return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40280" y="3765600"/>
            <a:ext cx="382284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trategy formulation: Selection of a strategy linked with above-average returns in a particular indus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541440" y="1390680"/>
            <a:ext cx="3801960" cy="593640"/>
            <a:chOff x="541440" y="1390680"/>
            <a:chExt cx="3801960" cy="593640"/>
          </a:xfrm>
        </p:grpSpPr>
        <p:sp>
          <p:nvSpPr>
            <p:cNvPr id="196" name=""/>
            <p:cNvSpPr/>
            <p:nvPr/>
          </p:nvSpPr>
          <p:spPr>
            <a:xfrm>
              <a:off x="541440" y="13906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20640" y="14619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541440" y="2001960"/>
            <a:ext cx="3801960" cy="593640"/>
            <a:chOff x="541440" y="2001960"/>
            <a:chExt cx="3801960" cy="593640"/>
          </a:xfrm>
        </p:grpSpPr>
        <p:sp>
          <p:nvSpPr>
            <p:cNvPr id="199" name=""/>
            <p:cNvSpPr/>
            <p:nvPr/>
          </p:nvSpPr>
          <p:spPr>
            <a:xfrm>
              <a:off x="541440" y="20019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20640" y="20732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541440" y="2614680"/>
            <a:ext cx="3801960" cy="593640"/>
            <a:chOff x="541440" y="2614680"/>
            <a:chExt cx="3801960" cy="593640"/>
          </a:xfrm>
        </p:grpSpPr>
        <p:sp>
          <p:nvSpPr>
            <p:cNvPr id="202" name=""/>
            <p:cNvSpPr/>
            <p:nvPr/>
          </p:nvSpPr>
          <p:spPr>
            <a:xfrm>
              <a:off x="541440" y="26146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20640" y="26859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6E44F-6FA5-441E-9AF2-BD08E42C3BF5}" type="slidenum">
              <a:t>21</a:t>
            </a:fld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02240" y="3201480"/>
            <a:ext cx="4075200" cy="11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evelop or acquire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ssets and skills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 needed to implement a chosen strategy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952880" y="4343400"/>
            <a:ext cx="373392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ssets and skills: those assets and skills required to implement a chosen strate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33520" y="1380960"/>
            <a:ext cx="3801960" cy="593640"/>
            <a:chOff x="533520" y="1380960"/>
            <a:chExt cx="3801960" cy="593640"/>
          </a:xfrm>
        </p:grpSpPr>
        <p:sp>
          <p:nvSpPr>
            <p:cNvPr id="208" name=""/>
            <p:cNvSpPr/>
            <p:nvPr/>
          </p:nvSpPr>
          <p:spPr>
            <a:xfrm>
              <a:off x="533520" y="13809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12720" y="14522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541440" y="1990800"/>
            <a:ext cx="3801960" cy="593640"/>
            <a:chOff x="541440" y="1990800"/>
            <a:chExt cx="3801960" cy="593640"/>
          </a:xfrm>
        </p:grpSpPr>
        <p:sp>
          <p:nvSpPr>
            <p:cNvPr id="211" name=""/>
            <p:cNvSpPr/>
            <p:nvPr/>
          </p:nvSpPr>
          <p:spPr>
            <a:xfrm>
              <a:off x="541440" y="19908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20640" y="20620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541440" y="2603520"/>
            <a:ext cx="3801960" cy="593640"/>
            <a:chOff x="541440" y="2603520"/>
            <a:chExt cx="3801960" cy="593640"/>
          </a:xfrm>
        </p:grpSpPr>
        <p:sp>
          <p:nvSpPr>
            <p:cNvPr id="214" name=""/>
            <p:cNvSpPr/>
            <p:nvPr/>
          </p:nvSpPr>
          <p:spPr>
            <a:xfrm>
              <a:off x="541440" y="26035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20640" y="26748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541440" y="3216240"/>
            <a:ext cx="3801960" cy="593640"/>
            <a:chOff x="541440" y="3216240"/>
            <a:chExt cx="3801960" cy="593640"/>
          </a:xfrm>
        </p:grpSpPr>
        <p:sp>
          <p:nvSpPr>
            <p:cNvPr id="217" name=""/>
            <p:cNvSpPr/>
            <p:nvPr/>
          </p:nvSpPr>
          <p:spPr>
            <a:xfrm>
              <a:off x="541440" y="321624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20640" y="328752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ssets and Ski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80D63-19E1-47B4-930A-CD4B3661D05F}" type="slidenum">
              <a:t>22</a:t>
            </a:fld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79640" y="3862440"/>
            <a:ext cx="3949560" cy="13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5. Use the firm’s strengths (its developed or acquired assets and skills) to implement the strategy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043600" y="5181480"/>
            <a:ext cx="38718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trategy implementation: select strategic actions linked with effective implementation of the chosen strate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533520" y="1376280"/>
            <a:ext cx="3801960" cy="593640"/>
            <a:chOff x="533520" y="1376280"/>
            <a:chExt cx="3801960" cy="593640"/>
          </a:xfrm>
        </p:grpSpPr>
        <p:sp>
          <p:nvSpPr>
            <p:cNvPr id="223" name=""/>
            <p:cNvSpPr/>
            <p:nvPr/>
          </p:nvSpPr>
          <p:spPr>
            <a:xfrm>
              <a:off x="533520" y="1376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12720" y="1447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533520" y="1987560"/>
            <a:ext cx="3801960" cy="593640"/>
            <a:chOff x="533520" y="1987560"/>
            <a:chExt cx="3801960" cy="593640"/>
          </a:xfrm>
        </p:grpSpPr>
        <p:sp>
          <p:nvSpPr>
            <p:cNvPr id="226" name=""/>
            <p:cNvSpPr/>
            <p:nvPr/>
          </p:nvSpPr>
          <p:spPr>
            <a:xfrm>
              <a:off x="533520" y="1987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12720" y="2058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33520" y="2600280"/>
            <a:ext cx="3801960" cy="593640"/>
            <a:chOff x="533520" y="2600280"/>
            <a:chExt cx="3801960" cy="593640"/>
          </a:xfrm>
        </p:grpSpPr>
        <p:sp>
          <p:nvSpPr>
            <p:cNvPr id="229" name=""/>
            <p:cNvSpPr/>
            <p:nvPr/>
          </p:nvSpPr>
          <p:spPr>
            <a:xfrm>
              <a:off x="533520" y="2600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12720" y="2671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533520" y="3213000"/>
            <a:ext cx="3801960" cy="593640"/>
            <a:chOff x="533520" y="3213000"/>
            <a:chExt cx="3801960" cy="593640"/>
          </a:xfrm>
        </p:grpSpPr>
        <p:sp>
          <p:nvSpPr>
            <p:cNvPr id="232" name=""/>
            <p:cNvSpPr/>
            <p:nvPr/>
          </p:nvSpPr>
          <p:spPr>
            <a:xfrm>
              <a:off x="533520" y="3213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12720" y="3284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ssets and Ski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533520" y="3825720"/>
            <a:ext cx="3801960" cy="593640"/>
            <a:chOff x="533520" y="3825720"/>
            <a:chExt cx="3801960" cy="593640"/>
          </a:xfrm>
        </p:grpSpPr>
        <p:sp>
          <p:nvSpPr>
            <p:cNvPr id="235" name=""/>
            <p:cNvSpPr/>
            <p:nvPr/>
          </p:nvSpPr>
          <p:spPr>
            <a:xfrm>
              <a:off x="533520" y="38257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12720" y="38970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trategy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A1F7F-5FA3-4113-A68E-8C463BAB07F9}" type="slidenum">
              <a:t>23</a:t>
            </a:fld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(I/O)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533520" y="1371600"/>
            <a:ext cx="3801960" cy="593640"/>
            <a:chOff x="533520" y="1371600"/>
            <a:chExt cx="3801960" cy="593640"/>
          </a:xfrm>
        </p:grpSpPr>
        <p:sp>
          <p:nvSpPr>
            <p:cNvPr id="239" name=""/>
            <p:cNvSpPr/>
            <p:nvPr/>
          </p:nvSpPr>
          <p:spPr>
            <a:xfrm>
              <a:off x="533520" y="13716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2720" y="14428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533520" y="1982880"/>
            <a:ext cx="3801960" cy="593640"/>
            <a:chOff x="533520" y="1982880"/>
            <a:chExt cx="3801960" cy="593640"/>
          </a:xfrm>
        </p:grpSpPr>
        <p:sp>
          <p:nvSpPr>
            <p:cNvPr id="242" name=""/>
            <p:cNvSpPr/>
            <p:nvPr/>
          </p:nvSpPr>
          <p:spPr>
            <a:xfrm>
              <a:off x="533520" y="19828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12720" y="20541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533520" y="2595600"/>
            <a:ext cx="3801960" cy="593640"/>
            <a:chOff x="533520" y="2595600"/>
            <a:chExt cx="3801960" cy="593640"/>
          </a:xfrm>
        </p:grpSpPr>
        <p:sp>
          <p:nvSpPr>
            <p:cNvPr id="245" name=""/>
            <p:cNvSpPr/>
            <p:nvPr/>
          </p:nvSpPr>
          <p:spPr>
            <a:xfrm>
              <a:off x="533520" y="25956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12720" y="26668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533520" y="3208320"/>
            <a:ext cx="3801960" cy="593640"/>
            <a:chOff x="533520" y="3208320"/>
            <a:chExt cx="3801960" cy="593640"/>
          </a:xfrm>
        </p:grpSpPr>
        <p:sp>
          <p:nvSpPr>
            <p:cNvPr id="248" name=""/>
            <p:cNvSpPr/>
            <p:nvPr/>
          </p:nvSpPr>
          <p:spPr>
            <a:xfrm>
              <a:off x="533520" y="32083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12720" y="32796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ssets and Ski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533520" y="3821040"/>
            <a:ext cx="3801960" cy="593640"/>
            <a:chOff x="533520" y="3821040"/>
            <a:chExt cx="3801960" cy="593640"/>
          </a:xfrm>
        </p:grpSpPr>
        <p:sp>
          <p:nvSpPr>
            <p:cNvPr id="251" name=""/>
            <p:cNvSpPr/>
            <p:nvPr/>
          </p:nvSpPr>
          <p:spPr>
            <a:xfrm>
              <a:off x="533520" y="382104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12720" y="389232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5891040" y="3324240"/>
            <a:ext cx="177840" cy="747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329000" y="1631880"/>
            <a:ext cx="843120" cy="2473560"/>
          </a:xfrm>
          <a:custGeom>
            <a:avLst/>
            <a:gdLst>
              <a:gd name="textAreaLeft" fmla="*/ 0 w 843120"/>
              <a:gd name="textAreaRight" fmla="*/ 304560 w 843120"/>
              <a:gd name="textAreaTop" fmla="*/ 64440 h 2473560"/>
              <a:gd name="textAreaBottom" fmla="*/ 2409120 h 247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365720" y="2867040"/>
            <a:ext cx="1861920" cy="1905120"/>
          </a:xfrm>
          <a:custGeom>
            <a:avLst/>
            <a:gdLst/>
            <a:ahLst/>
            <a:rect l="l" t="t" r="r" b="b"/>
            <a:pathLst>
              <a:path w="1056" h="1200">
                <a:moveTo>
                  <a:pt x="384" y="0"/>
                </a:moveTo>
                <a:lnTo>
                  <a:pt x="1056" y="0"/>
                </a:lnTo>
                <a:lnTo>
                  <a:pt x="1056" y="1200"/>
                </a:lnTo>
                <a:lnTo>
                  <a:pt x="0" y="120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64920" y="5181480"/>
            <a:ext cx="3725640" cy="7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uperior returns: earning above-average return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533520" y="4433760"/>
            <a:ext cx="3801960" cy="593640"/>
            <a:chOff x="533520" y="4433760"/>
            <a:chExt cx="3801960" cy="593640"/>
          </a:xfrm>
        </p:grpSpPr>
        <p:sp>
          <p:nvSpPr>
            <p:cNvPr id="258" name=""/>
            <p:cNvSpPr/>
            <p:nvPr/>
          </p:nvSpPr>
          <p:spPr>
            <a:xfrm>
              <a:off x="533520" y="44337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12720" y="45050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uperior Retur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5473800" y="1876320"/>
            <a:ext cx="1466640" cy="179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75E12-66A2-41B0-8187-36CE6170B694}" type="slidenum">
              <a:t>24</a:t>
            </a:fld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2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ive Forces Model of Competi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ustry Profitabilit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industry’s rate of return on invested capital relative to its cost of capit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n industry’s profitability results from interaction among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tive rivalry among firms currently in the indus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substitu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tential entrants to the indus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0EDA5-CF49-4E00-B693-F1AEDE5CD77E}" type="slidenum">
              <a:t>25</a:t>
            </a:fld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ive Forces Model of Competition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47480" y="1142640"/>
            <a:ext cx="8086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irms earn above-average returns by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Cost leadership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ing standardized products or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Differentiation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cturing differentiated products for which customers are willing to pay a price prem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6483240" y="4267080"/>
            <a:ext cx="17449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04D26-65B0-414A-97BC-375CA0517D54}" type="slidenum">
              <a:t>26</a:t>
            </a:fld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 flipV="1">
            <a:off x="53352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Resource-Based Model of Above-Average Retur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4784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odel Assumption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ach organization is a collection of unique resources and capabilities that provides the basis for its strategy and that is the primary source of its retur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pabilities evolve and must be managed dynamicall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fferences in firms’ performances are due primarily to their unique resources and capabilities rather than structural characteristics of the industr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s acquire different resources and develop unique capabil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C0BFE-465B-4CC1-9E5F-8652EA82B045}" type="slidenum">
              <a:t>27</a:t>
            </a:fld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434880" y="457200"/>
            <a:ext cx="2156040" cy="182880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1905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6600"/>
                </a:solidFill>
                <a:latin typeface="Arial"/>
              </a:rPr>
              <a:t>1.3</a:t>
            </a:r>
            <a:r>
              <a:rPr b="1" i="1" lang="en-US" sz="1200" spc="-1" strike="noStrike">
                <a:solidFill>
                  <a:srgbClr val="cc6600"/>
                </a:solidFill>
                <a:latin typeface="Tahoma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Resource-Based Model of Above-Average Returns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1" name=""/>
          <p:cNvSpPr/>
          <p:nvPr/>
        </p:nvSpPr>
        <p:spPr>
          <a:xfrm>
            <a:off x="685800" y="684360"/>
            <a:ext cx="0" cy="47916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99072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2971800" y="380880"/>
            <a:ext cx="4954680" cy="6034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E3E92-8055-4EEF-A9F4-5E9AD3CF975A}" type="slidenum">
              <a:t>28</a:t>
            </a:fld>
          </a:p>
        </p:txBody>
      </p:sp>
    </p:spTree>
  </p:cSld>
  <p:transition>
    <p:random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609480" y="4724280"/>
            <a:ext cx="3505320" cy="1371600"/>
          </a:xfrm>
          <a:prstGeom prst="ellipse">
            <a:avLst/>
          </a:prstGeom>
          <a:gradFill rotWithShape="0">
            <a:gsLst>
              <a:gs pos="0">
                <a:srgbClr val="996600"/>
              </a:gs>
              <a:gs pos="100000">
                <a:srgbClr val="46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of Above-Average Return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367160" y="1523880"/>
            <a:ext cx="4232160" cy="29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1.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Strategy is dictated by the firm’s unique resources and capabilitie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Find an environment in which to exploit these assets (where are the best opportunities?)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837720" y="1981080"/>
            <a:ext cx="3048120" cy="3124440"/>
            <a:chOff x="837720" y="1981080"/>
            <a:chExt cx="3048120" cy="3124440"/>
          </a:xfrm>
        </p:grpSpPr>
        <p:sp>
          <p:nvSpPr>
            <p:cNvPr id="278" name=""/>
            <p:cNvSpPr/>
            <p:nvPr/>
          </p:nvSpPr>
          <p:spPr>
            <a:xfrm rot="5400000">
              <a:off x="799560" y="2018880"/>
              <a:ext cx="3124440" cy="3048120"/>
            </a:xfrm>
            <a:custGeom>
              <a:avLst/>
              <a:gdLst>
                <a:gd name="textAreaLeft" fmla="*/ 0 w 3124440"/>
                <a:gd name="textAreaRight" fmla="*/ 3124800 w 312444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trategy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Arial"/>
                </a:rPr>
                <a:t>Competitive Advant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19320" y="3938760"/>
              <a:ext cx="2286000" cy="3373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ore Competenc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62320" y="30132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362320" y="356544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219320" y="3394080"/>
              <a:ext cx="2286000" cy="33732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apabilit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219320" y="2819520"/>
              <a:ext cx="2286000" cy="3373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sourc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002FA-91FD-4562-9E62-23C95A7D2B04}" type="slidenum">
              <a:t>29</a:t>
            </a:fld>
          </a:p>
        </p:txBody>
      </p:sp>
    </p:spTree>
  </p:cSld>
  <p:transition>
    <p:random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500"/>
                            </p:stCondLst>
                            <p:childTnLst>
                              <p:par>
                                <p:cTn id="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182520"/>
            <a:ext cx="51814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724040"/>
            <a:ext cx="8229600" cy="43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vision and mission and discuss their value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akeholders and describe their ability to influence organization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work of strategic leaders.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strategic management proces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960" y="88596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F41C3-5DD7-41AE-ADA3-D5428184B946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s and Capabilit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47480" y="1142640"/>
            <a:ext cx="4036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Resourc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puts into a firm’s production process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pital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kills of individual employ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lented manag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40400" y="1142640"/>
            <a:ext cx="40370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apabiliti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pacity of a set of resources to perform in an integrative manne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apability should 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simple that it is highly imi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complex that it defies internal steering and contr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41FEF-5B59-455E-BD48-9EB0E10CED73}" type="slidenum">
              <a:t>30</a:t>
            </a:fld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602240" y="1142640"/>
            <a:ext cx="4075200" cy="24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Identify the firm’s resources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trengths and weaknesses compared with competitor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541440" y="1300320"/>
            <a:ext cx="3801960" cy="593640"/>
            <a:chOff x="541440" y="1300320"/>
            <a:chExt cx="3801960" cy="593640"/>
          </a:xfrm>
        </p:grpSpPr>
        <p:sp>
          <p:nvSpPr>
            <p:cNvPr id="290" name=""/>
            <p:cNvSpPr/>
            <p:nvPr/>
          </p:nvSpPr>
          <p:spPr>
            <a:xfrm>
              <a:off x="541440" y="13003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20640" y="13716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762120" y="2057400"/>
            <a:ext cx="357660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Resources: inputs into a firm’s produc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ED344-FCED-4D7D-B827-C9217809107A}" type="slidenum">
              <a:t>31</a:t>
            </a:fld>
          </a:p>
        </p:txBody>
      </p:sp>
    </p:spTree>
  </p:cSld>
  <p:transition>
    <p:random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500"/>
                            </p:stCondLst>
                            <p:childTnLst>
                              <p:par>
                                <p:cTn id="3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601880" y="1821960"/>
            <a:ext cx="393372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etermine the firm’s capabilities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what it can do better than its competitor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296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299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609480" y="2630520"/>
            <a:ext cx="3881520" cy="15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Capability: capacity of an integrated set of resources to integratively perform a task or acti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5533D-807A-4E4F-B42E-8D5FE23A9939}" type="slidenum">
              <a:t>32</a:t>
            </a:fld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602240" y="2416320"/>
            <a:ext cx="354168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etermine the potential of the firm’s resources and capabilities in terms of a competitive advantage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305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308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541440" y="2519280"/>
            <a:ext cx="3801960" cy="593640"/>
            <a:chOff x="541440" y="2519280"/>
            <a:chExt cx="3801960" cy="593640"/>
          </a:xfrm>
        </p:grpSpPr>
        <p:sp>
          <p:nvSpPr>
            <p:cNvPr id="311" name=""/>
            <p:cNvSpPr/>
            <p:nvPr/>
          </p:nvSpPr>
          <p:spPr>
            <a:xfrm>
              <a:off x="54144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2064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685800" y="3200400"/>
            <a:ext cx="342900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Competitive advantage: </a:t>
            </a:r>
            <a:br>
              <a:rPr sz="2000"/>
            </a:b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bility of a firm to outperform its riv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4C5AF-9987-4E50-A1BF-B5D620A5FCE1}" type="slidenum">
              <a:t>33</a:t>
            </a:fld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2640" y="3154320"/>
            <a:ext cx="4114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Locate an attractive industry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317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320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541440" y="2519280"/>
            <a:ext cx="3801960" cy="593640"/>
            <a:chOff x="541440" y="2519280"/>
            <a:chExt cx="3801960" cy="593640"/>
          </a:xfrm>
        </p:grpSpPr>
        <p:sp>
          <p:nvSpPr>
            <p:cNvPr id="323" name=""/>
            <p:cNvSpPr/>
            <p:nvPr/>
          </p:nvSpPr>
          <p:spPr>
            <a:xfrm>
              <a:off x="54144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2064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541440" y="3132000"/>
            <a:ext cx="3801960" cy="593640"/>
            <a:chOff x="541440" y="3132000"/>
            <a:chExt cx="3801960" cy="593640"/>
          </a:xfrm>
        </p:grpSpPr>
        <p:sp>
          <p:nvSpPr>
            <p:cNvPr id="326" name=""/>
            <p:cNvSpPr/>
            <p:nvPr/>
          </p:nvSpPr>
          <p:spPr>
            <a:xfrm>
              <a:off x="541440" y="3132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20640" y="3203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533520" y="3809880"/>
            <a:ext cx="388116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ttractive industry: an industry with opportunities that can be exploited by the firm’s resources and capabil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A6E3D-9E8A-4ADD-B7A4-78F70A411200}" type="slidenum">
              <a:t>34</a:t>
            </a:fld>
          </a:p>
        </p:txBody>
      </p:sp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679640" y="3862440"/>
            <a:ext cx="3776760" cy="22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elect a strategy that best allows the firm to utilize its resources and capabilities relative to opportunities in the external environment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332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335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541440" y="2519280"/>
            <a:ext cx="3801960" cy="593640"/>
            <a:chOff x="541440" y="2519280"/>
            <a:chExt cx="3801960" cy="593640"/>
          </a:xfrm>
        </p:grpSpPr>
        <p:sp>
          <p:nvSpPr>
            <p:cNvPr id="338" name=""/>
            <p:cNvSpPr/>
            <p:nvPr/>
          </p:nvSpPr>
          <p:spPr>
            <a:xfrm>
              <a:off x="54144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064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541440" y="3132000"/>
            <a:ext cx="3801960" cy="593640"/>
            <a:chOff x="541440" y="3132000"/>
            <a:chExt cx="3801960" cy="593640"/>
          </a:xfrm>
        </p:grpSpPr>
        <p:sp>
          <p:nvSpPr>
            <p:cNvPr id="341" name=""/>
            <p:cNvSpPr/>
            <p:nvPr/>
          </p:nvSpPr>
          <p:spPr>
            <a:xfrm>
              <a:off x="541440" y="3132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20640" y="3203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541440" y="3745080"/>
            <a:ext cx="3801960" cy="1131480"/>
            <a:chOff x="541440" y="3745080"/>
            <a:chExt cx="3801960" cy="1131480"/>
          </a:xfrm>
        </p:grpSpPr>
        <p:sp>
          <p:nvSpPr>
            <p:cNvPr id="344" name=""/>
            <p:cNvSpPr/>
            <p:nvPr/>
          </p:nvSpPr>
          <p:spPr>
            <a:xfrm>
              <a:off x="541440" y="3745080"/>
              <a:ext cx="3801960" cy="11314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20640" y="3880800"/>
              <a:ext cx="3642840" cy="8560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trategy Formulation </a:t>
              </a:r>
              <a:br>
                <a:rPr sz="2000"/>
              </a:b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nd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838080" y="4890960"/>
            <a:ext cx="311940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trategy formulation and implementation: strategic actions taken to earn above average retur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69AD0-520F-4197-B6B2-477EFFBDEE84}" type="slidenum">
              <a:t>35</a:t>
            </a:fld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533520" y="1295280"/>
            <a:ext cx="3801960" cy="593640"/>
            <a:chOff x="533520" y="1295280"/>
            <a:chExt cx="3801960" cy="593640"/>
          </a:xfrm>
        </p:grpSpPr>
        <p:sp>
          <p:nvSpPr>
            <p:cNvPr id="349" name=""/>
            <p:cNvSpPr/>
            <p:nvPr/>
          </p:nvSpPr>
          <p:spPr>
            <a:xfrm>
              <a:off x="53352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1272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533520" y="1906560"/>
            <a:ext cx="3801960" cy="593640"/>
            <a:chOff x="533520" y="1906560"/>
            <a:chExt cx="3801960" cy="593640"/>
          </a:xfrm>
        </p:grpSpPr>
        <p:sp>
          <p:nvSpPr>
            <p:cNvPr id="352" name=""/>
            <p:cNvSpPr/>
            <p:nvPr/>
          </p:nvSpPr>
          <p:spPr>
            <a:xfrm>
              <a:off x="53352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272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533520" y="2519280"/>
            <a:ext cx="3801960" cy="593640"/>
            <a:chOff x="533520" y="2519280"/>
            <a:chExt cx="3801960" cy="593640"/>
          </a:xfrm>
        </p:grpSpPr>
        <p:sp>
          <p:nvSpPr>
            <p:cNvPr id="355" name=""/>
            <p:cNvSpPr/>
            <p:nvPr/>
          </p:nvSpPr>
          <p:spPr>
            <a:xfrm>
              <a:off x="53352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1272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533520" y="3132000"/>
            <a:ext cx="3801960" cy="593640"/>
            <a:chOff x="533520" y="3132000"/>
            <a:chExt cx="3801960" cy="593640"/>
          </a:xfrm>
        </p:grpSpPr>
        <p:sp>
          <p:nvSpPr>
            <p:cNvPr id="358" name=""/>
            <p:cNvSpPr/>
            <p:nvPr/>
          </p:nvSpPr>
          <p:spPr>
            <a:xfrm>
              <a:off x="533520" y="3132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12720" y="3203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533520" y="3745080"/>
            <a:ext cx="3801960" cy="1053720"/>
            <a:chOff x="533520" y="3745080"/>
            <a:chExt cx="3801960" cy="1053720"/>
          </a:xfrm>
        </p:grpSpPr>
        <p:sp>
          <p:nvSpPr>
            <p:cNvPr id="361" name=""/>
            <p:cNvSpPr/>
            <p:nvPr/>
          </p:nvSpPr>
          <p:spPr>
            <a:xfrm>
              <a:off x="533520" y="3745080"/>
              <a:ext cx="3801960" cy="10537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12720" y="3871440"/>
              <a:ext cx="3642840" cy="79740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nd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533520" y="4813200"/>
            <a:ext cx="3801960" cy="593640"/>
            <a:chOff x="533520" y="4813200"/>
            <a:chExt cx="3801960" cy="593640"/>
          </a:xfrm>
        </p:grpSpPr>
        <p:sp>
          <p:nvSpPr>
            <p:cNvPr id="364" name=""/>
            <p:cNvSpPr/>
            <p:nvPr/>
          </p:nvSpPr>
          <p:spPr>
            <a:xfrm>
              <a:off x="533520" y="48132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12720" y="48844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uperior Retur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5891040" y="3305160"/>
            <a:ext cx="177840" cy="747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883120" y="3246480"/>
            <a:ext cx="177840" cy="747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321080" y="1554120"/>
            <a:ext cx="843120" cy="2473200"/>
          </a:xfrm>
          <a:custGeom>
            <a:avLst/>
            <a:gdLst>
              <a:gd name="textAreaLeft" fmla="*/ 0 w 843120"/>
              <a:gd name="textAreaRight" fmla="*/ 304560 w 843120"/>
              <a:gd name="textAreaTop" fmla="*/ 64440 h 2473200"/>
              <a:gd name="textAreaBottom" fmla="*/ 2408760 h 247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357800" y="2789280"/>
            <a:ext cx="1861920" cy="2314440"/>
          </a:xfrm>
          <a:custGeom>
            <a:avLst/>
            <a:gdLst/>
            <a:ahLst/>
            <a:rect l="l" t="t" r="r" b="b"/>
            <a:pathLst>
              <a:path w="1056" h="1200">
                <a:moveTo>
                  <a:pt x="384" y="0"/>
                </a:moveTo>
                <a:lnTo>
                  <a:pt x="1056" y="0"/>
                </a:lnTo>
                <a:lnTo>
                  <a:pt x="1056" y="1200"/>
                </a:lnTo>
                <a:lnTo>
                  <a:pt x="0" y="120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38080" y="5484960"/>
            <a:ext cx="334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uperior returns: earning above-average retu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5473800" y="1876320"/>
            <a:ext cx="1466640" cy="179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3900B-C333-42D3-AE77-B97A8DA4C087}" type="slidenum">
              <a:t>36</a:t>
            </a:fld>
          </a:p>
        </p:txBody>
      </p: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1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 flipV="1">
            <a:off x="53352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Tahoma"/>
              </a:rPr>
              <a:t>Criteria for Resources and Capabilities That Become Core Competencies</a:t>
            </a:r>
            <a:endParaRPr b="0" lang="en-US" sz="2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74" name=""/>
          <p:cNvSpPr/>
          <p:nvPr/>
        </p:nvSpPr>
        <p:spPr>
          <a:xfrm>
            <a:off x="3276720" y="3022560"/>
            <a:ext cx="2590560" cy="16257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re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et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685800" y="1905120"/>
            <a:ext cx="7772400" cy="3886200"/>
            <a:chOff x="685800" y="1905120"/>
            <a:chExt cx="7772400" cy="3886200"/>
          </a:xfrm>
        </p:grpSpPr>
        <p:sp>
          <p:nvSpPr>
            <p:cNvPr id="376" name=""/>
            <p:cNvSpPr/>
            <p:nvPr/>
          </p:nvSpPr>
          <p:spPr>
            <a:xfrm>
              <a:off x="2590920" y="2654640"/>
              <a:ext cx="685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5866920" y="2654640"/>
              <a:ext cx="685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2590920" y="4647960"/>
              <a:ext cx="6858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 flipV="1">
              <a:off x="5866920" y="4647960"/>
              <a:ext cx="6858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85800" y="1905120"/>
              <a:ext cx="2819520" cy="990720"/>
            </a:xfrm>
            <a:prstGeom prst="ellipse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alua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638680" y="1905120"/>
              <a:ext cx="2819520" cy="990720"/>
            </a:xfrm>
            <a:prstGeom prst="ellipse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a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638680" y="4800960"/>
              <a:ext cx="2819520" cy="99036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stly to Imita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85800" y="4800960"/>
              <a:ext cx="2819520" cy="99036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onsubstituta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26030-03AD-4866-ABA8-1209C9E64720}" type="slidenum">
              <a:t>37</a:t>
            </a:fld>
          </a:p>
        </p:txBody>
      </p:sp>
    </p:spTree>
  </p:cSld>
  <p:transition>
    <p:random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 flipV="1">
            <a:off x="53352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How Resources and Capabilities Provide Competitive Advantag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3417840" y="5102280"/>
            <a:ext cx="526752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firm is organized appropriately to obtain the full benefits of the resources in order to realize a competitive advantage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555920" y="2027160"/>
            <a:ext cx="1752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lu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421080" y="2065320"/>
            <a:ext cx="533088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the firm to exploit opportunities or neutralize threats in its external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771560" y="3063960"/>
            <a:ext cx="1536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417840" y="3111480"/>
            <a:ext cx="51166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essed by few, if any, current and potential compet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38280" y="4078440"/>
            <a:ext cx="2670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stly to imi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417840" y="4102200"/>
            <a:ext cx="52419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other firms cannot obtain them or must obtain them at a much higher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71680" y="5059440"/>
            <a:ext cx="27367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nsubstitu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CD25E-F4B2-401E-A950-D773C872708F}" type="slidenum">
              <a:t>38</a:t>
            </a:fld>
          </a:p>
        </p:txBody>
      </p:sp>
    </p:spTree>
  </p:cSld>
  <p:transition>
    <p:random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e Competenc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When the four key criteria of resources and capabilities are met, they become core competencies.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anagerial competencies are especially important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ore competencies serve as a source of competitive advantage, create value, and provide the opportunity for above-average return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EB4A2-FDE2-4F55-83CF-E42605285D4C}" type="slidenum">
              <a:t>39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ortant Definitio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ic Competitivenes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hen a firm successfully formulates and implements a value-creating strateg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 integrated and coordinated set of commitments and actions designed to exploit core competencies and gain a competitive advanta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ompetitive Advantag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hen a firm implements a strategy that its competitors are unable to duplicate or find too costly to try to imitat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A3CC3-810B-4440-8E0D-B051A4215521}" type="slidenum">
              <a:t>4</a:t>
            </a:fld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Why Two Models?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1241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70000" indent="-2700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ustrial Organization (I/O) Mod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s on the environment outside the fir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38240" y="1142640"/>
            <a:ext cx="403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Resource-Based Mod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s on the inside of the firm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37339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99"/>
                </a:solidFill>
                <a:latin typeface="Arial"/>
              </a:rPr>
              <a:t>Successful strategy formulation and implementation actions result only when the firm properly uses both mod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38258-9967-4D57-A199-714274D828C3}" type="slidenum">
              <a:t>40</a:t>
            </a:fld>
          </a:p>
        </p:txBody>
      </p:sp>
    </p:spTree>
  </p:cSld>
  <p:transition>
    <p:random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Vision and Miss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Vis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enduring picture of what the firm wants to be and, in broad terms, what it wants to ultimately achiev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tches and challenges people and evokes emotions and drea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Effective vision statements are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veloped by a host of people from across the organiz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learly tied to external and internal environmental condi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sistent with strategic leaders’ decisions and ac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DE300-F591-4C50-AFE4-29580FA0C884}" type="slidenum">
              <a:t>41</a:t>
            </a:fld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Vision and Mission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iss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pecifies the business or businesses in which the firm intends to compete and the customers it intends to serv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s more concrete than the firm’s vis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s more effective when it fosters strong ethical standard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bove-average returns are the fruits of the firm’s efforts to achieve its vision and mission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02F3E-D13C-4283-B930-B5A449490347}" type="slidenum">
              <a:t>42</a:t>
            </a:fld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876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ividuals and groups who can affect, and are affected by, the strategic outcomes achieved and who have enforceable claims on a firm’s performance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laims on the firm’s performance are enforced by the stakeholder’s ability to withhold participation essential to the firm’s surviva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more critical and valued a stakeholder’s participation, the greater a firm’s dependency on i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rs must find ways to either accommodate or insulate the organization from the demands of stakeholders controlling critical resourc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4C664-6A3B-4714-9D8A-3FDE495C77A1}" type="slidenum">
              <a:t>43</a:t>
            </a:fld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 Involvemen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wo issues affect the extent of stakeholder involvement in the firm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divide return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keep stakeholder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d?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increas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s so everyon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more to share?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4889520" y="2590920"/>
            <a:ext cx="3568680" cy="266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0291A-0E4B-4FAA-BC67-C48B3D487E6E}" type="slidenum">
              <a:t>44</a:t>
            </a:fld>
          </a:p>
        </p:txBody>
      </p:sp>
    </p:spTree>
  </p:cSld>
  <p:transition>
    <p:random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417600"/>
            <a:ext cx="8001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8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6600"/>
                </a:solidFill>
                <a:latin typeface="Arial"/>
              </a:rPr>
              <a:t>1.4</a:t>
            </a:r>
            <a:r>
              <a:rPr b="1" i="1" lang="en-US" sz="18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Three Stakeholder Groups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10" name=""/>
          <p:cNvSpPr/>
          <p:nvPr/>
        </p:nvSpPr>
        <p:spPr>
          <a:xfrm>
            <a:off x="457200" y="380880"/>
            <a:ext cx="8229600" cy="4669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457200" y="485640"/>
            <a:ext cx="1828800" cy="479520"/>
            <a:chOff x="457200" y="485640"/>
            <a:chExt cx="1828800" cy="479520"/>
          </a:xfrm>
        </p:grpSpPr>
        <p:sp>
          <p:nvSpPr>
            <p:cNvPr id="412" name=""/>
            <p:cNvSpPr/>
            <p:nvPr/>
          </p:nvSpPr>
          <p:spPr>
            <a:xfrm>
              <a:off x="990720" y="485640"/>
              <a:ext cx="0" cy="47952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57200" y="79200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776240" y="1228680"/>
            <a:ext cx="5691240" cy="511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02D18-AD8C-4A5B-A583-DBE5DF4F8D67}" type="slidenum">
              <a:t>45</a:t>
            </a:fld>
          </a:p>
        </p:txBody>
      </p:sp>
    </p:spTree>
  </p:cSld>
  <p:transition>
    <p:random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500"/>
                            </p:stCondLst>
                            <p:childTnLst>
                              <p:par>
                                <p:cTn id="5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4589640" y="1371600"/>
            <a:ext cx="3944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ital Market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  <a:ea typeface="Times New Roman"/>
              </a:rPr>
              <a:t>Shareholders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Tahoma"/>
                <a:ea typeface="Times New Roman"/>
              </a:rPr>
              <a:t>Major suppliers of 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23184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B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23184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Private len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23184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Venture capit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533520" y="1371600"/>
            <a:ext cx="3639960" cy="1098360"/>
            <a:chOff x="533520" y="1371600"/>
            <a:chExt cx="3639960" cy="1098360"/>
          </a:xfrm>
        </p:grpSpPr>
        <p:sp>
          <p:nvSpPr>
            <p:cNvPr id="418" name=""/>
            <p:cNvSpPr/>
            <p:nvPr/>
          </p:nvSpPr>
          <p:spPr>
            <a:xfrm>
              <a:off x="533520" y="137160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20640" y="145260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ahoma"/>
                </a:rPr>
                <a:t>Capital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924B0-C675-4ED7-87CB-9C00F742ED8D}" type="slidenum">
              <a:t>46</a:t>
            </a:fld>
          </a:p>
        </p:txBody>
      </p:sp>
    </p:spTree>
  </p:cSld>
  <p:transition>
    <p:random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500"/>
                            </p:stCondLst>
                            <p:childTnLst>
                              <p:par>
                                <p:cTn id="5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2000"/>
                            </p:stCondLst>
                            <p:childTnLst>
                              <p:par>
                                <p:cTn id="5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2500"/>
                            </p:stCondLst>
                            <p:childTnLst>
                              <p:par>
                                <p:cTn id="5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3000"/>
                            </p:stCondLst>
                            <p:childTnLst>
                              <p:par>
                                <p:cTn id="5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apital Market 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hareholders and lenders expect the firm to preserve and enhance the wealth they have entrusted to it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ant the return on their investment (and, hence, their wealth) to be maximiz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ect returns to be commensurate with the degree of risk to the sharehold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anagement must balance the interests of shareholders and lenders with its concerns for the firm’s future competitive ability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BBBB0-B2E5-420D-81F8-4E88CC77F183}" type="slidenum">
              <a:t>47</a:t>
            </a:fld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533520" y="1295280"/>
            <a:ext cx="3639960" cy="1098360"/>
            <a:chOff x="533520" y="1295280"/>
            <a:chExt cx="3639960" cy="1098360"/>
          </a:xfrm>
        </p:grpSpPr>
        <p:sp>
          <p:nvSpPr>
            <p:cNvPr id="424" name=""/>
            <p:cNvSpPr/>
            <p:nvPr/>
          </p:nvSpPr>
          <p:spPr>
            <a:xfrm>
              <a:off x="533520" y="129528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20640" y="137628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Capital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557280" y="2454120"/>
            <a:ext cx="3639960" cy="1098360"/>
            <a:chOff x="557280" y="2454120"/>
            <a:chExt cx="3639960" cy="1098360"/>
          </a:xfrm>
        </p:grpSpPr>
        <p:sp>
          <p:nvSpPr>
            <p:cNvPr id="427" name=""/>
            <p:cNvSpPr/>
            <p:nvPr/>
          </p:nvSpPr>
          <p:spPr>
            <a:xfrm>
              <a:off x="557280" y="245412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44400" y="253512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ahoma"/>
                </a:rPr>
                <a:t>Product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4589640" y="2441520"/>
            <a:ext cx="40971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t Market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Custo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Supp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Host comm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Un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71FC8-E4F2-4E2F-8D35-FF9EE00A8FA5}" type="slidenum">
              <a:t>48</a:t>
            </a:fld>
          </a:p>
        </p:txBody>
      </p:sp>
    </p:spTree>
  </p:cSld>
  <p:transition>
    <p:random/>
  </p:transition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0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500"/>
                            </p:stCondLst>
                            <p:childTnLst>
                              <p:par>
                                <p:cTn id="58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000"/>
                            </p:stCondLst>
                            <p:childTnLst>
                              <p:par>
                                <p:cTn id="5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1500"/>
                            </p:stCondLst>
                            <p:childTnLst>
                              <p:par>
                                <p:cTn id="5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2500"/>
                            </p:stCondLst>
                            <p:childTnLst>
                              <p:par>
                                <p:cTn id="6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3000"/>
                            </p:stCondLst>
                            <p:childTnLst>
                              <p:par>
                                <p:cTn id="6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3500"/>
                            </p:stCondLst>
                            <p:childTnLst>
                              <p:par>
                                <p:cTn id="6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Product Market 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ustomer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mand reliable products at low pri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upplier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ek loyal customers willing to pay highest sustainable prices for goods and servi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Host communiti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ant companies willing to be long-term employers and providers of tax revenues while minimizing demands on public support servi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Union official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ant secure jobs and desirable working condi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F27EA-A5C6-4CB0-8DF2-FF0A4CA4DBDC}" type="slidenum">
              <a:t>49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ortant Definition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23440" y="1142640"/>
            <a:ext cx="80010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Risk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 investor’s uncertainty about the economic gains or losses that will result from a particular invest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verage Return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turns equal to those an investor expects to earn from other investments with a similar amount of risk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bove-average Return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turns in excess of what an investor expects to earn from other investments with a similar amount of risk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62DFC-99E8-4230-A6D7-3D50C43BF077}" type="slidenum">
              <a:t>5</a:t>
            </a:fld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547560" y="1306440"/>
            <a:ext cx="3639960" cy="1098360"/>
            <a:chOff x="547560" y="1306440"/>
            <a:chExt cx="3639960" cy="1098360"/>
          </a:xfrm>
        </p:grpSpPr>
        <p:sp>
          <p:nvSpPr>
            <p:cNvPr id="434" name=""/>
            <p:cNvSpPr/>
            <p:nvPr/>
          </p:nvSpPr>
          <p:spPr>
            <a:xfrm>
              <a:off x="547560" y="130644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34680" y="138744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Capital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557280" y="2465280"/>
            <a:ext cx="3639960" cy="1098360"/>
            <a:chOff x="557280" y="2465280"/>
            <a:chExt cx="3639960" cy="1098360"/>
          </a:xfrm>
        </p:grpSpPr>
        <p:sp>
          <p:nvSpPr>
            <p:cNvPr id="437" name=""/>
            <p:cNvSpPr/>
            <p:nvPr/>
          </p:nvSpPr>
          <p:spPr>
            <a:xfrm>
              <a:off x="557280" y="246528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44400" y="254628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Product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541440" y="3625920"/>
            <a:ext cx="3639960" cy="1098360"/>
            <a:chOff x="541440" y="3625920"/>
            <a:chExt cx="3639960" cy="1098360"/>
          </a:xfrm>
        </p:grpSpPr>
        <p:sp>
          <p:nvSpPr>
            <p:cNvPr id="440" name=""/>
            <p:cNvSpPr/>
            <p:nvPr/>
          </p:nvSpPr>
          <p:spPr>
            <a:xfrm>
              <a:off x="541440" y="362592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28560" y="370692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ahoma"/>
                </a:rPr>
                <a:t>Organizational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4589640" y="3797280"/>
            <a:ext cx="350496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ganizational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2271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2271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Man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2271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Nonman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56863-5177-4912-B89B-C19272AFFDD2}" type="slidenum">
              <a:t>50</a:t>
            </a:fld>
          </a:p>
        </p:txBody>
      </p:sp>
    </p:spTree>
  </p:cSld>
  <p:transition>
    <p:random/>
  </p:transition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0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1500"/>
                            </p:stCondLst>
                            <p:childTnLst>
                              <p:par>
                                <p:cTn id="6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2000"/>
                            </p:stCondLst>
                            <p:childTnLst>
                              <p:par>
                                <p:cTn id="6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500"/>
                            </p:stCondLst>
                            <p:childTnLst>
                              <p:par>
                                <p:cTn id="6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6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3000"/>
                            </p:stCondLst>
                            <p:childTnLst>
                              <p:par>
                                <p:cTn id="6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0" dur="500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3500"/>
                            </p:stCondLst>
                            <p:childTnLst>
                              <p:par>
                                <p:cTn id="6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4000"/>
                            </p:stCondLst>
                            <p:childTnLst>
                              <p:par>
                                <p:cTn id="6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8" dur="500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47840" y="11430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Employees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ect a dynamic, stimulating and rewarding work environ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satisfied by a company that is growing and actively developing their skill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2708280" y="3646440"/>
            <a:ext cx="4073400" cy="256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A27B5-FC21-4904-8E5E-69C2B590EB32}" type="slidenum">
              <a:t>51</a:t>
            </a:fld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Lea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ic Leader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eople located in different parts of the firm who are using the strategic management process to help the firm reach its vision and miss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Prerequisites for Effective Strategic Leadership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rd work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orough analys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ones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sire for accomplishment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mon sens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5791320" y="3733920"/>
            <a:ext cx="2023920" cy="243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038DC-5CB1-4722-ADF1-9D61BE91E31F}" type="slidenum">
              <a:t>52</a:t>
            </a:fld>
          </a:p>
        </p:txBody>
      </p: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Leader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Organizational Cultur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complex set of ideologies, symbols, and core values that are shared throughout the firm and that influence how the firm conducts busi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Value of a Functional Organizational Cultur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orts effective delegation of strategic responsibil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vides support for strategic lead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ncourages social ener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sters of respect for oth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37F4E-6673-4086-98B0-D5C23053C991}" type="slidenum">
              <a:t>53</a:t>
            </a:fld>
          </a:p>
        </p:txBody>
      </p:sp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Predicting Outcomes of Strategic Decisions: Profit Po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4784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576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Profit Poo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total profits earned in an industry at all points along the value chai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576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dentifying the components of a profit pool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fine the pool’s boundar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stimate the pool’s overall siz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stimate size of each value-chain activity in the poo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concile the calculations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Arial"/>
              </a:rPr>
              <a:t>—which activity provides the most profit potential?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02BB2-82EA-4B1B-9E7D-669DFCF3DF9A}" type="slidenum">
              <a:t>54</a:t>
            </a:fld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Management Proces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udy the external and internal environment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dentify marketplace opportunities and threat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etermine how to use core competenci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Use strategic intent to leverage resources, capabilities and core competencies and win competitive battl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tegrate formulation and implementation of strategi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ek feedback to improve strategi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6A7FC-2641-44AF-913C-F9ED9D9467D3}" type="slidenum">
              <a:t>55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ortant Definition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ic Management Proces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ull set of commitments, decisions, and actions required for a firm to achieve strategic competitiveness and earn above-average retur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886200" y="3402000"/>
            <a:ext cx="4338720" cy="273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68ABF-4C13-4F34-AD8B-49234EA3AA29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066680" y="603360"/>
            <a:ext cx="6248520" cy="5786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462720" y="488880"/>
            <a:ext cx="1919160" cy="14162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781320" y="655560"/>
            <a:ext cx="175284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6600"/>
                </a:solidFill>
                <a:latin typeface="Arial"/>
              </a:rPr>
              <a:t>1.1</a:t>
            </a:r>
            <a:r>
              <a:rPr b="1" i="1" lang="en-US" sz="1200" spc="-1" strike="noStrike">
                <a:solidFill>
                  <a:srgbClr val="cc66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e Strategic Management Process</a:t>
            </a:r>
            <a:endParaRPr b="0" lang="en-US" sz="14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6781680" y="684360"/>
            <a:ext cx="0" cy="47916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3080" y="99072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5267C-6EC4-42FD-85F2-318618F344E8}" type="slidenum">
              <a:t>7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21st-Century Competitive Landscap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47840" y="12193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 Perilous Business World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apid changes in industry boundaries and marke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ventional sources of competitive advantage losing effectivenes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normous investments required to compete globall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vere consequences for fail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99"/>
                </a:solidFill>
                <a:uFillTx/>
                <a:latin typeface="Arial"/>
              </a:rPr>
              <a:t>Developing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and I</a:t>
            </a:r>
            <a:r>
              <a:rPr b="0" lang="en-US" sz="2800" spc="-1" strike="noStrike" u="sng">
                <a:solidFill>
                  <a:srgbClr val="336699"/>
                </a:solidFill>
                <a:uFillTx/>
                <a:latin typeface="Arial"/>
              </a:rPr>
              <a:t>mplementing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Strateg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llows for planned actions rather than reac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elps coordinate business unit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C3E87-C042-4751-BFCA-864989B76C6F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 flipV="1">
            <a:off x="457200" y="3048120"/>
            <a:ext cx="4038480" cy="3047760"/>
          </a:xfrm>
          <a:custGeom>
            <a:avLst/>
            <a:gdLst>
              <a:gd name="textAreaLeft" fmla="*/ 969840 w 4038480"/>
              <a:gd name="textAreaRight" fmla="*/ 3068640 w 4038480"/>
              <a:gd name="textAreaTop" fmla="*/ 731880 h 3047760"/>
              <a:gd name="textAreaBottom" fmla="*/ 2315880 h 304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411" y="21600"/>
                </a:lnTo>
                <a:lnTo>
                  <a:pt x="6189" y="21600"/>
                </a:ln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100000">
                <a:srgbClr val="003b3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</a:rPr>
              <a:t>Dynamic</a:t>
            </a:r>
            <a:br>
              <a:rPr sz="2400"/>
            </a:b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</a:rPr>
              <a:t>Global Economy</a:t>
            </a:r>
            <a:br>
              <a:rPr sz="24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pid technological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g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ategic maneuvering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mong global and innovativ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ba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Competitive Landscap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4191120" y="1219320"/>
            <a:ext cx="449568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Hypercompetition</a:t>
            </a:r>
            <a:br>
              <a:rPr sz="2800"/>
            </a:b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A condition of rapidly escalating competition based 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24280" y="2514600"/>
            <a:ext cx="3810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225360" indent="-225360">
              <a:spcBef>
                <a:spcPts val="10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ice-quality posi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10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tion to create new know-how and establish first-mover advan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10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tion to protect or invade established product or geographic mar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212840" y="1219320"/>
            <a:ext cx="2444760" cy="244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788A3-1C5E-4256-AD5D-0D276297F68C}" type="slidenum">
              <a:t>9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University of West Alabama</dc:creator>
  <dc:description/>
  <dc:language>en-US</dc:language>
  <cp:lastModifiedBy>Teodoro Wigodski</cp:lastModifiedBy>
  <dcterms:modified xsi:type="dcterms:W3CDTF">2006-07-14T03:20:02Z</dcterms:modified>
  <cp:revision>53</cp:revision>
  <dc:subject>Chapter 1</dc:subject>
  <dc:title>Strategic Management 7e.</dc:title>
</cp:coreProperties>
</file>