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BEA3-AC14-435E-90A7-4744B0911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BE6E-6B88-46DB-9F20-FFAC50CD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1CAD-80E2-4FC8-B6A3-D78D10F8D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C6A6-FE0B-4CAE-9FC3-318CDA605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866D-6A00-4B56-8AA8-F8F95452E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4EDD-4B39-4414-92FC-115DB808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15E0-9C6F-469F-8537-B08C4582F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B928-3B3A-4C90-A083-96998A378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762C-CF60-483D-A22D-A9A856086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CAB5-5639-4068-96AE-7BF40EFD8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D820-4A7C-4225-B7AB-0AB40DC8F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B77B-40C7-4844-93C7-9F290B4AF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9CF5-5612-4AE9-87F3-0D3F63857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5EF1-25AB-412F-B6AA-6D8242E63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4615-B4CF-472E-9675-6B3267B66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FD4-67A0-44A8-B993-30776DD4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F22D-2E76-453B-9416-507718E97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9CF1-871A-4EC8-A20D-A7B8CEA57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833C-B190-45AB-A722-BEB6EF4CF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46B-0576-4EEC-869D-2457AD45D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904-2A79-41A8-BF62-9F8FB9FDD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4755-EAC0-443A-AB39-D5633911E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E1E0-0B9B-42E3-AC65-332D45FF9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87B9-B9B4-4895-8B22-AFA7B666D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852F-6CB1-4376-BE5C-DFF6E4624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E670-629A-4011-9BE7-36804371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2D4C-2284-4090-8546-06E7E4B5D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14A2-7FB7-40A5-AA38-A2104B565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5A74-8730-49B3-8631-85FA52A33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BCC5-53A1-4680-850A-7D79C7A4F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BA84-7A61-4CB6-BA15-C005A319E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2F85-A305-468B-9E32-F1A24B211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6D9D-B5A4-4058-B236-71D3F0329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CDEF-0235-457B-8703-5912F1079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8ED2-648B-4949-A37A-1DED7E63B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7F70-C894-4099-8A66-508E4C8CC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53BA-9B4E-44D2-B2A0-0BA9F29F6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789D-7FA8-488B-9277-679573A21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FEBF-2865-40B1-B5C2-D9A20F4F9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ED26-C586-4361-A74B-FEC08C077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F92B-67B8-4817-8B9A-C519C95D1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4CB8-1CF4-4B76-B8E4-102AE42C6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8E3D-84AC-48A9-A587-F26C5496C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287197D7-5A57-4573-933B-0DC56D28046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BC70-4A7A-4985-BC29-FAABB81929C5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4F86-2007-432F-8A92-EA8B4312BE54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94C6-8259-43FA-B5C5-4A0443B692ED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37A3-C792-4BAC-BAFA-21526075CEA5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25FF-70A7-43FE-A62D-092D16E6406E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85F6-F3F3-4B96-BA4E-5A6ED79F901F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92B2-DF4B-41EE-9194-02866866B543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1C55-7C65-466B-A90F-565F5FDD9940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089A-25EA-471C-8C33-FEE60DF75884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936B-FDE2-4AD9-AB42-B118C6E2DA81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C594-68F5-4D04-8B82-043FE3D6D5A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40D3-6DF6-4114-9F83-26AE8816CCB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4C1C-3500-4BFB-B36C-7EE0020664C1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CCB1-3D2C-4596-9E98-425B2D11DED5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12AB-CD6C-4914-92E0-29DDBE3D6027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E23B-CED0-4B59-AEC7-C2DCCAD31C91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2B82-6285-4B88-8A22-71022F4FEF13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1389-6759-43CB-A93D-C9F3D6A69467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A4EC-C2F7-48BC-BB1D-4663D20E4AFA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ED1F-7036-4F06-A728-5AED15B2C375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0279-8C17-4EAF-9BF9-B4734A31F96F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2311-F665-42A5-9D2A-99D64443C29C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3B8A-355B-4B5B-BF64-7AF1F4F020C1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A628-1D3F-4C32-9603-2DCC995A33DF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1E46-67AD-4B32-8784-B5EF613326B9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4ACF-2096-4B9F-9670-422C923A741B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E0E0-D666-49BC-A262-3712A44A5BBE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F6B9-CE7A-4A21-BC85-AB66ED11A58C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EAFC-906F-4279-8AAE-16C8479D2555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DF96-A6EC-4608-8632-B46786DFF634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7B33-1FCB-40A1-8D8E-CA996FB40CA9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B440-3044-47A6-A7AB-6A9E1783EE6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BCB9-F94F-4E3A-8101-2DA166487DAD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9442-CC49-4DEB-B6B7-D6D4F211382A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DC5B-FC2E-468A-ABE5-A20B453FAD9F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5741-BCF4-4F30-9718-D154D1AF4B1E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19B9-9E7F-47E8-8491-F0DCEE740E95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D2BC-12E4-4453-BEA8-9FA147F8DFF7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FA77-18FC-43E2-BB3A-66B011B5A819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29T17:32:23Z</dcterms:modified>
  <cp:revision>44</cp:revision>
  <dc:subject>Chapter 2</dc:subject>
  <dc:title>Strategic Management 7e.</dc:title>
</cp:coreProperties>
</file>