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FCA7-E2A1-439C-96D5-C3A615F95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B173-57CD-47B3-9429-345EF05A1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46FC-B251-4953-84D8-C7FCD3EC5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D1B1-21CE-433E-8858-A1E1C4B21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620E-3312-488C-96BD-F40CE9D70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A149-470C-4707-B337-8C5922768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A32D-D36B-400C-8C76-05ABD14B4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3E4F-D119-4118-9577-A3E522E98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25BD-F0DB-447F-A6A1-B1B34160F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F082-041F-44C9-B732-5B7950FD3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D067-ED14-482B-BCB1-8E73AEB72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F124-6E2F-46AD-8DE5-C37376395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DA29-7723-4537-A4E1-04E288C14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7F75-AE88-41A9-8BFC-65C884302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7DE1-F22B-4FA3-BA36-F63B7DE7F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16C3-A96B-4B2D-9F40-984A5C865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E339-3973-4A12-A6FC-91547ADB0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8413-40B4-46C1-82FD-CF8EA6101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23EF-CFDD-4E2D-B112-80A8F4E61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6707-B76D-45D1-9610-9052DF747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F770-CC3E-4B8C-B497-8C0F44257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F7C5-C734-4CDA-AFA1-20703CC54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EF97-D279-4064-870E-367F4C37B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7713-65C3-4791-BDF6-4CB8431AF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825B-B83F-4F06-A0DE-467CE3F92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C074-1CE6-41E0-9976-2B2CC41E5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0E83-F417-43AC-BF36-D3EA0AE00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951A-754B-4566-AD45-AA5E5E20A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66B7-314A-4286-BA2D-0D13E9386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8FE5-AC24-4DDA-A72F-628E675E9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3B39-4469-4B43-BBF3-2CA1780D6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67D31-1D8D-4763-84A4-F3584C13D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E520A-ECE9-463F-8441-FDF6BB257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9C933-40D5-45A3-B7AC-B25142C5C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8335B-2B21-4333-9A50-0F707E928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33525-9507-4FE1-8673-835DDB707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EC30A-5589-49B5-9EA5-EE57137F9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849A3-6886-4D03-917B-E856F9666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6ADB0-854A-4748-96F8-5376AC645B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DAA07-7E17-49BF-B305-A7916CE30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93781-737C-40FA-B2DE-3921B5604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A9294-EF59-4E42-A802-61660DC58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3F620-CEA4-4990-AB54-8A0833DC4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CC1841C2-D8A6-4D70-8A43-A91C7FBB080F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3F240-CCF7-4FF6-9DD9-26F8128D2D00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D7C90-EF41-4F2C-8921-25B7F8E73527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E2358-9B7A-4DAD-82F8-5A5BAC568EAF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F0D03-91BB-41D6-9168-333E721908BA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EA83-1310-4FF8-A27F-FA4C5D8D07F5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6BBA9-8AE6-4A3C-A81D-3FB3DFA748FE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F9148-B41A-4FA5-A990-901498EC10B8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B50D3-2D4F-4E2D-96B2-0F6D5687937A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2BBC7-9FFB-4841-9C45-B15A121C0225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D4210-F1C7-412E-AAF3-54E576F0087E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C4AD5-BA47-4B31-925D-5F3155B62A0B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F89B3-73C0-4924-A00E-FE3A4264114F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7B620-F8C8-47AC-9275-C9B7F0E95F29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CA352-EC59-449E-A399-6A82EB74F988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64EF5-6DD6-4D3A-9E07-8ED26AFE61BE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6E79E-91AF-4389-9B52-20691002A155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8AA87-A03C-4B17-9DBF-0D317590CBDF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3B7DE-DAEA-475C-BC85-24253DBC071C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FB1C5-A11D-450B-BBB6-28F5BA7DBEEE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1FF81-E306-4488-80BB-64974ED182E4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713C8-82D5-4C5D-8A1D-B2FDFB5CF352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A9D83-555C-44E3-874E-7D7EC0684D91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D576E-31E8-43FE-80EB-94EABEDF0DA0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2CBB0-6889-41C3-9BF7-FD701BC16166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D3A57-AC23-4AEE-80BE-7A897B52ABEB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D097-33E2-44C0-84F0-50E3A5D5FC73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98078-6BB0-4F1E-9989-66959A22BDB6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F473A-5ED8-45A6-A499-56A71869B573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C9C7C-5C82-4CEB-978F-2D555726F862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1D130-DAC1-470E-A9DA-296B9E18FEB9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93DF0-C2F3-454E-9EF2-204C6CD32286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AB4FC-EE08-47E5-936C-E4DAAF778390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56712-A174-4644-9FF4-64C2EA283B12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C7C4B-E33D-481F-92BB-3FB2878EAA80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11360-0141-4E00-A565-5512FDA0D1CB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A5FED-0E1D-46A4-9DE1-8DC0A107353C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2E1B0-E028-4719-9D56-CEFB0505C8BD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0CFFF-006E-495F-B58E-139EEB499794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6A8F2-EC15-427F-9652-20772FF33A80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Teodoro Wigodski</cp:lastModifiedBy>
  <dcterms:modified xsi:type="dcterms:W3CDTF">2006-07-29T17:32:23Z</dcterms:modified>
  <cp:revision>44</cp:revision>
  <dc:subject>Chapter 2</dc:subject>
  <dc:title>Strategic Management 7e.</dc:title>
</cp:coreProperties>
</file>