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04BA-934E-4992-AC58-68F448E33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35DD-9F19-43D8-8301-5B2419EEE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7B5F-D4D1-435F-BF1F-BBA4F3EEC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DF91-7538-44B9-BC1C-515A1AA66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350C-3CB5-46EF-8235-86877C652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EC39-A510-4D72-8D4F-EEA38C109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2A60-E02E-47FA-BCB2-72FAAEB69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A6BF-2BCB-4206-8DAE-07C06C107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76FD-7BAE-4B14-A989-186B56101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86C8-44F8-4C3F-B383-50594018D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59AD-488E-44ED-AE4D-378ECF57A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AA50-2369-44EC-8CB3-4E72C0069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9EFF-90AD-4976-9E8A-4ABEC87BE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55E3-1B37-4D34-AF16-E50502ACB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ED2FEA34-D4E5-470F-8C4C-26438E46D0D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F194-2116-47BA-A1E0-9FC25A654381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35B0-E646-4260-A542-9B080A9855F9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56E0-678B-438C-95A3-F93BA420C499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395F-4691-4093-828C-EC38E2BC204D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331C-4C87-4D55-A609-ED695CBE574C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98E3-33FB-4898-8C2A-8E4CB3ED9E81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AE8A-1410-489B-B49B-CE4AB6FBA08A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58CB-239E-4E59-937C-CBC929B63F96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155B-4688-4EFC-9FEE-4FB456BC034E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F980-0B97-4D75-9C6D-C0F7345492C6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41F1-0924-4FB6-9F93-2CF4F4D781C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2B6B-C2C6-412C-A9CD-4C3414DC0114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FD1D-95F0-4AFD-8B3C-5831ACBD43C7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5B5A-C73F-407C-B9D0-49D606C6BC9C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C70A-75E0-4370-8FB1-14A3FB9299FF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7361-7C33-41B2-9F22-E9956896B0F0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FCC3-8FED-44ED-A3AE-9F8BDB6BBC2A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3287-CDB5-4FC9-9490-3701A99051AD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F265-6B91-490A-9B91-F88E566FEDBF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8F81-1B51-4469-BBDA-F1E91930131F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35BE-3B3A-4A8D-AFAA-AA707ABB30F9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542A-563E-4B31-90FD-A5A52AC0395F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3CBD-A635-4815-9D4A-C0CAD830057D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3A69-01C2-4862-95A4-DA4A68625C6E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5AD9-2FE0-4682-A42E-29193F5CCB98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860C-E2AD-4FC8-87D5-39F45185AF49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6DE9-DF1C-4AA5-A397-3A43A8050F5F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D713-E3B7-4EB6-8C1F-97D3CC46EA39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2472-A004-42A8-BDCA-A3EF14E5209C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FDF7-9252-4254-9707-ECB9E179D27D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855D-795B-4940-9F9C-4F9071D75656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6A4A-74C7-4403-AF93-0E0574842A19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6876-8158-4438-BE46-042F012819F9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6C5B-7CA1-4BFF-917D-150B0A63014A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BFFB-F0A6-4B3A-AB2E-CE74D8EBCF67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28F5-19E8-433F-B28F-EE5073B2FD29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BFDB-4F26-4CF1-9AC5-3E704C2371FE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3AB7-6D58-4BA2-868B-6E2845214FBE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2F23-2B05-4759-A8BE-338E63B3B3ED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6CAAD-50C3-4B2B-A0A4-DEDF46BE3044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85C9-8127-4C24-8F4A-7A8D4D2226C9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8BBA-8DD7-4267-ABAF-5E8F1DC28A48}" type="slidenum">
              <a:t>48</a:t>
            </a:fld>
          </a:p>
        </p:txBody>
      </p:sp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E60A-3379-44EC-A38E-83DFB772C5C8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11E2-A048-40EC-A4E7-3E01C147881B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BF70-48A9-4B20-A8FD-795A6CA1E237}" type="slidenum">
              <a:t>50</a:t>
            </a:fld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1C32-6C3B-4630-98E1-1C9029476E28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45CA-F22A-4F83-9A32-B88D81FDE347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35D5-EEBC-44CA-94E9-7C4FED0914D9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ADAE-7444-4D89-97ED-EE01DAD2B202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179F-237F-44AD-BA60-9E7917F1CAFD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53A4-DAF3-4112-A094-D08CBF6B772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BDAF-A1E7-4AEC-B2D9-ABA312BF0D5C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mplement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F4DC-22CA-4183-9074-465113A1C0D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1BFC-1678-4747-B979-B09A45BC40AB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14T03:20:02Z</dcterms:modified>
  <cp:revision>53</cp:revision>
  <dc:subject>Chapter 1</dc:subject>
  <dc:title>Strategic Management 7e.</dc:title>
</cp:coreProperties>
</file>