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AEA465-3EEC-42D9-8C9D-28B7470CB95A}"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02625C-BF04-46DC-A050-468BB576CAFF}"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FC7D0C-656D-4B92-B7C7-A8195858173A}"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F675C0-76E2-43F6-B4B7-D26B4DCB4A2D}"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C58BF-018D-4823-9C6D-C2E6062BB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8BB2685-EFAF-4571-9DA0-424691B4E5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A3EA54C-F294-4418-8117-9EA51BBA17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CF9E1D3-619F-4E20-8AC7-E1E3117B51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9C75C3-7358-42C8-9BC0-8CFE13B58F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8B0FC3F-2ECE-40D1-8589-EBA1F25C47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A0EE00E-95DE-49A1-93AF-24708E86D5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9EB9B50-5914-4760-B332-18CF02D963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29A2BE88-B677-42E7-B4FB-DF2024DEE3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570469D-FE1A-4159-8EE7-05EFCC1E44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B0F2DEC-EB07-429F-A301-9A4C4993C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87FC4E1-BEEA-4B51-82FD-C1E1E120D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9DDDC77-3A5F-41B2-90EF-92984133EA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4A59BC7-F710-4FE1-BA63-41A8A19991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B1B5700-8C89-4389-BF65-133432B0E8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EADCBCEA-E893-44B7-85D4-2D0D726B5C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CC68F4F5-589C-477C-9104-1B75E75195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3A2672A-5066-4E5F-AC4E-48A7EA5936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2AFC153-0878-474F-A1A0-64FF3260E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B00557A3-F3F1-4AB4-BDE9-FC4ACE8F4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5D0B56F-4503-4795-89F8-67561B38AA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0011BC6-DD81-4CA2-B91B-AE027746DC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DB7AEEB-508B-4E4A-9DCB-F3FBBCE8C8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2548C1A-1C57-485A-A038-9D153F1F63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34F1-293D-4AF7-B134-EDE7EEF0E39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94FC-7F4E-4ED2-9B3C-44D58183785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F479AA2-F562-463D-925E-8F827E98A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075596B-F752-4C44-8ED1-72573055ED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A7BD9F-8596-44E1-B262-7A61677B5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FF23462-EAA0-48CD-A6DB-CA6636780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2887C0-BEE7-46FD-A780-F1AFBDEDE040}"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948E42E-6338-4E04-A13E-60070C82E2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57DF92-143C-4B8D-B105-D2227EE26B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EE202DA-3375-43AA-A6FC-6082408042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6B7FD898-A4D2-4039-8A7D-FB930B34E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7B545D7A-4829-4D08-9906-D5EEAFE948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D980B31-1066-4FCB-89DE-08FAFB4928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5E5DB4F8-0C25-4FC2-8AFB-2AC84C0708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74869B2-1A11-4004-BC29-71B333DC1D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1AAAA90-5B83-40AB-96E2-D1A520D205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BE7C586-BCDC-45B8-9BAD-F4BBFC9BC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8BECDB9A-3843-4112-A673-F3C7D8380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A0D6024-42A8-435C-9664-D565F06922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999873C-8688-4D38-8C5E-190A7C8EF7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1858E7C-7E35-4BD5-825C-B7A0F86DAB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B57486B-A5F1-4787-9E4D-FC84FFA8C5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019ED46-56D1-4127-BB8B-C40287BC4C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0111844-86FE-4D11-8416-5652629319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62963C7-472A-460E-BCAC-8728B603687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D14575D-4FBD-451E-8BDF-CAD7D9D8D3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E79BDC7-02E7-4FC3-B516-B3D3D4364F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D341E12-E9E8-4EBB-8E5D-DB34EA34AC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9DF5784-BDEA-4CA4-A20B-25B7C24E51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ADB044E2-5F70-4314-A0E0-502AC5FD41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A22336B-3F3D-4902-B986-177FDCDDFA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7186ECA-359F-4B07-9772-84336F25EE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37E855-7445-4ED8-9BB3-84505206C2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152A2F7-BA98-4759-87E8-C2F0966654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DE2169F-6BEF-49D4-8575-301864A230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93F8778-CA8B-4826-B4A4-3E7A27CDB4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0E32C45-A377-48AE-B593-01A57D6622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9FFDAE04-62D5-40BC-A101-8BBE9921F2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EAC9B2D5-D406-42C3-AB68-4B8FF62B0C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3E3B43-6992-4056-90B8-AA3BDA4AB1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6B8A438-7594-4242-9827-0B5E71AEDE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322BF4F8-BA6F-4400-BD24-E5353D2140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F12426BA-F314-42ED-B391-854EAA42BE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BC650CA9-306F-4E9C-995B-DD1648E0B7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4BB5E9F-1108-42CC-9512-AE8AC12D69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2E39514-4197-42EF-9487-D7B26B0F94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E30B0E1-DCF1-4696-8F8E-9887C35631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A61F713-1260-49AE-9A4D-5BEF4CCBC8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F438559-CB19-46AA-8CE7-964AD40676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7F907CC-F22D-44BA-A3BF-D5ED8D27C0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2B5BC24-73E1-4626-B475-70F3DE27BB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62961D2F-0E76-49AF-9FCA-4EBA55211E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7B49C2E-B2B7-4310-816F-1A9668919D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60A0287-6FAB-4170-8BCE-69EA2C6655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6ADD349E-E18D-4EB1-88AC-A5E6F08793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379620D-8FFF-413E-8539-5C09BBBEE9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A882EA4-9FDA-458A-9AC3-096DF46399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07D5D16F-42A0-440E-BA38-C404BB18A2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FA8105A-AB6E-4C9B-A235-938038CB04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ECE4D6D-18DE-4181-A193-7A37A008E00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49E7B99-3EA3-4A35-AEC4-9052141D76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4A3ACB9-7F63-42FA-B7D3-B86454C22C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EB6B24C-3759-405E-BE65-65AB1C957A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F0E5A76-7480-4EBA-AD93-3DB3418460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E92B14B-A798-4F7B-B715-9C5D82A476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E11D3BA-579D-42BE-A10F-3B672F0EE9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A6337CC-9F15-4D59-949A-BA48D85EF0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ACFBA1D-48E3-41E1-8216-BB6781A4F2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EEC1945E-D891-40D3-A850-C0C46E0CDE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E7E2DC5-186D-4C3F-9C7C-6822B2B097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385AD38-1662-4F3C-B954-C7343F619F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B9B0549F-CAE2-4EE6-81BA-D0217E1256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4358DDB-77AC-4618-8F8C-6E08C8D653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A5EC3EB-25D1-4D25-BD30-6A3B329138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839B79-297C-4A83-825D-E02F93E354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E8829D7A-A891-4DE0-BF9F-563AD81720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1955BDB-9E50-4590-924D-0C36E8632B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2E05894-B47A-4F99-A3CA-A54A567EEE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6CDAF69-AE7A-498F-BF4E-C0B426CC26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4221DBB-107D-4651-B953-2076C37055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CD60CED-6B52-4F07-A33C-6F6EAC10FA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439B988-21FE-48D7-8207-9CF4B8E0AA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6EED95D-766C-4EDD-A26B-D6776F9BEB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E283FBDA-CE68-4729-ACCA-541E723638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E639BC3-7688-4D5C-ACF7-B48A1FE2E6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F020E2C-CA8A-4719-A9EA-8F027B2F33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F34D234-3886-4758-A7AE-6DC624D325F4}"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1C39C85-A8FA-472F-8DD4-FAF99C2968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7-05-12T15:10:48Z</dcterms:modified>
  <cp:revision>184</cp:revision>
  <dc:subject/>
  <dc:title>Propuesta Modelo Evaluación Impacto Programa Capacitación</dc:title>
</cp:coreProperties>
</file>