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CABF-8D6B-40B0-A269-480B0983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FC0E-8019-4363-8DE6-D10189F5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45A2C-4E5A-40FE-A6D7-C4BFC193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DE7D-2158-4F24-BA96-35116AC8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454B-3C2B-4CEA-9232-BFB0AEEB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6512-E96F-4F80-B617-2387736A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6D34-F55C-406F-933F-D67D8AB1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126E-BA96-4D36-8F88-7F1411FA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1A55-4A43-4EAF-B00C-EF5EDA9D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D36B-569B-48D6-9105-789AD3A4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70D4-03D8-46CA-AB82-00022E83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C10F2-5782-443C-8F96-D6C97894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FA2C-D789-4DD5-951A-35A4A4C4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4B88-03C1-4B85-A22A-0787AE48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43A2-9BD5-499C-AF2F-50374A89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C9A0-D754-492F-BFD9-A989B597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6C6F-A997-44F4-A90E-91311A4C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DC738-823A-4597-8392-2A73E2BE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86859-88BD-4D1A-8C49-A764A1B6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93E9B-71B6-4038-A646-6D4FB7D9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5E24E-70C6-4E0C-8E47-49815AEA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70C22-D84D-48AD-8C9B-79E51ACB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CE2C-0194-4ECE-9039-2AA0131B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29CD1-61FA-4340-A769-312E4FE5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215BE-6480-45C9-8A7D-CFE17DE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EAECE-36C0-4515-802D-95B14FF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3AB46-CE24-400C-BA9D-EBB70605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913A4-1C68-4339-9984-DA0E2667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59B38-CD0C-452B-A942-9C200EE6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6A0EF-26E7-418A-84F4-CF996EB5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4C11C-B7F9-4A49-9B06-9CAC5B37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DCED9-08DE-4CC9-BAA8-EA7B744A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1AFCC-E654-4F67-8BAB-80533771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9F94-A131-448A-94DD-EF2B2940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BFF0-5D14-458C-B37E-18F8227E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D5F7-C447-4004-9FDC-8C8D70A8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A52A1-5F7F-4953-A51A-05D4C985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86A07-4470-4995-8BF4-0ACD2B86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438CA-8160-490A-B91F-55E7B953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E150E-1F8D-4943-B387-49B9C4D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087C1-8EAF-4B20-AD37-2BEF0717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C2ED6-6AE6-41EB-9A10-92A80C7F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17D9-7FDF-41E6-99CE-A578ADEA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306C-BAB0-4666-83F2-42D68421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A06B-1F9E-42B4-9459-9638A0E2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51AB-A4DB-441F-9529-827206B0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D256-90BC-4D67-A73D-039A74B4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4AB3-0A98-4DF5-9441-3DA843DB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C068-6872-45D1-96FB-96A486B16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47B-991E-4F81-9A60-EBA774A62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9453-7D4B-4044-88B6-09762EF4B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0462-12F2-482B-932B-9FA114F04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awsft.net/~demo/aca/acalogn.htm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274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IN58B - Ingeniería de Marke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00356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ff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 que objeto 0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lke y Pessem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edición de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k=1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br>
              <a:rPr sz="36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f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Cómo medir las preferencia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 de pelotas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las funciones de utilidad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oductos “tipo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: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tradicional. Las comparaciones se hacen en una escala de interva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diga el grado de preferencia entre dos perfiles o por un producto compl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"/>
          <p:cNvCxnSpPr>
            <a:stCxn id="219" idx="2"/>
            <a:endCxn id="220" idx="0"/>
          </p:cNvCxnSpPr>
          <p:nvPr/>
        </p:nvCxnSpPr>
        <p:spPr>
          <a:xfrm>
            <a:off x="6362280" y="1851120"/>
            <a:ext cx="108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20" idx="2"/>
            <a:endCxn id="222" idx="0"/>
          </p:cNvCxnSpPr>
          <p:nvPr/>
        </p:nvCxnSpPr>
        <p:spPr>
          <a:xfrm>
            <a:off x="6362280" y="4538520"/>
            <a:ext cx="1080" cy="32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3" name=""/>
          <p:cNvGrpSpPr/>
          <p:nvPr/>
        </p:nvGrpSpPr>
        <p:grpSpPr>
          <a:xfrm>
            <a:off x="152280" y="76320"/>
            <a:ext cx="8839440" cy="6248160"/>
            <a:chOff x="152280" y="76320"/>
            <a:chExt cx="8839440" cy="6248160"/>
          </a:xfrm>
        </p:grpSpPr>
        <p:grpSp>
          <p:nvGrpSpPr>
            <p:cNvPr id="224" name=""/>
            <p:cNvGrpSpPr/>
            <p:nvPr/>
          </p:nvGrpSpPr>
          <p:grpSpPr>
            <a:xfrm>
              <a:off x="533520" y="326880"/>
              <a:ext cx="8229600" cy="5585400"/>
              <a:chOff x="533520" y="326880"/>
              <a:chExt cx="8229600" cy="55854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533520" y="326880"/>
                <a:ext cx="8229600" cy="1470240"/>
                <a:chOff x="533520" y="326880"/>
                <a:chExt cx="8229600" cy="147024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533520" y="326880"/>
                  <a:ext cx="8229600" cy="1470240"/>
                  <a:chOff x="533520" y="326880"/>
                  <a:chExt cx="8229600" cy="1470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33520" y="768240"/>
                    <a:ext cx="2743200" cy="587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dentificación de la oportunida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962520" y="326880"/>
                    <a:ext cx="4800600" cy="147024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del Consumido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litativa para identificar tem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ntitativa para entrar a los model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28" name=""/>
                  <p:cNvCxnSpPr>
                    <a:stCxn id="227" idx="3"/>
                    <a:endCxn id="219" idx="1"/>
                  </p:cNvCxnSpPr>
                  <p:nvPr/>
                </p:nvCxnSpPr>
                <p:spPr>
                  <a:xfrm flipV="1">
                    <a:off x="3295440" y="1078560"/>
                    <a:ext cx="648360" cy="252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29" name=""/>
                <p:cNvSpPr/>
                <p:nvPr/>
              </p:nvSpPr>
              <p:spPr>
                <a:xfrm>
                  <a:off x="3352680" y="688680"/>
                  <a:ext cx="38124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33520" y="4879800"/>
                <a:ext cx="8229600" cy="1032480"/>
                <a:chOff x="533520" y="4879800"/>
                <a:chExt cx="8229600" cy="103248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3520" y="4879800"/>
                  <a:ext cx="8229600" cy="1032480"/>
                  <a:chOff x="533520" y="4879800"/>
                  <a:chExt cx="8229600" cy="1032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3520" y="5217840"/>
                    <a:ext cx="274320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Evaluació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962520" y="4879800"/>
                    <a:ext cx="4800600" cy="103248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edecir Comportamiento Mc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Agregar a los Individu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onocimiento y Disponibilida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33" name=""/>
                  <p:cNvCxnSpPr>
                    <a:stCxn id="222" idx="1"/>
                    <a:endCxn id="232" idx="3"/>
                  </p:cNvCxnSpPr>
                  <p:nvPr/>
                </p:nvCxnSpPr>
                <p:spPr>
                  <a:xfrm flipH="1" flipV="1">
                    <a:off x="3295080" y="5406120"/>
                    <a:ext cx="648360" cy="540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34" name=""/>
                <p:cNvSpPr/>
                <p:nvPr/>
              </p:nvSpPr>
              <p:spPr>
                <a:xfrm>
                  <a:off x="3429000" y="49557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33520" y="2212560"/>
                <a:ext cx="8229600" cy="2288160"/>
                <a:chOff x="533520" y="2212560"/>
                <a:chExt cx="8229600" cy="228816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533520" y="2212560"/>
                  <a:ext cx="8229600" cy="2288160"/>
                  <a:chOff x="533520" y="2212560"/>
                  <a:chExt cx="8229600" cy="22881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533520" y="2498040"/>
                    <a:ext cx="2743200" cy="172440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Refinamien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KT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&amp;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ngenierí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oducció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962520" y="2212560"/>
                    <a:ext cx="4800600" cy="2288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odelos de los Consumidor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267080" y="2517120"/>
                    <a:ext cx="4419720" cy="1913040"/>
                    <a:chOff x="4267080" y="2517120"/>
                    <a:chExt cx="4419720" cy="191304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267080" y="25171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ce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267080" y="335520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29400" y="3355200"/>
                      <a:ext cx="20574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267080" y="41173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243" name=""/>
                    <p:cNvCxnSpPr>
                      <a:stCxn id="239" idx="2"/>
                      <a:endCxn id="240" idx="0"/>
                    </p:cNvCxnSpPr>
                    <p:nvPr/>
                  </p:nvCxnSpPr>
                  <p:spPr>
                    <a:xfrm>
                      <a:off x="5181120" y="2886840"/>
                      <a:ext cx="1080" cy="45000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4" name=""/>
                    <p:cNvCxnSpPr>
                      <a:stCxn id="240" idx="2"/>
                      <a:endCxn id="242" idx="0"/>
                    </p:cNvCxnSpPr>
                    <p:nvPr/>
                  </p:nvCxnSpPr>
                  <p:spPr>
                    <a:xfrm>
                      <a:off x="5181120" y="3724560"/>
                      <a:ext cx="1080" cy="37404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5" name=""/>
                    <p:cNvCxnSpPr>
                      <a:stCxn id="240" idx="3"/>
                      <a:endCxn id="241" idx="1"/>
                    </p:cNvCxnSpPr>
                    <p:nvPr/>
                  </p:nvCxnSpPr>
                  <p:spPr>
                    <a:xfrm>
                      <a:off x="6114960" y="3530880"/>
                      <a:ext cx="496080" cy="108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</p:cxn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3276720" y="28983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276720" y="38127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3429000" y="24411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429000" y="343188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152280" y="76320"/>
              <a:ext cx="335304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33920" y="76320"/>
              <a:ext cx="525780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6442200"/>
            <a:ext cx="9144000" cy="34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SO DE DISEÑ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707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70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baja con escalas ordi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elija cual es el perfil que prefiere forzando que se quede sólo con un perfil por compa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usando LIN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wsft.net/~demo/aca/acalog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evistado hace ranking o rating de esos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56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56" idx="2"/>
              <a:endCxn id="257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57" idx="2"/>
              <a:endCxn id="263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58" idx="2"/>
              <a:endCxn id="259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59" idx="2"/>
              <a:endCxn id="260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3" idx="2"/>
              <a:endCxn id="258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0" idx="1"/>
              <a:endCxn id="256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57" idx="1"/>
              <a:endCxn id="256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4" idx="2"/>
            <a:endCxn id="275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5" idx="2"/>
            <a:endCxn id="281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2"/>
            <a:endCxn id="277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2"/>
            <a:endCxn id="278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1" idx="2"/>
            <a:endCxn id="276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1"/>
            <a:endCxn id="274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5" idx="1"/>
            <a:endCxn id="274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7-05-07T00:16:30Z</dcterms:modified>
  <cp:revision>12</cp:revision>
  <dc:subject/>
  <dc:title>PREFERENCIAS</dc:title>
</cp:coreProperties>
</file>