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298F-43D8-46F8-824B-816EA6BD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1ED4-5A0C-4003-9AE2-08AA15CA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E860-FAC0-4FD0-B0FB-F66A7A04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E418-5867-4881-8C5B-81AC0CD7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BB24-456F-4FC9-BDFB-8D7F9BE0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F1B0-2071-48A3-BF2C-3F81E283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DE2C-C935-46CF-BAF1-8DC1BE2D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375F-2DC8-4A58-8E2A-6A519EB7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4A41-01C2-4B80-8A40-EA7663DF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3F9E-B5EF-469F-A54C-E61260E7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7CDA-8BB6-4D25-95F4-BA7D6B6E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B00C-518E-4E69-839B-01530E1A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0B3A-9C55-485E-9E51-68665E25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8E7F-602C-4796-8214-7B40B87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32CC-7C7C-4F76-BCCF-1E4790B7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1A90-1DF1-4647-B90E-F4D96251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0A9E-65C2-4E30-9D4A-9FE75D21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7B89E-8BF7-4CBF-8609-27490910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69221-484F-4F7B-8F3F-855BD8F7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A3266-54EE-4864-A9D3-5EC54503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45757-8375-4021-97B1-5C087DCD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4CE38-F4DB-438F-9997-C8E15CD2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C780-EC76-4032-9F11-7C6CC646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3179C-A586-479C-BA39-413B03B8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48350-C9DE-42A6-AB47-136B0EB7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A9458-74FD-4A8A-99EC-AADE256D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3D26F-1071-48AA-80EA-52E7BA14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E8C13-2E4E-42A5-A3C2-15937968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62415-D549-4343-BDA2-FB17E278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67FAD-9B71-429B-8769-E52F9283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BE0A-D228-46DC-B168-1581DA7B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151B-9FD2-480F-8FED-DE389F03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DFB2-F26F-42CF-BDAF-CCB284CA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47E2-B8D1-4E80-9434-2DA3362E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89F28-63E9-4961-8503-A89DC2D1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F0F4-AB35-487C-9FFB-DACFFB09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5A6B-CBC5-4564-A3D6-43F49242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5F663-1779-4263-97D4-01A839C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A120-3C57-4846-A18D-39DCDC8E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7BB59-B534-4CD1-84A1-CA9EF01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80E77-2ADD-4BD4-B533-3BBDB6FA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6293-928F-40EA-B6C2-69A2B336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9365-398C-49CF-A663-4A3487E5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5EC7-A341-4886-871A-481F8B35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BF32-156E-45BB-84DA-B82241B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ADF6-20BC-400A-A710-C0526C8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C602-A40B-49D7-9842-2E84EB63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DC1A-6630-40D6-9A2A-1B43664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100E-CB35-46B8-A737-969798965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360D-0BE2-46EB-A8D4-9D6475E3C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5132-6DEF-4431-9F20-2624CB7D0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982E-0986-470A-9F2C-7A74CDFD7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7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IN58B - Ingeniería de Marke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00356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ff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 que objeto 0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2"/>
            <a:endCxn id="220" idx="0"/>
          </p:cNvCxnSpPr>
          <p:nvPr/>
        </p:nvCxnSpPr>
        <p:spPr>
          <a:xfrm>
            <a:off x="6362280" y="1851120"/>
            <a:ext cx="108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20" idx="2"/>
            <a:endCxn id="222" idx="0"/>
          </p:cNvCxnSpPr>
          <p:nvPr/>
        </p:nvCxnSpPr>
        <p:spPr>
          <a:xfrm>
            <a:off x="6362280" y="4538520"/>
            <a:ext cx="108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3" name=""/>
          <p:cNvGrpSpPr/>
          <p:nvPr/>
        </p:nvGrpSpPr>
        <p:grpSpPr>
          <a:xfrm>
            <a:off x="152280" y="76320"/>
            <a:ext cx="8839440" cy="6248160"/>
            <a:chOff x="152280" y="76320"/>
            <a:chExt cx="8839440" cy="6248160"/>
          </a:xfrm>
        </p:grpSpPr>
        <p:grpSp>
          <p:nvGrpSpPr>
            <p:cNvPr id="224" name=""/>
            <p:cNvGrpSpPr/>
            <p:nvPr/>
          </p:nvGrpSpPr>
          <p:grpSpPr>
            <a:xfrm>
              <a:off x="533520" y="326880"/>
              <a:ext cx="8229600" cy="5585400"/>
              <a:chOff x="533520" y="326880"/>
              <a:chExt cx="8229600" cy="5585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33520" y="326880"/>
                <a:ext cx="8229600" cy="1470240"/>
                <a:chOff x="533520" y="326880"/>
                <a:chExt cx="8229600" cy="14702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533520" y="326880"/>
                  <a:ext cx="8229600" cy="1470240"/>
                  <a:chOff x="533520" y="326880"/>
                  <a:chExt cx="8229600" cy="1470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3520" y="768240"/>
                    <a:ext cx="2743200" cy="587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dentificación de la oportunida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962520" y="326880"/>
                    <a:ext cx="4800600" cy="147024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del Consumido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litativa para identificar tem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ntitativa para entrar a los model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8" name=""/>
                  <p:cNvCxnSpPr>
                    <a:stCxn id="227" idx="3"/>
                    <a:endCxn id="219" idx="1"/>
                  </p:cNvCxnSpPr>
                  <p:nvPr/>
                </p:nvCxnSpPr>
                <p:spPr>
                  <a:xfrm flipV="1">
                    <a:off x="3295440" y="1078560"/>
                    <a:ext cx="648360" cy="252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29" name=""/>
                <p:cNvSpPr/>
                <p:nvPr/>
              </p:nvSpPr>
              <p:spPr>
                <a:xfrm>
                  <a:off x="3352680" y="688680"/>
                  <a:ext cx="3812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33520" y="4879800"/>
                <a:ext cx="8229600" cy="1032480"/>
                <a:chOff x="533520" y="4879800"/>
                <a:chExt cx="8229600" cy="103248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3520" y="4879800"/>
                  <a:ext cx="8229600" cy="1032480"/>
                  <a:chOff x="533520" y="4879800"/>
                  <a:chExt cx="8229600" cy="1032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3520" y="5217840"/>
                    <a:ext cx="27432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Evaluació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962520" y="4879800"/>
                    <a:ext cx="4800600" cy="103248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edecir Comportamiento Mc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Agregar a los Individu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onocimiento y Disponibilida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33" name=""/>
                  <p:cNvCxnSpPr>
                    <a:stCxn id="222" idx="1"/>
                    <a:endCxn id="232" idx="3"/>
                  </p:cNvCxnSpPr>
                  <p:nvPr/>
                </p:nvCxnSpPr>
                <p:spPr>
                  <a:xfrm flipH="1" flipV="1">
                    <a:off x="3295080" y="5406120"/>
                    <a:ext cx="648360" cy="540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34" name=""/>
                <p:cNvSpPr/>
                <p:nvPr/>
              </p:nvSpPr>
              <p:spPr>
                <a:xfrm>
                  <a:off x="3429000" y="49557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3520" y="2212560"/>
                <a:ext cx="8229600" cy="2288160"/>
                <a:chOff x="533520" y="2212560"/>
                <a:chExt cx="8229600" cy="22881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533520" y="2212560"/>
                  <a:ext cx="8229600" cy="2288160"/>
                  <a:chOff x="533520" y="2212560"/>
                  <a:chExt cx="8229600" cy="2288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33520" y="2498040"/>
                    <a:ext cx="2743200" cy="172440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Refinamien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KT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&amp;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ngenier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oducció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962520" y="2212560"/>
                    <a:ext cx="4800600" cy="2288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odelos de los Consumidor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267080" y="2517120"/>
                    <a:ext cx="4419720" cy="1913040"/>
                    <a:chOff x="4267080" y="2517120"/>
                    <a:chExt cx="4419720" cy="191304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267080" y="25171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ce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267080" y="335520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29400" y="3355200"/>
                      <a:ext cx="20574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267080" y="41173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43" name=""/>
                    <p:cNvCxnSpPr>
                      <a:stCxn id="239" idx="2"/>
                      <a:endCxn id="240" idx="0"/>
                    </p:cNvCxnSpPr>
                    <p:nvPr/>
                  </p:nvCxnSpPr>
                  <p:spPr>
                    <a:xfrm>
                      <a:off x="5181120" y="2886840"/>
                      <a:ext cx="1080" cy="45000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4" name=""/>
                    <p:cNvCxnSpPr>
                      <a:stCxn id="240" idx="2"/>
                      <a:endCxn id="242" idx="0"/>
                    </p:cNvCxnSpPr>
                    <p:nvPr/>
                  </p:nvCxnSpPr>
                  <p:spPr>
                    <a:xfrm>
                      <a:off x="5181120" y="3724560"/>
                      <a:ext cx="1080" cy="37404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5" name=""/>
                    <p:cNvCxnSpPr>
                      <a:stCxn id="240" idx="3"/>
                      <a:endCxn id="241" idx="1"/>
                    </p:cNvCxnSpPr>
                    <p:nvPr/>
                  </p:nvCxnSpPr>
                  <p:spPr>
                    <a:xfrm>
                      <a:off x="6114960" y="3530880"/>
                      <a:ext cx="496080" cy="108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</p:cxn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3276720" y="28983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276720" y="38127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3429000" y="24411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429000" y="343188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52280" y="76320"/>
              <a:ext cx="335304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33920" y="76320"/>
              <a:ext cx="525780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6442200"/>
            <a:ext cx="9144000" cy="34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SO DE DISEÑ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56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56" idx="2"/>
              <a:endCxn id="257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57" idx="2"/>
              <a:endCxn id="263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8" idx="2"/>
              <a:endCxn id="259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59" idx="2"/>
              <a:endCxn id="260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3" idx="2"/>
              <a:endCxn id="258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0" idx="1"/>
              <a:endCxn id="256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57" idx="1"/>
              <a:endCxn id="256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4" idx="2"/>
            <a:endCxn id="275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81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2"/>
            <a:endCxn id="278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1" idx="2"/>
            <a:endCxn id="276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1"/>
            <a:endCxn id="274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5" idx="1"/>
            <a:endCxn id="274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5-07T00:16:30Z</dcterms:modified>
  <cp:revision>12</cp:revision>
  <dc:subject/>
  <dc:title>PREFERENCIAS</dc:title>
</cp:coreProperties>
</file>