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whoosh.wav" ContentType="audio/x-wav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60320-4662-4C14-8D57-6FD842FC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A84B3-2695-467D-BF08-F4040E38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1173-E925-4256-8772-3DCC12E9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9123-EA46-40DB-BC90-C20FCAF3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D517-6CF5-4C6F-8333-F49A659B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3473-2389-4031-B216-A4866AEC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8F87-D59C-48B7-8069-0EA5510B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7459-F6C0-4E53-A7F9-C2FD885B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099C-D313-453C-9130-937A1539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CB33-FA65-40A6-9C79-89236E75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DE0B-6036-43DF-861A-53D34706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D967-4A35-42BD-A8B4-FF2821C1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C01D-3F67-4C4A-8EB2-ED142E52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A051-75D9-49AE-BB33-B77FCF72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D5A2-8666-4CE5-B7E8-BACF947B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CCF2-3B00-4687-9903-A30E6DE1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3AE0-F888-4B2E-B2D3-EC0CB710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756869-DD92-47E4-B7A8-B9DC0CE5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B242A-73BB-4336-8C8E-1F325032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628324-16B4-489F-99AC-C208E0A6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97F20-4FE5-4EC4-9E64-801F056B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94B27-E79B-4DA5-A7DE-831B49D5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E225-99B3-485C-9601-9AA0CB96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842A6-43A1-4301-90D8-30C2A4EB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07BAD-B295-4A25-AC8E-D5EB760B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242105-958E-4EF5-8677-0D31677C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10B0D-AD04-49BB-9DA3-50350A4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CB79F-2907-4B53-ACCD-754AB68C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DCA7AB-7D3D-4B9A-93A2-0604B43D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60E1C-693D-4F17-8A16-AD0D7DFD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8948-7B63-4DF7-8798-66E007CE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21420-E2DE-4E43-AD0C-EC212864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B49AA-E858-41D9-9024-EA17F2EF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E45B-AE52-440D-B0F4-65A32FF5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1BE69-9423-4B0D-BB8E-76A303D4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260EC-2A59-43BC-9E94-9ABB9134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60D56-B74A-4BAA-8DCE-B1E4A89E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3CEFE-0C60-42D2-925F-0FA0C0E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BB58-EA4F-49ED-80D6-412DB207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FF9DA-D9F1-49F9-933C-4820C9F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0808-5D5C-419F-A8EB-1DCC125B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86062-E1DB-476C-B303-5311E8B6F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DB6AC-766E-484F-B49E-D9A973F9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889E-FBB5-4A5E-8E7D-7A39BCFA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9274D-5BC9-44C9-BE73-BE2AFA27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78FCD-EE8D-447E-8812-4EC9D4B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4FEF-BCB7-4839-89BA-3F2A56CB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ABFE-D18A-4BE9-A70C-4B7F09EB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F84F-B2C6-4B7A-AC95-7B4279F1B4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B662-10C6-453C-9E77-6439E71DB0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9E56-7D08-4351-8B02-9B42909AAF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DE99-74E3-475B-B299-854A94214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awsft.net/~demo/aca/acalogn.htm" TargetMode="Externa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3274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ffffff"/>
                </a:solidFill>
                <a:latin typeface="Arial"/>
              </a:rPr>
              <a:t>IN58B - Ingeniería de Marke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00356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ff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tos modelos sirven para modelar el comportamiento de un cliente que elige una marca sólo si cumple uno de sus atribu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el producto es deficiente en cualquiera de esos requerimientos, entonces el producto es eli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emos lo anter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nivel percibido del atributo k en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umbral mínimo aceptable para atributo k,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la marca j es aceptable para el atributo  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 = 1 si la marca j es preferida (vá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onces se tend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 si y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j =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No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167616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52280" y="2209680"/>
          <a:ext cx="8762760" cy="4064040"/>
        </p:xfrm>
        <a:graphic>
          <a:graphicData uri="http://schemas.openxmlformats.org/drawingml/2006/table">
            <a:tbl>
              <a:tblPr/>
              <a:tblGrid>
                <a:gridCol w="1643040"/>
                <a:gridCol w="1800000"/>
                <a:gridCol w="2195640"/>
                <a:gridCol w="1905120"/>
                <a:gridCol w="1218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a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 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Gráf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Dispon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 Mí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"/>
          <p:cNvSpPr/>
          <p:nvPr/>
        </p:nvSpPr>
        <p:spPr>
          <a:xfrm>
            <a:off x="1523880" y="6324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(</a:t>
            </a:r>
            <a:r>
              <a:rPr b="1" lang="es-ES_tradnl" sz="1800" spc="-1" strike="noStrike">
                <a:solidFill>
                  <a:srgbClr val="3366cc"/>
                </a:solidFill>
                <a:latin typeface="Arial"/>
              </a:rPr>
              <a:t>No Compensatorio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Se elige opció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hacia el objeto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 que objeto 0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importancia del atributo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Fishbein Bá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mbién está el Modelo de Fishbein Extend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N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NB=Creencia social norm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C=Mot.  a cumpl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Compensato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Valor Esperado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lke y Pessem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composiciones, donde la utilidad total de un objeto se pesa como la suma de su nivel percibido de atributos y la clasificación de los valores asociados. Estos son juzgados por cada persona de manera explicit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edición de P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: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inferido o utilidad del producto j para el individuo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mportancia dada por el individuo i sobre el atributo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k=1</a:t>
            </a:r>
            <a:r>
              <a:rPr b="0" lang="es-ES_tradnl" sz="3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6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nto id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uando se pregunta acerca de la preferencia por el largo de distintos autos, algunos responden que son muy largos o muy cortos, mostrando que tienen algún ideal de largo en sus m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Valor Espe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 actitud hacia los programas de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b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-I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lang="es-CL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actitud global hacia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0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creencia de que el programa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posee en el atributo i (val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osición ideal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peso de la característica particular en la dimensió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istancia mét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cc"/>
                </a:solidFill>
                <a:latin typeface="Lucida Sans Unicode"/>
              </a:rPr>
              <a:t>Modelos de Actitud:</a:t>
            </a: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395280" y="2413080"/>
          <a:ext cx="3744720" cy="2600280"/>
        </p:xfrm>
        <a:graphic>
          <a:graphicData uri="http://schemas.openxmlformats.org/drawingml/2006/table">
            <a:tbl>
              <a:tblPr/>
              <a:tblGrid>
                <a:gridCol w="863640"/>
                <a:gridCol w="1800000"/>
                <a:gridCol w="1081080"/>
              </a:tblGrid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r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centració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uer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789440" y="33566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0040" y="3818160"/>
            <a:ext cx="3538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= percep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 = importancia del atrib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 = A, B, C,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 = Concentración, Cuer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627360" y="2481120"/>
                <a:ext cx="225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427640" y="2251080"/>
                <a:ext cx="44830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dea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3541680" y="21376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debe considerar que el consumidor no siempre elige el producto o marca más preferido, existen otras variables que influyen (cupones, tratos especiale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de LU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= probabilidad de que el individuo i elij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preferencia del individuo i a la marc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conjunto de marcas de consideración del individuo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5257800" y="5334120"/>
                <a:ext cx="205740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tros mode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delo Logit mult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576600" y="2832120"/>
                <a:ext cx="1760400" cy="13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β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β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508200" y="4871880"/>
                <a:ext cx="205920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k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728640" y="2743200"/>
          <a:ext cx="7932600" cy="168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32600" cy="16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Decisión de Com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28640" y="2743200"/>
          <a:ext cx="7929720" cy="33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2743200"/>
                    <a:ext cx="7929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ar las preferencias como funciones de múltiples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idea general es que las personas definen su preferencia en función de varios atributos de la clase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Medición de Preferencias</a:t>
            </a:r>
            <a:br>
              <a:rPr sz="36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tro</a:t>
            </a:r>
            <a:r>
              <a:rPr b="0" lang="es-ES_tradn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Enfo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retende estimar una función matemática que mida el valor que un producto le da a un 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lor -&gt; utilidad -&gt; p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f (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...........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onde n es el número de atributos,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valor del producto i en el atributo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66cc"/>
                </a:solidFill>
                <a:latin typeface="Lucida Sans Unicode"/>
              </a:rPr>
              <a:t>El Proceso de Medi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n general, dado que uno no conoce las funciones de valor parcial, entonces, se realiza una transformación para poder medir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190440" y="533160"/>
            <a:ext cx="8724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unción de valor par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ES_tradnl" sz="4800" spc="-1" strike="noStrike">
                <a:solidFill>
                  <a:srgbClr val="000000"/>
                </a:solidFill>
                <a:latin typeface="Symbol"/>
                <a:ea typeface="Symbol"/>
              </a:rPr>
              <a:t>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jk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s-ES_tradnl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40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 si el atributo j está presente al nivel k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producto i y 0 en caso contrar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mportancia relativa del nivel k del atributo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2240" y="0"/>
            <a:ext cx="805176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Arial"/>
              </a:rPr>
              <a:t>Ejemplos de Atributos y Niv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1143000"/>
            <a:ext cx="6553440" cy="53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año de un envase de café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50 gr         200 gr      300 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embolso Ambul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85%          70%          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po de A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9999ff"/>
                </a:solidFill>
                <a:latin typeface="Comic Sans MS"/>
              </a:rPr>
              <a:t>100 w        500 w       1000 w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Cómo medir las preferencias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 de pelotas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 quiere comercializar una nueva pelota de g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ongamos que según los clientes, las pelotas de golf poseen 3 características import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ance de la pelota (distancia que logra recor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 medio de d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ambién, se conocen los rangos de alternativas factibles para cada una de el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58440" y="4253040"/>
            <a:ext cx="1364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5520" y="3809880"/>
            <a:ext cx="187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iempo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78160" y="4267080"/>
            <a:ext cx="1500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11960" y="4253040"/>
            <a:ext cx="108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214280" y="47880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7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4880" y="47880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4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54440" y="47880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214280" y="524520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50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34880" y="524520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6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554440" y="524520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14280" y="5686560"/>
            <a:ext cx="1764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25 yar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134880" y="5686560"/>
            <a:ext cx="1446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8 hoy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54440" y="5686560"/>
            <a:ext cx="99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$ 1,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63960" y="3859200"/>
            <a:ext cx="144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6396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83120" y="3859200"/>
            <a:ext cx="1800" cy="86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83120" y="3859200"/>
            <a:ext cx="30240" cy="86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25360" y="3789360"/>
            <a:ext cx="59040" cy="2397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63960" y="4794120"/>
            <a:ext cx="144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6396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3120" y="4794120"/>
            <a:ext cx="1800" cy="132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983120" y="4794120"/>
            <a:ext cx="30240" cy="13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86440" y="3859200"/>
            <a:ext cx="60480" cy="232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84400" y="3789360"/>
            <a:ext cx="5762520" cy="6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4400" y="4722840"/>
            <a:ext cx="5762520" cy="71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84400" y="5202360"/>
            <a:ext cx="570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184400" y="5202360"/>
            <a:ext cx="570204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4400" y="5657760"/>
            <a:ext cx="570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84400" y="5657760"/>
            <a:ext cx="570204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4400" y="6114960"/>
            <a:ext cx="576252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133720" y="35053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37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3505320"/>
            <a:ext cx="13716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3888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69343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934320" y="5410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6934320" y="5867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5410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43800" y="5105520"/>
            <a:ext cx="1143000" cy="53316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consumid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8840" indent="-7884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uál sería el “ideal” para el productor***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2819520"/>
            <a:ext cx="3819600" cy="8665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68800" y="3084480"/>
            <a:ext cx="8312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310360" y="2801880"/>
            <a:ext cx="114228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5320" y="3084480"/>
            <a:ext cx="9151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90320" y="3084480"/>
            <a:ext cx="6620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38760" y="3395520"/>
            <a:ext cx="107064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275 yard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12080" y="3395520"/>
            <a:ext cx="8784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54 hoy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17680" y="3395520"/>
            <a:ext cx="60120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$ 1,2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15304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15304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9880" y="2849400"/>
            <a:ext cx="1440" cy="516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419880" y="2849400"/>
            <a:ext cx="19080" cy="51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75040" y="2806560"/>
            <a:ext cx="3816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5304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5304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19880" y="3408480"/>
            <a:ext cx="1440" cy="24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419880" y="3408480"/>
            <a:ext cx="19080" cy="24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674120" y="2849400"/>
            <a:ext cx="39600" cy="84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13200" y="280656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913200" y="336564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13200" y="3651120"/>
            <a:ext cx="3800520" cy="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3886200"/>
            <a:ext cx="77724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57600" y="4952880"/>
            <a:ext cx="3809880" cy="838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79800" y="520848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c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126400" y="4937040"/>
            <a:ext cx="1069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09920" y="5208480"/>
            <a:ext cx="855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u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585480" y="5208480"/>
            <a:ext cx="6210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3360" y="5510160"/>
            <a:ext cx="100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25 yar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14080" y="5510160"/>
            <a:ext cx="825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8 hoy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06720" y="5510160"/>
            <a:ext cx="564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$ 1,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9212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9212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84800" y="4981680"/>
            <a:ext cx="1800" cy="500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84800" y="4981680"/>
            <a:ext cx="19080" cy="500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46440" y="4940280"/>
            <a:ext cx="38160" cy="858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9212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9212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184800" y="5522760"/>
            <a:ext cx="1800" cy="235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184800" y="5522760"/>
            <a:ext cx="19080" cy="23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435800" y="4981680"/>
            <a:ext cx="39600" cy="81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84600" y="494028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84600" y="5481720"/>
            <a:ext cx="3790800" cy="4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684600" y="5757840"/>
            <a:ext cx="3790800" cy="4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36160" y="5867280"/>
            <a:ext cx="76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***Se asume que es menos costoso producir a menor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mplo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lución parece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7848720" cy="9144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 rot="10800000">
            <a:off x="4190760" y="4191120"/>
            <a:ext cx="1447560" cy="129528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14800" y="5715000"/>
            <a:ext cx="1676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Sol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7d"/>
                </a:solidFill>
                <a:latin typeface="Arial"/>
              </a:rPr>
              <a:t>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685800" y="712800"/>
            <a:ext cx="73915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estimación de las funciones de utilidad se realiza mediante técnicas estad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colección de datos se realiza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Conjunto requiere que el sujeto evalúe objetos en forma holí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por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producto 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Conjunto (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es 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écnica de Investigación de Merc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vee información acerc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de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re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mentación de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siones de publi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o no de mercado para nuev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C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Base del Análisis Conjunto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ecolección de trade-off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Estimación de “utilidades” para los atributos y nive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edicción de preferencias de opci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8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Productos “tipo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: Mét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herramienta provee 3 métodos para la realización de análisis conju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joint Value Analysis (CV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hoice Base Conjoint (CB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aptative Conjoint Analysis (A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V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odo tradicional. Las comparaciones se hacen en una escala de interva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diga el grado de preferencia entre dos perfiles o por un producto comple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en base a regr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8" name=""/>
          <p:cNvCxnSpPr>
            <a:stCxn id="219" idx="2"/>
            <a:endCxn id="220" idx="0"/>
          </p:cNvCxnSpPr>
          <p:nvPr/>
        </p:nvCxnSpPr>
        <p:spPr>
          <a:xfrm>
            <a:off x="6362280" y="1851120"/>
            <a:ext cx="1080" cy="34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20" idx="2"/>
            <a:endCxn id="222" idx="0"/>
          </p:cNvCxnSpPr>
          <p:nvPr/>
        </p:nvCxnSpPr>
        <p:spPr>
          <a:xfrm>
            <a:off x="6362280" y="4538520"/>
            <a:ext cx="1080" cy="32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23" name=""/>
          <p:cNvGrpSpPr/>
          <p:nvPr/>
        </p:nvGrpSpPr>
        <p:grpSpPr>
          <a:xfrm>
            <a:off x="152280" y="76320"/>
            <a:ext cx="8839440" cy="6248160"/>
            <a:chOff x="152280" y="76320"/>
            <a:chExt cx="8839440" cy="6248160"/>
          </a:xfrm>
        </p:grpSpPr>
        <p:grpSp>
          <p:nvGrpSpPr>
            <p:cNvPr id="224" name=""/>
            <p:cNvGrpSpPr/>
            <p:nvPr/>
          </p:nvGrpSpPr>
          <p:grpSpPr>
            <a:xfrm>
              <a:off x="533520" y="326880"/>
              <a:ext cx="8229600" cy="5585400"/>
              <a:chOff x="533520" y="326880"/>
              <a:chExt cx="8229600" cy="558540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533520" y="326880"/>
                <a:ext cx="8229600" cy="1470240"/>
                <a:chOff x="533520" y="326880"/>
                <a:chExt cx="8229600" cy="147024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533520" y="326880"/>
                  <a:ext cx="8229600" cy="1470240"/>
                  <a:chOff x="533520" y="326880"/>
                  <a:chExt cx="8229600" cy="147024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33520" y="768240"/>
                    <a:ext cx="2743200" cy="587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dentificación de la oportunida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962520" y="326880"/>
                    <a:ext cx="4800600" cy="147024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del Consumidor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litativa para identificar tem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edición cuantitativa para entrar a los model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28" name=""/>
                  <p:cNvCxnSpPr>
                    <a:stCxn id="227" idx="3"/>
                    <a:endCxn id="219" idx="1"/>
                  </p:cNvCxnSpPr>
                  <p:nvPr/>
                </p:nvCxnSpPr>
                <p:spPr>
                  <a:xfrm flipV="1">
                    <a:off x="3295440" y="1078560"/>
                    <a:ext cx="648360" cy="252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29" name=""/>
                <p:cNvSpPr/>
                <p:nvPr/>
              </p:nvSpPr>
              <p:spPr>
                <a:xfrm>
                  <a:off x="3352680" y="688680"/>
                  <a:ext cx="38124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33520" y="4879800"/>
                <a:ext cx="8229600" cy="1032480"/>
                <a:chOff x="533520" y="4879800"/>
                <a:chExt cx="8229600" cy="103248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3520" y="4879800"/>
                  <a:ext cx="8229600" cy="1032480"/>
                  <a:chOff x="533520" y="4879800"/>
                  <a:chExt cx="8229600" cy="1032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3520" y="5217840"/>
                    <a:ext cx="2743200" cy="3405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Evaluació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962520" y="4879800"/>
                    <a:ext cx="4800600" cy="103248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457200" indent="-457200"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edecir Comportamiento Mcd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Agregar a los Individu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457200" indent="-457200">
                      <a:lnSpc>
                        <a:spcPct val="90000"/>
                      </a:lnSpc>
                      <a:spcBef>
                        <a:spcPts val="1001"/>
                      </a:spcBef>
                      <a:buClr>
                        <a:srgbClr val="000000"/>
                      </a:buClr>
                      <a:buFont typeface="Verdana"/>
                      <a:buAutoNum type="arabicPeriod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Conocimiento y Disponibilida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cxnSp>
                <p:nvCxnSpPr>
                  <p:cNvPr id="233" name=""/>
                  <p:cNvCxnSpPr>
                    <a:stCxn id="222" idx="1"/>
                    <a:endCxn id="232" idx="3"/>
                  </p:cNvCxnSpPr>
                  <p:nvPr/>
                </p:nvCxnSpPr>
                <p:spPr>
                  <a:xfrm flipH="1" flipV="1">
                    <a:off x="3295080" y="5406120"/>
                    <a:ext cx="648360" cy="5400"/>
                  </a:xfrm>
                  <a:prstGeom prst="straightConnector1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234" name=""/>
                <p:cNvSpPr/>
                <p:nvPr/>
              </p:nvSpPr>
              <p:spPr>
                <a:xfrm>
                  <a:off x="3429000" y="49557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33520" y="2212560"/>
                <a:ext cx="8229600" cy="2288160"/>
                <a:chOff x="533520" y="2212560"/>
                <a:chExt cx="8229600" cy="228816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533520" y="2212560"/>
                  <a:ext cx="8229600" cy="2288160"/>
                  <a:chOff x="533520" y="2212560"/>
                  <a:chExt cx="8229600" cy="22881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533520" y="2498040"/>
                    <a:ext cx="2743200" cy="172440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Refinamient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KT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&amp;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Ingenierí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lvl="1" marL="457200">
                      <a:lnSpc>
                        <a:spcPct val="9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6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Producció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962520" y="2212560"/>
                    <a:ext cx="4800600" cy="2288160"/>
                  </a:xfrm>
                  <a:prstGeom prst="rect">
                    <a:avLst/>
                  </a:prstGeom>
                  <a:solidFill>
                    <a:srgbClr val="ffff99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CL" sz="1800" spc="-1" strike="noStrike">
                        <a:solidFill>
                          <a:srgbClr val="000000"/>
                        </a:solidFill>
                        <a:latin typeface="Verdana"/>
                        <a:ea typeface="Times New Roman"/>
                      </a:rPr>
                      <a:t>Modelos de los Consumidore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267080" y="2517120"/>
                    <a:ext cx="4419720" cy="1913040"/>
                    <a:chOff x="4267080" y="2517120"/>
                    <a:chExt cx="4419720" cy="191304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4267080" y="25171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ercep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4267080" y="335520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29400" y="3355200"/>
                      <a:ext cx="20574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gmen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267080" y="4117320"/>
                      <a:ext cx="1828800" cy="31284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ec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cxnSp>
                  <p:nvCxnSpPr>
                    <p:cNvPr id="243" name=""/>
                    <p:cNvCxnSpPr>
                      <a:stCxn id="239" idx="2"/>
                      <a:endCxn id="240" idx="0"/>
                    </p:cNvCxnSpPr>
                    <p:nvPr/>
                  </p:nvCxnSpPr>
                  <p:spPr>
                    <a:xfrm>
                      <a:off x="5181120" y="2886840"/>
                      <a:ext cx="1080" cy="45000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4" name=""/>
                    <p:cNvCxnSpPr>
                      <a:stCxn id="240" idx="2"/>
                      <a:endCxn id="242" idx="0"/>
                    </p:cNvCxnSpPr>
                    <p:nvPr/>
                  </p:nvCxnSpPr>
                  <p:spPr>
                    <a:xfrm>
                      <a:off x="5181120" y="3724560"/>
                      <a:ext cx="1080" cy="37404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245" name=""/>
                    <p:cNvCxnSpPr>
                      <a:stCxn id="240" idx="3"/>
                      <a:endCxn id="241" idx="1"/>
                    </p:cNvCxnSpPr>
                    <p:nvPr/>
                  </p:nvCxnSpPr>
                  <p:spPr>
                    <a:xfrm>
                      <a:off x="6114960" y="3530880"/>
                      <a:ext cx="496080" cy="1080"/>
                    </a:xfrm>
                    <a:prstGeom prst="straightConnector1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</p:cxn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3276720" y="28983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276720" y="3812760"/>
                    <a:ext cx="685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3429000" y="244116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429000" y="3431880"/>
                  <a:ext cx="38088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1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0" name=""/>
            <p:cNvSpPr/>
            <p:nvPr/>
          </p:nvSpPr>
          <p:spPr>
            <a:xfrm>
              <a:off x="152280" y="76320"/>
              <a:ext cx="335304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33920" y="76320"/>
              <a:ext cx="5257800" cy="624816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0" y="6442200"/>
            <a:ext cx="9144000" cy="34056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CESO DE DISEÑO DE NUEV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70720" cy="53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707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B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baja con escalas ordin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entrevistado se le pide que elija cual es el perfil que prefiere forzando que se quede sólo con un perfil por compa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alibraciones de las preferencias se hacen usando LIN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20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concepto muestra perfiles de no más de 5 atributos (Casi siempre, son 2 ó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Éstos son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erfiles pa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pueden incluir hasta 30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fácilmente realizable en un software, aunque no hay 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sawsft.net/~demo/aca/acalogn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900" spc="-1" strike="noStrike">
                <a:solidFill>
                  <a:srgbClr val="9999ff"/>
                </a:solidFill>
                <a:latin typeface="Arial"/>
              </a:rPr>
              <a:t>Diseño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atributos seleccio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o más importante para realizar un buen análisis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n del objetivo del estu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=&gt; Incluyo sólo los atributos sobre los cuales voy a actu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cio y valor de marca =&gt; Incluir esos atributos (Pero deben ser independi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Cuántos atributo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ende de ciertos fac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bjetivos del e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 disponible para entrevi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rma de AC que se utiliza para recolectar l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A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Interacción entre atributo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udios asumen la no existencia de interacción entr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cepción impor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cio y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Solución: Atributo com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¿Qué niveles seleccionar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es deben ser exclu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da producto debe estar asociado a niveles ú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99ff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se puede aplicar dos niveles de un atributo a un mismo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posible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interpol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tre niveles, pero no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extrapo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9999ff"/>
                </a:solidFill>
                <a:latin typeface="Arial"/>
              </a:rPr>
              <a:t>TODO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PREFERENCIA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Número de Niveles por atributo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pectos a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entrevista más ext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ás niveles implican medición más detal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niveles =&gt;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99ff"/>
                </a:solidFill>
                <a:latin typeface="Arial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485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000000"/>
                </a:solidFill>
                <a:latin typeface="Arial"/>
              </a:rPr>
              <a:t>Modalidad de recopilación de datos: Entrevista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es modal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conjunto adap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: Mecanismo de Orden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mecanismo re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erfil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ES_tradnl" sz="2800" spc="-1" strike="noStrike">
                <a:solidFill>
                  <a:srgbClr val="9999ff"/>
                </a:solidFill>
                <a:latin typeface="Arial"/>
              </a:rPr>
              <a:t>productos ti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revistado hace ranking o rating de esos per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80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8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aración de tarje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Limitación en el número de 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Nºde tarjetas Min = NºNiveles - NºAtributo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195280" y="206064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Análisis de </a:t>
            </a:r>
            <a:r>
              <a:rPr b="0" lang="es-ES_tradnl" sz="4700" spc="-1" strike="noStrike">
                <a:solidFill>
                  <a:srgbClr val="9999cc"/>
                </a:solidFill>
                <a:latin typeface="Arial"/>
              </a:rPr>
              <a:t>los</a:t>
            </a:r>
            <a:r>
              <a:rPr b="0" lang="es-ES_tradnl" sz="5100" spc="-1" strike="noStrike">
                <a:solidFill>
                  <a:srgbClr val="9999cc"/>
                </a:solidFill>
                <a:latin typeface="Arial"/>
              </a:rPr>
              <a:t> Datos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pretación de las Ut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0 = Menos prefer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=/=&gt; Utilidad =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número en sí NO tiene signific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APS sí representan ganancias al cambiar niveles de atribu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Utilidades sólo son válidas relativas a ot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mportancia relativa de atribu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ortanci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segmentar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5715000" cy="48006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228600" y="1676520"/>
            <a:ext cx="2743200" cy="9144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Se puede descubrir información impor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2895480"/>
            <a:ext cx="2362320" cy="99072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Notar diferencia en preferencia de marc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rot="5400000">
            <a:off x="1028520" y="4076640"/>
            <a:ext cx="1066680" cy="838080"/>
          </a:xfrm>
          <a:prstGeom prst="rightArrow">
            <a:avLst>
              <a:gd name="adj1" fmla="val 50000"/>
              <a:gd name="adj2" fmla="val 31819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5105520"/>
            <a:ext cx="2666880" cy="15238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imulación: Relatividad de los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modelos para simular comportamiento de mercado, basado en los datos obtenidos 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ra elección (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irst choic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abilidad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intenta obtener “cuotas de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son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rel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rve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opciones del consum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denar preferencias por productos (perf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imulación: Preferencias exager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196720"/>
            <a:ext cx="808668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primera elección =&gt; Predicen comportamiento según selección que produce la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máxima ut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ultados </a:t>
            </a:r>
            <a:r>
              <a:rPr b="0" lang="es-ES_tradnl" sz="2800" spc="-1" strike="noStrike">
                <a:solidFill>
                  <a:srgbClr val="9999cc"/>
                </a:solidFill>
                <a:latin typeface="Arial"/>
              </a:rPr>
              <a:t>sobrevaloran la 1ª elección e infravaloran la úl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be a que modelos asumen que comprador </a:t>
            </a:r>
            <a:r>
              <a:rPr b="1" lang="es-ES_tradnl" sz="2800" spc="-1" strike="noStrike">
                <a:solidFill>
                  <a:srgbClr val="0033cc"/>
                </a:solidFill>
                <a:latin typeface="Arial"/>
              </a:rPr>
              <a:t>N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met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2720520" y="228600"/>
            <a:ext cx="3641760" cy="6448680"/>
            <a:chOff x="2720520" y="228600"/>
            <a:chExt cx="3641760" cy="6448680"/>
          </a:xfrm>
        </p:grpSpPr>
        <p:sp>
          <p:nvSpPr>
            <p:cNvPr id="256" name=""/>
            <p:cNvSpPr/>
            <p:nvPr/>
          </p:nvSpPr>
          <p:spPr>
            <a:xfrm>
              <a:off x="3162240" y="22860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urgimiento de la Neces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2240" y="13712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Búsqueda de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62240" y="3578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referenc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2240" y="4705200"/>
              <a:ext cx="3200040" cy="4597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Decisión de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62240" y="5486040"/>
              <a:ext cx="3200040" cy="11912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Sentimientos posteriores a la comp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"/>
            <p:cNvCxnSpPr>
              <a:stCxn id="256" idx="2"/>
              <a:endCxn id="257" idx="0"/>
            </p:cNvCxnSpPr>
            <p:nvPr/>
          </p:nvCxnSpPr>
          <p:spPr>
            <a:xfrm>
              <a:off x="4762080" y="107928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57" idx="2"/>
              <a:endCxn id="263" idx="0"/>
            </p:cNvCxnSpPr>
            <p:nvPr/>
          </p:nvCxnSpPr>
          <p:spPr>
            <a:xfrm>
              <a:off x="4762080" y="2221920"/>
              <a:ext cx="1080" cy="2034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58" idx="2"/>
              <a:endCxn id="259" idx="0"/>
            </p:cNvCxnSpPr>
            <p:nvPr/>
          </p:nvCxnSpPr>
          <p:spPr>
            <a:xfrm>
              <a:off x="4762080" y="4428720"/>
              <a:ext cx="1080" cy="267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59" idx="2"/>
              <a:endCxn id="260" idx="0"/>
            </p:cNvCxnSpPr>
            <p:nvPr/>
          </p:nvCxnSpPr>
          <p:spPr>
            <a:xfrm>
              <a:off x="4762080" y="5190480"/>
              <a:ext cx="108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3" name=""/>
            <p:cNvSpPr/>
            <p:nvPr/>
          </p:nvSpPr>
          <p:spPr>
            <a:xfrm>
              <a:off x="3162240" y="2435040"/>
              <a:ext cx="3200040" cy="8254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Lucida Sans Unicode"/>
                </a:rPr>
                <a:t>Formación de percepci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3" idx="2"/>
              <a:endCxn id="258" idx="0"/>
            </p:cNvCxnSpPr>
            <p:nvPr/>
          </p:nvCxnSpPr>
          <p:spPr>
            <a:xfrm>
              <a:off x="4762080" y="3285720"/>
              <a:ext cx="1080" cy="282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0" idx="1"/>
              <a:endCxn id="256" idx="1"/>
            </p:cNvCxnSpPr>
            <p:nvPr/>
          </p:nvCxnSpPr>
          <p:spPr>
            <a:xfrm flipH="1" rot="10800000">
              <a:off x="3152160" y="648360"/>
              <a:ext cx="2160" cy="5440680"/>
            </a:xfrm>
            <a:prstGeom prst="bentConnector3">
              <a:avLst>
                <a:gd name="adj1" fmla="val -240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57" idx="1"/>
              <a:endCxn id="256" idx="1"/>
            </p:cNvCxnSpPr>
            <p:nvPr/>
          </p:nvCxnSpPr>
          <p:spPr>
            <a:xfrm flipH="1" rot="10800000">
              <a:off x="3152160" y="649080"/>
              <a:ext cx="2160" cy="1143000"/>
            </a:xfrm>
            <a:prstGeom prst="bentConnector3">
              <a:avLst>
                <a:gd name="adj1" fmla="val -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2781360" y="2895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81360" y="4952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81360" y="4038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553080" y="2362320"/>
            <a:ext cx="304920" cy="2057400"/>
          </a:xfrm>
          <a:custGeom>
            <a:avLst/>
            <a:gdLst>
              <a:gd name="textAreaLeft" fmla="*/ 0 w 304920"/>
              <a:gd name="textAreaRight" fmla="*/ 11016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010280" y="3200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380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urgimiento de la Nece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15238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Búsqueda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730680"/>
            <a:ext cx="3200400" cy="8254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4857840"/>
            <a:ext cx="3200400" cy="459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Decis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5638680"/>
            <a:ext cx="320040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Sentimientos posteriores a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4" idx="2"/>
            <a:endCxn id="275" idx="0"/>
          </p:cNvCxnSpPr>
          <p:nvPr/>
        </p:nvCxnSpPr>
        <p:spPr>
          <a:xfrm>
            <a:off x="2133360" y="123156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5" idx="2"/>
            <a:endCxn id="281" idx="0"/>
          </p:cNvCxnSpPr>
          <p:nvPr/>
        </p:nvCxnSpPr>
        <p:spPr>
          <a:xfrm>
            <a:off x="2133360" y="2374920"/>
            <a:ext cx="1080" cy="20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2"/>
            <a:endCxn id="277" idx="0"/>
          </p:cNvCxnSpPr>
          <p:nvPr/>
        </p:nvCxnSpPr>
        <p:spPr>
          <a:xfrm>
            <a:off x="2133360" y="4581000"/>
            <a:ext cx="108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2"/>
            <a:endCxn id="278" idx="0"/>
          </p:cNvCxnSpPr>
          <p:nvPr/>
        </p:nvCxnSpPr>
        <p:spPr>
          <a:xfrm>
            <a:off x="2133360" y="5343480"/>
            <a:ext cx="1080" cy="28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533520" y="2587680"/>
            <a:ext cx="3200400" cy="825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Formación de percep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81" idx="2"/>
            <a:endCxn id="276" idx="0"/>
          </p:cNvCxnSpPr>
          <p:nvPr/>
        </p:nvCxnSpPr>
        <p:spPr>
          <a:xfrm>
            <a:off x="2133360" y="3438000"/>
            <a:ext cx="1080" cy="28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1"/>
            <a:endCxn id="274" idx="1"/>
          </p:cNvCxnSpPr>
          <p:nvPr/>
        </p:nvCxnSpPr>
        <p:spPr>
          <a:xfrm flipH="1" rot="10800000">
            <a:off x="522720" y="801000"/>
            <a:ext cx="2520" cy="5441040"/>
          </a:xfrm>
          <a:prstGeom prst="bentConnector3">
            <a:avLst>
              <a:gd name="adj1" fmla="val -240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5" idx="1"/>
            <a:endCxn id="274" idx="1"/>
          </p:cNvCxnSpPr>
          <p:nvPr/>
        </p:nvCxnSpPr>
        <p:spPr>
          <a:xfrm flipH="1" rot="10800000">
            <a:off x="522720" y="801000"/>
            <a:ext cx="2520" cy="1143720"/>
          </a:xfrm>
          <a:prstGeom prst="bentConnector3">
            <a:avLst>
              <a:gd name="adj1" fmla="val -1380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152280" y="3048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510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41911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922320"/>
            <a:ext cx="46483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99cc"/>
                </a:solidFill>
                <a:latin typeface="Lucida Sans Unicode"/>
              </a:rPr>
              <a:t>Formación de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individuo estructura las percepciones en p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El consumidor tiene una función de utilidad para los atributos (la satisfacción varía con niveles alternativos y combinaciones de atribu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20000"/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Lucida Sans Unicode"/>
              </a:rPr>
              <a:t>A través de algún proceso de evaluación se forma la actitud hacia l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ados en la forma en que uno siente acerca de 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a cómo actuamos cuando se nos presenta una oportunidad de 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CTITUD: tendencia general a responder favorable o desfavorablemente hacia un ob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 que haremos es traspasar las percepciones de los clientes a actit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 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Formación de Preferen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n dos tipos de modelos de actitu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NSATORI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a falta o deficiencia de algún atributo puede ser compensada con la presencia o exceso de o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O COMPENSATO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utilizan menos atributos, los cuales no pueden ser compens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676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cc"/>
                </a:solidFill>
                <a:latin typeface="Lucida Sans Unicode"/>
              </a:rPr>
              <a:t>Modelos de Ac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6T22:32:41Z</dcterms:created>
  <dc:creator>William Young</dc:creator>
  <dc:description/>
  <dc:language>en-US</dc:language>
  <cp:lastModifiedBy>William Young</cp:lastModifiedBy>
  <dcterms:modified xsi:type="dcterms:W3CDTF">2007-05-07T00:16:30Z</dcterms:modified>
  <cp:revision>12</cp:revision>
  <dc:subject/>
  <dc:title>PREFERENCIAS</dc:title>
</cp:coreProperties>
</file>