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69E0-B604-4640-9141-845AC48A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A5E4-EF7C-471A-B15B-42F5FB03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C4A1-1B97-403A-9802-0201777D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D48E-ACC6-46EC-B02A-BB485B0C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4642-CE83-4DF7-89C0-DDD042A8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7A23-B750-4CCC-BEF8-2500D46F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D401-F4C8-41D5-9FD6-67BCE407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FCD5-BC53-424B-A592-16E65A55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DCEE-56AD-40EE-A860-B1F424D3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8BA9-72CF-4674-90FE-9B44C2CD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B45F-5E27-4119-A1FF-5BA66848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85BD-3A29-4E14-B8D8-07408035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515A-493A-4EE2-AE6C-6A7A7C52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C01-260A-4706-816D-69C90A58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56B5-E40B-4BF8-A6C6-6D1C0332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748F-AAE5-4740-BF33-B9BE5812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4585-F700-4A1D-A5F8-A828EE50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4818E-829F-45AD-9959-5F41BA80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1A402-4CD8-43B5-8996-501F135D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4A4AC-BEF1-43DF-9491-0C0BF7FA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2BB5B-3C69-4D3A-BFAC-3E8D5523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7F1CD-1276-4057-9833-BEDDC2D5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BAE0-D8C9-444B-A789-E8D3154D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0F9F5-FBBF-431A-8F1E-4788D312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C831D-4ED2-4628-85EE-D7F15759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14BF1-D966-48E8-B327-F5A4AF49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A30A0-FC2F-4F3D-BACC-F5945A86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B096C-E699-45A2-B1F1-0DA82816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94098-3D6A-48A2-8847-211B0786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83E31-4075-4794-9E95-BB6A9E52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9BD5A-4FF6-4990-83FB-1E67792D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F0FBE-7DF5-4387-A72B-F99AA07D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DC275-7C90-4BEE-9DAC-6271D041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6183-F1A2-47B1-A8F1-F0506842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ECDD-F224-47B8-B545-2C486A95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A599A-932C-49FF-A0F3-734EE01C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6721B-412D-492F-B616-57FD6342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83470-EAC3-4D4E-8B88-4D6948A7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35761-7D78-4FF0-ADEF-2A1EB527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B510F-39F8-412F-9718-0B2183ED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5E7B5-5177-47F4-85E2-526D5E95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4B951-6937-4998-9A2D-4CDF97C9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9219-21A0-4787-B57B-A8D3989F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935D-67A2-4631-9364-39155634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6ACB-B165-4461-A809-112687EE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D361-0251-4EA4-BE8F-E12DED8F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29DC-B07A-46C2-9F94-49A94BC3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679F-774C-4A21-A60C-19259872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AAE7-AABF-4B63-BBBB-8C03EC8D0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4F62-DDEC-4450-9336-000EFF359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92AA-B730-4536-B865-C42262566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98DC-DDB8-4228-A31C-3F0A5C3C25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awsft.net/~demo/aca/acalogn.htm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274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IN58B - Ingeniería de Marke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00356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ff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 que objeto 0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lke y Pessem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edición de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k=1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br>
              <a:rPr sz="36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f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Cómo medir las preferencia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 de pelotas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las funciones de utilidad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oductos “tipo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: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tradicional. Las comparaciones se hacen en una escala de interva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diga el grado de preferencia entre dos perfiles o por un producto compl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"/>
          <p:cNvCxnSpPr>
            <a:stCxn id="219" idx="2"/>
            <a:endCxn id="220" idx="0"/>
          </p:cNvCxnSpPr>
          <p:nvPr/>
        </p:nvCxnSpPr>
        <p:spPr>
          <a:xfrm>
            <a:off x="6362280" y="1851120"/>
            <a:ext cx="108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20" idx="2"/>
            <a:endCxn id="222" idx="0"/>
          </p:cNvCxnSpPr>
          <p:nvPr/>
        </p:nvCxnSpPr>
        <p:spPr>
          <a:xfrm>
            <a:off x="6362280" y="4538520"/>
            <a:ext cx="1080" cy="32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3" name=""/>
          <p:cNvGrpSpPr/>
          <p:nvPr/>
        </p:nvGrpSpPr>
        <p:grpSpPr>
          <a:xfrm>
            <a:off x="152280" y="76320"/>
            <a:ext cx="8839440" cy="6248160"/>
            <a:chOff x="152280" y="76320"/>
            <a:chExt cx="8839440" cy="6248160"/>
          </a:xfrm>
        </p:grpSpPr>
        <p:grpSp>
          <p:nvGrpSpPr>
            <p:cNvPr id="224" name=""/>
            <p:cNvGrpSpPr/>
            <p:nvPr/>
          </p:nvGrpSpPr>
          <p:grpSpPr>
            <a:xfrm>
              <a:off x="533520" y="326880"/>
              <a:ext cx="8229600" cy="5585400"/>
              <a:chOff x="533520" y="326880"/>
              <a:chExt cx="8229600" cy="55854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533520" y="326880"/>
                <a:ext cx="8229600" cy="1470240"/>
                <a:chOff x="533520" y="326880"/>
                <a:chExt cx="8229600" cy="147024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533520" y="326880"/>
                  <a:ext cx="8229600" cy="1470240"/>
                  <a:chOff x="533520" y="326880"/>
                  <a:chExt cx="8229600" cy="1470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33520" y="768240"/>
                    <a:ext cx="2743200" cy="587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dentificación de la oportunida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962520" y="326880"/>
                    <a:ext cx="4800600" cy="147024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del Consumido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litativa para identificar tem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ntitativa para entrar a los model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28" name=""/>
                  <p:cNvCxnSpPr>
                    <a:stCxn id="227" idx="3"/>
                    <a:endCxn id="219" idx="1"/>
                  </p:cNvCxnSpPr>
                  <p:nvPr/>
                </p:nvCxnSpPr>
                <p:spPr>
                  <a:xfrm flipV="1">
                    <a:off x="3295440" y="1078560"/>
                    <a:ext cx="648360" cy="252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29" name=""/>
                <p:cNvSpPr/>
                <p:nvPr/>
              </p:nvSpPr>
              <p:spPr>
                <a:xfrm>
                  <a:off x="3352680" y="688680"/>
                  <a:ext cx="38124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33520" y="4879800"/>
                <a:ext cx="8229600" cy="1032480"/>
                <a:chOff x="533520" y="4879800"/>
                <a:chExt cx="8229600" cy="103248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3520" y="4879800"/>
                  <a:ext cx="8229600" cy="1032480"/>
                  <a:chOff x="533520" y="4879800"/>
                  <a:chExt cx="8229600" cy="1032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3520" y="5217840"/>
                    <a:ext cx="274320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Evaluació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962520" y="4879800"/>
                    <a:ext cx="4800600" cy="103248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edecir Comportamiento Mc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Agregar a los Individu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onocimiento y Disponibilida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33" name=""/>
                  <p:cNvCxnSpPr>
                    <a:stCxn id="222" idx="1"/>
                    <a:endCxn id="232" idx="3"/>
                  </p:cNvCxnSpPr>
                  <p:nvPr/>
                </p:nvCxnSpPr>
                <p:spPr>
                  <a:xfrm flipH="1" flipV="1">
                    <a:off x="3295080" y="5406120"/>
                    <a:ext cx="648360" cy="540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34" name=""/>
                <p:cNvSpPr/>
                <p:nvPr/>
              </p:nvSpPr>
              <p:spPr>
                <a:xfrm>
                  <a:off x="3429000" y="49557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33520" y="2212560"/>
                <a:ext cx="8229600" cy="2288160"/>
                <a:chOff x="533520" y="2212560"/>
                <a:chExt cx="8229600" cy="228816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533520" y="2212560"/>
                  <a:ext cx="8229600" cy="2288160"/>
                  <a:chOff x="533520" y="2212560"/>
                  <a:chExt cx="8229600" cy="22881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533520" y="2498040"/>
                    <a:ext cx="2743200" cy="172440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Refinamien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KT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&amp;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ngenierí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oducció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962520" y="2212560"/>
                    <a:ext cx="4800600" cy="2288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odelos de los Consumidor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267080" y="2517120"/>
                    <a:ext cx="4419720" cy="1913040"/>
                    <a:chOff x="4267080" y="2517120"/>
                    <a:chExt cx="4419720" cy="191304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267080" y="25171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ce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267080" y="335520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29400" y="3355200"/>
                      <a:ext cx="20574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267080" y="41173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243" name=""/>
                    <p:cNvCxnSpPr>
                      <a:stCxn id="239" idx="2"/>
                      <a:endCxn id="240" idx="0"/>
                    </p:cNvCxnSpPr>
                    <p:nvPr/>
                  </p:nvCxnSpPr>
                  <p:spPr>
                    <a:xfrm>
                      <a:off x="5181120" y="2886840"/>
                      <a:ext cx="1080" cy="45000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4" name=""/>
                    <p:cNvCxnSpPr>
                      <a:stCxn id="240" idx="2"/>
                      <a:endCxn id="242" idx="0"/>
                    </p:cNvCxnSpPr>
                    <p:nvPr/>
                  </p:nvCxnSpPr>
                  <p:spPr>
                    <a:xfrm>
                      <a:off x="5181120" y="3724560"/>
                      <a:ext cx="1080" cy="37404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5" name=""/>
                    <p:cNvCxnSpPr>
                      <a:stCxn id="240" idx="3"/>
                      <a:endCxn id="241" idx="1"/>
                    </p:cNvCxnSpPr>
                    <p:nvPr/>
                  </p:nvCxnSpPr>
                  <p:spPr>
                    <a:xfrm>
                      <a:off x="6114960" y="3530880"/>
                      <a:ext cx="496080" cy="108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</p:cxn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3276720" y="28983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276720" y="38127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3429000" y="24411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429000" y="343188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152280" y="76320"/>
              <a:ext cx="335304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33920" y="76320"/>
              <a:ext cx="525780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6442200"/>
            <a:ext cx="9144000" cy="34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SO DE DISEÑ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707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70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baja con escalas ordi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elija cual es el perfil que prefiere forzando que se quede sólo con un perfil por compa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usando LIN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wsft.net/~demo/aca/acalog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evistado hace ranking o rating de esos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56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56" idx="2"/>
              <a:endCxn id="257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57" idx="2"/>
              <a:endCxn id="263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58" idx="2"/>
              <a:endCxn id="259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59" idx="2"/>
              <a:endCxn id="260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3" idx="2"/>
              <a:endCxn id="258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0" idx="1"/>
              <a:endCxn id="256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57" idx="1"/>
              <a:endCxn id="256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4" idx="2"/>
            <a:endCxn id="275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5" idx="2"/>
            <a:endCxn id="281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2"/>
            <a:endCxn id="277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2"/>
            <a:endCxn id="278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1" idx="2"/>
            <a:endCxn id="276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1"/>
            <a:endCxn id="274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5" idx="1"/>
            <a:endCxn id="274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7-05-07T00:16:30Z</dcterms:modified>
  <cp:revision>12</cp:revision>
  <dc:subject/>
  <dc:title>PREFERENCIAS</dc:title>
</cp:coreProperties>
</file>