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whoosh.wav" ContentType="audio/x-wav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80493-D9CB-4D48-A321-F6DC8DB4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24E6A-8201-4EDB-A45A-4D4A9488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6C710-BC8D-4338-9824-05FCD11B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0D9CB-C9D8-4A72-8E05-EE8899C8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30CA-3ADF-4E6D-87BD-A17AE5FD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BF49-88D2-438B-BCC8-00BAE66D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6136-5A58-4F18-BED8-68B1C7DD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2F4F-524C-455F-B263-AAEA0C19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5A70-BEA6-435C-8266-ED5B5989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B711-A03A-4B2F-91C7-4503771F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285C-C158-4E7C-BAD9-714FB8F7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DA40D-0E9C-4478-8A3E-9B82BF6D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297E-D9BB-48D7-AA8C-A48EED31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BAB1-81D1-43E9-9B97-71F1E8B2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22C0-EA5C-41C4-A3E2-31B38D85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2796-E4DE-431B-9DCF-E4911A56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BAE2-CA99-4A77-9308-67F24FD1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2ADFD-A49C-44FA-A155-74751255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601593-D58E-4263-A996-E1B68228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3314AE-D989-4E0A-BBC4-C8F9FE02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76D099-427E-48EF-A8F9-F2399FB7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E9FFF9-E0A6-4DD0-99EA-4C64B32D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762A3-9925-4904-9F09-0853AB5C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1CA08-7B8B-498F-BF91-CD5D8E4C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EC6D1A-9717-4AC9-9A6E-184276E3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E2C86D-37CC-46AF-A3F9-BA4613AE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56974-FF5F-4B3F-8B1B-D8B6E328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9ED41-CB6F-4319-8AEA-68EF150B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DA9A73-F81F-493B-8660-9AAA00AB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3E0BF-A4EE-419D-9BD4-2B273E33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970B7-8B72-43C6-9447-801FA5DD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A1BB1-C359-42BC-B66C-4743B619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091C7-29CB-4153-9309-5E9CB75B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7D043-B5B0-4804-87D5-347FD1BE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9A67C-CD71-4316-AB45-E5C91FB1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1ED40-7CCF-4FF2-9BD6-08D228A9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23899-BC20-4A6F-BCAB-175AABA5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2277F-8671-4177-AE72-6C5AAD90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42C64-9082-446C-9310-A90B8789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79754-4006-4718-865C-0834F3BF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AD859-416E-4733-8FDC-FBE0DC52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C757F-7252-4A1E-8EAD-F08A8F01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EAF76-DE74-40F4-A06B-AC759948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C91F4-3FDC-4AA9-B283-C2ACEB84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49E52-F0BC-4702-AE15-6B8E8057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DDC8A-6270-4578-8237-3FD45794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E32F8-2A51-47B2-9142-392D145B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06024-7A49-43ED-8B1D-12F51374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000E-3986-44A6-913D-4B73349E31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EDCA-DBDA-4A14-9C69-4B471ABD44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28BB-11F0-42C1-AEA0-268BDAE9D8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1535-F48D-4E69-9FCD-0B24D39E09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sawsft.net/~demo/aca/acalogn.htm" TargetMode="Externa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3274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IN58B - Ingeniería de Marketing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00356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200" spc="-1" strike="noStrike">
                <a:solidFill>
                  <a:srgbClr val="ffffff"/>
                </a:solidFill>
                <a:latin typeface="Arial"/>
              </a:rPr>
              <a:t>PRODUCTO</a:t>
            </a:r>
            <a:r>
              <a:rPr b="1" lang="es-MX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os modelos sirven para modelar el comportamiento de un cliente que elige una marca sólo si cumple uno de sus atribu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 el producto es deficiente en cualquiera de esos requerimientos, entonces el producto es elimi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No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elemos lo anteri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nivel percibido del atributo k en la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umbral mínimo aceptable para atributo k,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 si la marca j es aceptable para el atributo  0 si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j = 1 si la marca j es preferida (váli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tonces se tendrá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 si 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si 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j =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No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52280" y="2209680"/>
          <a:ext cx="8762760" cy="4064040"/>
        </p:xfrm>
        <a:graphic>
          <a:graphicData uri="http://schemas.openxmlformats.org/drawingml/2006/table">
            <a:tbl>
              <a:tblPr/>
              <a:tblGrid>
                <a:gridCol w="1643040"/>
                <a:gridCol w="1800000"/>
                <a:gridCol w="2195640"/>
                <a:gridCol w="1905120"/>
                <a:gridCol w="1218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a 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 Gráf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 Dispon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 Mí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1523880" y="63244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(</a:t>
            </a:r>
            <a:r>
              <a:rPr b="1" lang="es-ES_tradnl" sz="1800" spc="-1" strike="noStrike">
                <a:solidFill>
                  <a:srgbClr val="3366cc"/>
                </a:solidFill>
                <a:latin typeface="Arial"/>
              </a:rPr>
              <a:t>No Compensatori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Se elige opció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Fishbein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actitud hacia el objeto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creencia  que objeto 0 posee en el atributo i (va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importancia del atributo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Fishbein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mbién está el Modelo de Fishbein Extend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N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C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NB=Creencia social norm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C=Mot.  a cump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de Valor Esperad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W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lke y Pessem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ados en composiciones, donde la utilidad total de un objeto se pesa como la suma de su nivel percibido de atributos y la clasificación de los valores asociados. Estos son juzgados por cada persona de manera explici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edición de Prefer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inferido o utilidad del producto j para el individuo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mportancia dada por el individuo i sobre el atributo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k=1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odelo de Valor Espe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unto i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se pregunta acerca de la preferencia por el largo de distintos autos, algunos responden que son muy largos o muy cortos, mostrando que tienen algún ideal de largo en sus m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de Valor Espe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actitud hacia los programas de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|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0" lang="es-CL" sz="3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actitud global hacia el program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creencia de que el program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osee en el atributo i (va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osición ideal en la dimensió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eso de la característica particular en la dimensió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distancia mé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95280" y="2413080"/>
          <a:ext cx="3744720" cy="2600280"/>
        </p:xfrm>
        <a:graphic>
          <a:graphicData uri="http://schemas.openxmlformats.org/drawingml/2006/table">
            <a:tbl>
              <a:tblPr/>
              <a:tblGrid>
                <a:gridCol w="863640"/>
                <a:gridCol w="1800000"/>
                <a:gridCol w="108108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r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centr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uerp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4789440" y="3356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00040" y="3818160"/>
            <a:ext cx="3538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 = percep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= importancia del atribu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 = A, B, C,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  = Concentración, Cuer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627360" y="2481120"/>
                <a:ext cx="2253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4427640" y="2251080"/>
                <a:ext cx="448308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dea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3541680" y="21376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alud de LP de muchas compañías está relacionada con su capacidad de 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esgosa y cos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debe considerar que el consumidor no siempre elige el producto o marca más preferido, existen otras variables que influyen (cupones, tratos especiale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LU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= probabilidad de que el individuo i elij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preferencia del individuo i a la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conjunto de marcas de consideración del individuo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257800" y="5334120"/>
                <a:ext cx="205740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ros mod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Logit mult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 V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3576600" y="2832120"/>
                <a:ext cx="176040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β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508200" y="4871880"/>
                <a:ext cx="205920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k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k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728640" y="2743200"/>
          <a:ext cx="7932600" cy="16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743200"/>
                    <a:ext cx="7932600" cy="16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28640" y="2743200"/>
          <a:ext cx="7929720" cy="33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743200"/>
                    <a:ext cx="7929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ar las preferencias como funciones de múltiples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idea general es que las personas definen su preferencia en función de varios atributos de la clase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Medición de Preferencias</a:t>
            </a:r>
            <a:br>
              <a:rPr sz="36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Otro</a:t>
            </a: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nfo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190440" y="533160"/>
            <a:ext cx="8724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pretende estimar una función matemática que mida el valor que un producto le da a un su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-&gt; utilidad -&gt; pref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f (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...........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onde n es el número de atributos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el valor del producto i en el atributo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El Proceso de Med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n general, dado que uno no conoce las funciones de valor parcial, entonces, se realiza una transformación para poder medir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190440" y="533160"/>
            <a:ext cx="8724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Función de valor par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4800" spc="-1" strike="noStrike">
                <a:solidFill>
                  <a:srgbClr val="000000"/>
                </a:solidFill>
                <a:latin typeface="Symbol"/>
                <a:ea typeface="Symbol"/>
              </a:rPr>
              <a:t>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jk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 si el atributo j está presente al nivel k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producto i y 0 en caso contr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ortancia relativa del nivel k del atributo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estimación de estas funciones se realiza mediante técnicas estadís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92240" y="0"/>
            <a:ext cx="80517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Arial"/>
              </a:rPr>
              <a:t>Ejemplos de Atributos y Niv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52480" y="1143000"/>
            <a:ext cx="6553440" cy="53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año de un envase de café 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150 gr         200 gr      300 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embolso Ambul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85%          70%          6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quipo de A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100 w        500 w       1000 w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ficultad del Desarrollo de Productos nue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agmentación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riccione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ricciones gubern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VP más c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Cómo medir las preferencia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 de pelotas de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 quiere comercializar una nueva pelota de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gún los clientes, las pelotas de golf poseen 3 características import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cance de la pelota (distancia que logra recorr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 medio de du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bién, se conocen los rangos de alternativas factibles para cada una de el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58440" y="4253040"/>
            <a:ext cx="1364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25520" y="3809880"/>
            <a:ext cx="1875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iemp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78160" y="4267080"/>
            <a:ext cx="150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511960" y="4253040"/>
            <a:ext cx="108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14280" y="478800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75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4880" y="478800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4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54440" y="478800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14280" y="524520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50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34880" y="524520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6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554440" y="524520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14280" y="568656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25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134880" y="568656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8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54440" y="568656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063960" y="3859200"/>
            <a:ext cx="1440" cy="86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63960" y="3859200"/>
            <a:ext cx="302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83120" y="3859200"/>
            <a:ext cx="1800" cy="86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983120" y="3859200"/>
            <a:ext cx="302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25360" y="3789360"/>
            <a:ext cx="59040" cy="2397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63960" y="4794120"/>
            <a:ext cx="1440" cy="132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63960" y="4794120"/>
            <a:ext cx="30240" cy="13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83120" y="4794120"/>
            <a:ext cx="1800" cy="132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983120" y="4794120"/>
            <a:ext cx="30240" cy="13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886440" y="3859200"/>
            <a:ext cx="60480" cy="232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184400" y="3789360"/>
            <a:ext cx="5762520" cy="6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184400" y="4722840"/>
            <a:ext cx="576252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84400" y="5202360"/>
            <a:ext cx="57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84400" y="5202360"/>
            <a:ext cx="570204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84400" y="5657760"/>
            <a:ext cx="57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84400" y="5657760"/>
            <a:ext cx="57020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84400" y="6114960"/>
            <a:ext cx="576252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133720" y="35053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1337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3848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199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467480" y="3505320"/>
            <a:ext cx="13716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3888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9343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934320" y="5410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6934320" y="5867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54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543800" y="5105520"/>
            <a:ext cx="11430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marL="78840" indent="-7884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 sería el “ideal” para el consumid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 sería el “ideal” para el productor***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886200" y="2819520"/>
            <a:ext cx="3819600" cy="866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68800" y="3084480"/>
            <a:ext cx="8312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10360" y="2801880"/>
            <a:ext cx="11422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95320" y="3084480"/>
            <a:ext cx="9151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dur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90320" y="3084480"/>
            <a:ext cx="6620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rec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38760" y="3395520"/>
            <a:ext cx="10706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275 yar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12080" y="3395520"/>
            <a:ext cx="8784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54 hoy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17680" y="3395520"/>
            <a:ext cx="6012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$ 1,2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53040" y="2849400"/>
            <a:ext cx="1440" cy="5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153040" y="2849400"/>
            <a:ext cx="19080" cy="51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419880" y="2849400"/>
            <a:ext cx="1440" cy="5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419880" y="2849400"/>
            <a:ext cx="19080" cy="51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75040" y="2806560"/>
            <a:ext cx="38160" cy="88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53040" y="3408480"/>
            <a:ext cx="1440" cy="24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53040" y="3408480"/>
            <a:ext cx="1908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19880" y="3408480"/>
            <a:ext cx="1440" cy="24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419880" y="3408480"/>
            <a:ext cx="1908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674120" y="2849400"/>
            <a:ext cx="39600" cy="84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913200" y="280656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13200" y="336564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13200" y="365112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3886200"/>
            <a:ext cx="7772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57600" y="4952880"/>
            <a:ext cx="3809880" cy="838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79800" y="520848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126400" y="4937040"/>
            <a:ext cx="1069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09920" y="5208480"/>
            <a:ext cx="855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585480" y="5208480"/>
            <a:ext cx="6210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53360" y="5510160"/>
            <a:ext cx="100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25 yar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14080" y="5510160"/>
            <a:ext cx="82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8 hoy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606720" y="5510160"/>
            <a:ext cx="564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$ 1,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921200" y="4981680"/>
            <a:ext cx="1800" cy="5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921200" y="4981680"/>
            <a:ext cx="190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84800" y="4981680"/>
            <a:ext cx="1800" cy="5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84800" y="4981680"/>
            <a:ext cx="190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46440" y="4940280"/>
            <a:ext cx="38160" cy="85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921200" y="5522760"/>
            <a:ext cx="1800" cy="2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921200" y="5522760"/>
            <a:ext cx="1908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184800" y="5522760"/>
            <a:ext cx="1800" cy="2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84800" y="5522760"/>
            <a:ext cx="1908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435800" y="4981680"/>
            <a:ext cx="39600" cy="81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84600" y="4940280"/>
            <a:ext cx="379080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684600" y="5481720"/>
            <a:ext cx="3790800" cy="4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684600" y="5757840"/>
            <a:ext cx="379080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36160" y="5867280"/>
            <a:ext cx="76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**Se asume que es menos costoso producir a menor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solución parece s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066680" y="3962520"/>
            <a:ext cx="7848720" cy="9144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 rot="10800000">
            <a:off x="4190760" y="4191120"/>
            <a:ext cx="1447560" cy="129528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114800" y="5715000"/>
            <a:ext cx="1676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7d"/>
                </a:solidFill>
                <a:latin typeface="Arial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7d"/>
                </a:solidFill>
                <a:latin typeface="Arial"/>
              </a:rPr>
              <a:t>v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685800" y="712800"/>
            <a:ext cx="7391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estimación de las funciones de utilidad se realiza mediante técnicas estadís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recolección de datos se realiza me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Análisis Conjunto requiere que el sujeto evalúe objetos en forma holí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 por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producto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álisis Conjunto (A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es A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écnica de Investigación de Mer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ee información acerca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o de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ones de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ment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ones de publi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cia o no de mercado para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C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Base del Análisis Conjunto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Recolección de trade-off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Estimación de “utilidades” para los atributos y nive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Predicción de preferencias de op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Productos “tipo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: Méto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herramienta provee 3 métodos para la realización de análisis conju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joint Value Analysis (CV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hoice Base Conjoint (CBC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aptative Conjoint Analysis (A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V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 tradicional. Las comparaciones se hacen en una escala de interva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entrevistado se le pide que diga el grado de preferencia entre dos perfiles o por un producto comple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alibraciones de las preferencias se hacen en base a regres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18" name=""/>
          <p:cNvCxnSpPr>
            <a:stCxn id="219" idx="2"/>
            <a:endCxn id="220" idx="0"/>
          </p:cNvCxnSpPr>
          <p:nvPr/>
        </p:nvCxnSpPr>
        <p:spPr>
          <a:xfrm>
            <a:off x="6362280" y="1851120"/>
            <a:ext cx="1080" cy="343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20" idx="2"/>
            <a:endCxn id="222" idx="0"/>
          </p:cNvCxnSpPr>
          <p:nvPr/>
        </p:nvCxnSpPr>
        <p:spPr>
          <a:xfrm>
            <a:off x="6362280" y="4538520"/>
            <a:ext cx="1080" cy="322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3" name=""/>
          <p:cNvGrpSpPr/>
          <p:nvPr/>
        </p:nvGrpSpPr>
        <p:grpSpPr>
          <a:xfrm>
            <a:off x="152280" y="76320"/>
            <a:ext cx="8839440" cy="6248160"/>
            <a:chOff x="152280" y="76320"/>
            <a:chExt cx="8839440" cy="6248160"/>
          </a:xfrm>
        </p:grpSpPr>
        <p:grpSp>
          <p:nvGrpSpPr>
            <p:cNvPr id="224" name=""/>
            <p:cNvGrpSpPr/>
            <p:nvPr/>
          </p:nvGrpSpPr>
          <p:grpSpPr>
            <a:xfrm>
              <a:off x="533520" y="326880"/>
              <a:ext cx="8229600" cy="5585400"/>
              <a:chOff x="533520" y="326880"/>
              <a:chExt cx="8229600" cy="558540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533520" y="326880"/>
                <a:ext cx="8229600" cy="1470240"/>
                <a:chOff x="533520" y="326880"/>
                <a:chExt cx="8229600" cy="147024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533520" y="326880"/>
                  <a:ext cx="8229600" cy="1470240"/>
                  <a:chOff x="533520" y="326880"/>
                  <a:chExt cx="8229600" cy="147024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533520" y="768240"/>
                    <a:ext cx="2743200" cy="58716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Identificación de la oportunida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962520" y="326880"/>
                    <a:ext cx="4800600" cy="147024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457200" indent="-457200" algn="ctr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edición del Consumidor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90000"/>
                      </a:lnSpc>
                      <a:spcBef>
                        <a:spcPts val="1001"/>
                      </a:spcBef>
                      <a:buClr>
                        <a:srgbClr val="000000"/>
                      </a:buClr>
                      <a:buFont typeface="Verdana"/>
                      <a:buAutoNum type="arabicPeriod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edición cualitativa para identificar tema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90000"/>
                      </a:lnSpc>
                      <a:spcBef>
                        <a:spcPts val="1001"/>
                      </a:spcBef>
                      <a:buClr>
                        <a:srgbClr val="000000"/>
                      </a:buClr>
                      <a:buFont typeface="Verdana"/>
                      <a:buAutoNum type="arabicPeriod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edición cuantitativa para entrar a los modelo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228" name=""/>
                  <p:cNvCxnSpPr>
                    <a:stCxn id="227" idx="3"/>
                    <a:endCxn id="219" idx="1"/>
                  </p:cNvCxnSpPr>
                  <p:nvPr/>
                </p:nvCxnSpPr>
                <p:spPr>
                  <a:xfrm flipV="1">
                    <a:off x="3295440" y="1078560"/>
                    <a:ext cx="648360" cy="2520"/>
                  </a:xfrm>
                  <a:prstGeom prst="straightConnector1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229" name=""/>
                <p:cNvSpPr/>
                <p:nvPr/>
              </p:nvSpPr>
              <p:spPr>
                <a:xfrm>
                  <a:off x="3352680" y="688680"/>
                  <a:ext cx="38124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33520" y="4879800"/>
                <a:ext cx="8229600" cy="1032480"/>
                <a:chOff x="533520" y="4879800"/>
                <a:chExt cx="8229600" cy="103248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533520" y="4879800"/>
                  <a:ext cx="8229600" cy="1032480"/>
                  <a:chOff x="533520" y="4879800"/>
                  <a:chExt cx="8229600" cy="10324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33520" y="5217840"/>
                    <a:ext cx="2743200" cy="34056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Evaluació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962520" y="4879800"/>
                    <a:ext cx="4800600" cy="103248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457200" indent="-457200" algn="ctr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Predecir Comportamiento Mcd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90000"/>
                      </a:lnSpc>
                      <a:spcBef>
                        <a:spcPts val="1001"/>
                      </a:spcBef>
                      <a:buClr>
                        <a:srgbClr val="000000"/>
                      </a:buClr>
                      <a:buFont typeface="Verdana"/>
                      <a:buAutoNum type="arabicPeriod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Agregar a los Individuo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90000"/>
                      </a:lnSpc>
                      <a:spcBef>
                        <a:spcPts val="1001"/>
                      </a:spcBef>
                      <a:buClr>
                        <a:srgbClr val="000000"/>
                      </a:buClr>
                      <a:buFont typeface="Verdana"/>
                      <a:buAutoNum type="arabicPeriod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Conocimiento y Disponibilida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233" name=""/>
                  <p:cNvCxnSpPr>
                    <a:stCxn id="222" idx="1"/>
                    <a:endCxn id="232" idx="3"/>
                  </p:cNvCxnSpPr>
                  <p:nvPr/>
                </p:nvCxnSpPr>
                <p:spPr>
                  <a:xfrm flipH="1" flipV="1">
                    <a:off x="3295080" y="5406120"/>
                    <a:ext cx="648360" cy="5400"/>
                  </a:xfrm>
                  <a:prstGeom prst="straightConnector1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234" name=""/>
                <p:cNvSpPr/>
                <p:nvPr/>
              </p:nvSpPr>
              <p:spPr>
                <a:xfrm>
                  <a:off x="3429000" y="4955760"/>
                  <a:ext cx="38088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533520" y="2212560"/>
                <a:ext cx="8229600" cy="2288160"/>
                <a:chOff x="533520" y="2212560"/>
                <a:chExt cx="8229600" cy="228816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533520" y="2212560"/>
                  <a:ext cx="8229600" cy="2288160"/>
                  <a:chOff x="533520" y="2212560"/>
                  <a:chExt cx="8229600" cy="228816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533520" y="2498040"/>
                    <a:ext cx="2743200" cy="172440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Refinamient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lvl="1" marL="457200"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KTG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lvl="1" marL="457200"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I&amp;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lvl="1" marL="457200"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Ingenierí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lvl="1" marL="457200"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Producció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962520" y="2212560"/>
                    <a:ext cx="4800600" cy="228816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odelos de los Consumidore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4267080" y="2517120"/>
                    <a:ext cx="4419720" cy="1913040"/>
                    <a:chOff x="4267080" y="2517120"/>
                    <a:chExt cx="4419720" cy="191304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4267080" y="2517120"/>
                      <a:ext cx="1828800" cy="3128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rcep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4267080" y="3355200"/>
                      <a:ext cx="1828800" cy="3128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ef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29400" y="3355200"/>
                      <a:ext cx="2057400" cy="3128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g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4267080" y="4117320"/>
                      <a:ext cx="1828800" cy="3128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e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cxnSp>
                  <p:nvCxnSpPr>
                    <p:cNvPr id="243" name=""/>
                    <p:cNvCxnSpPr>
                      <a:stCxn id="239" idx="2"/>
                      <a:endCxn id="240" idx="0"/>
                    </p:cNvCxnSpPr>
                    <p:nvPr/>
                  </p:nvCxnSpPr>
                  <p:spPr>
                    <a:xfrm>
                      <a:off x="5181120" y="2886840"/>
                      <a:ext cx="1080" cy="450000"/>
                    </a:xfrm>
                    <a:prstGeom prst="straightConnector1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244" name=""/>
                    <p:cNvCxnSpPr>
                      <a:stCxn id="240" idx="2"/>
                      <a:endCxn id="242" idx="0"/>
                    </p:cNvCxnSpPr>
                    <p:nvPr/>
                  </p:nvCxnSpPr>
                  <p:spPr>
                    <a:xfrm>
                      <a:off x="5181120" y="3724560"/>
                      <a:ext cx="1080" cy="374040"/>
                    </a:xfrm>
                    <a:prstGeom prst="straightConnector1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245" name=""/>
                    <p:cNvCxnSpPr>
                      <a:stCxn id="240" idx="3"/>
                      <a:endCxn id="241" idx="1"/>
                    </p:cNvCxnSpPr>
                    <p:nvPr/>
                  </p:nvCxnSpPr>
                  <p:spPr>
                    <a:xfrm>
                      <a:off x="6114960" y="3530880"/>
                      <a:ext cx="496080" cy="1080"/>
                    </a:xfrm>
                    <a:prstGeom prst="straightConnector1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</p:cxn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3276720" y="2898360"/>
                    <a:ext cx="685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3276720" y="3812760"/>
                    <a:ext cx="685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"/>
                <p:cNvSpPr/>
                <p:nvPr/>
              </p:nvSpPr>
              <p:spPr>
                <a:xfrm>
                  <a:off x="3429000" y="2441160"/>
                  <a:ext cx="38088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429000" y="3431880"/>
                  <a:ext cx="38088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0" name=""/>
            <p:cNvSpPr/>
            <p:nvPr/>
          </p:nvSpPr>
          <p:spPr>
            <a:xfrm>
              <a:off x="152280" y="76320"/>
              <a:ext cx="3353040" cy="62481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33920" y="76320"/>
              <a:ext cx="5257800" cy="62481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0" y="6442200"/>
            <a:ext cx="9144000" cy="34056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OCESO DE DISEÑO DE NUEV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370720" cy="53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3707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B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trabaja con escalas ordin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entrevistado se le pide que elija cual es el perfil que prefiere forzando que se quede sólo con un perfil por compa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alibraciones de las preferencias se hacen usando LIN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2000" cy="53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concepto muestra perfiles de no más de 5 atributos (Casi siempre, son 2 ó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Éstos son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perfiles par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n incluir hasta 30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fácilmente realizable en un software, aunque no hay muc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sawsft.net/~demo/aca/acalogn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900" spc="-1" strike="noStrike">
                <a:solidFill>
                  <a:srgbClr val="9999ff"/>
                </a:solidFill>
                <a:latin typeface="Arial"/>
              </a:rPr>
              <a:t>Diseño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atributos seleccion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lo más importante para realizar un buen análisis posteri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n del objetivo del e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.: Si objetivo es intentar determinar qué atributos un producto debería t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9999ff"/>
                </a:solidFill>
                <a:latin typeface="Arial"/>
              </a:rPr>
              <a:t>=&gt; Incluyo sólo los atributos sobre los cuales voy a actu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cio y valor de marca =&gt; Incluir esos atributos (Pero deben ser independie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¿Cuántos atributos seleccionar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 de ciertos fact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jetivos del 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 disponible para entrevi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 de AC que se utiliza para recolectar la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chos atributos proveen de exceso de información a los entrevistados (6 a 8 es ideal en el caso de las “Tarjet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A acepta 30 atributos, pues como es guiado, sólo hace preguntas parciales, usando entre 6 y 8 de los atributos to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Interacción entre atributo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udios asumen la no existencia de interacción entre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píricamente, se ha encontrado que muy pocos atributos interactúan entre s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cepción impor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cio y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Solución: Atributo com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¿Qué niveles seleccionar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veles deben ser exclu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da producto debe estar asociado a niveles ú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N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se puede aplicar dos niveles de un atributo a un mismo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posible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interpol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tre niveles, pero no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extrapo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go de niveles debe ser amplio como para cubrir </a:t>
            </a:r>
            <a:r>
              <a:rPr b="0" lang="es-ES_tradnl" sz="3200" spc="-1" strike="noStrike">
                <a:solidFill>
                  <a:srgbClr val="9999ff"/>
                </a:solidFill>
                <a:latin typeface="Arial"/>
              </a:rPr>
              <a:t>TOD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os escenarios po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FERENCI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Número de Niveles por atribut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pectos a tener en cue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ás niveles implican entrevista más ext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ás niveles implican medición más detall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niveles =&gt; Lo contr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ha comprobado que más niveles para un mismo intervalo =&gt; una mayor importancia relativa de ese atri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99ff"/>
                </a:solidFill>
                <a:latin typeface="Arial"/>
              </a:rPr>
              <a:t>Efecto se minimiza asignando igual número de niveles para todos los atrib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28600" y="485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Modalidad de recopilación de datos: Entrevista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dos los mecanismos de recolección son factibles, excepto las entrevistas telefó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ncipales modal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aración de tarj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conjunto adap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de tarjetas: Mecanismo de Orden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un mecanismo rea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 </a:t>
            </a:r>
            <a:r>
              <a:rPr b="0" i="1" lang="es-ES_tradnl" sz="2800" spc="-1" strike="noStrike">
                <a:solidFill>
                  <a:srgbClr val="9999ff"/>
                </a:solidFill>
                <a:latin typeface="Arial"/>
              </a:rPr>
              <a:t>perfil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ES_tradnl" sz="2800" spc="-1" strike="noStrike">
                <a:solidFill>
                  <a:srgbClr val="9999ff"/>
                </a:solidFill>
                <a:latin typeface="Arial"/>
              </a:rPr>
              <a:t>productos 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trevistado hace ranking o rating de esos per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3352680" y="3505320"/>
            <a:ext cx="5105520" cy="304776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819520" y="3657240"/>
            <a:ext cx="0" cy="68580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3657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62120" y="4038480"/>
            <a:ext cx="12952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f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28600" y="5257800"/>
            <a:ext cx="1828800" cy="99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tributos y niv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819520" y="4495680"/>
            <a:ext cx="0" cy="190512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19520" y="64008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19520" y="6172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819520" y="5943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19520" y="54864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19520" y="5029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449568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057400" y="57150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de tarje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Limitación en el número de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Nºde tarjetas Min = NºNiveles - NºAtributos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195280" y="206064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100" spc="-1" strike="noStrike">
                <a:solidFill>
                  <a:srgbClr val="9999cc"/>
                </a:solidFill>
                <a:latin typeface="Arial"/>
              </a:rPr>
              <a:t>Análisis de </a:t>
            </a:r>
            <a:r>
              <a:rPr b="0" lang="es-ES_tradnl" sz="4700" spc="-1" strike="noStrike">
                <a:solidFill>
                  <a:srgbClr val="9999cc"/>
                </a:solidFill>
                <a:latin typeface="Arial"/>
              </a:rPr>
              <a:t>los</a:t>
            </a:r>
            <a:r>
              <a:rPr b="0" lang="es-ES_tradnl" sz="5100" spc="-1" strike="noStrike">
                <a:solidFill>
                  <a:srgbClr val="9999cc"/>
                </a:solidFill>
                <a:latin typeface="Arial"/>
              </a:rPr>
              <a:t> Dato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pretación de las Uti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0 = Menos prefer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=/=&gt; Utilidad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número en sí NO tiene signifi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APS sí representan ganancias al cambiar niveles de atrib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tilidades sólo son válidas relativas a ot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429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mportancia relativa de atribu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5981760" cy="44956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 flipH="1">
            <a:off x="5181480" y="2971800"/>
            <a:ext cx="1067040" cy="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2286000"/>
            <a:ext cx="266688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100 x 57)/ (57+84+46+47+78) = 18.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5181120" y="4571640"/>
            <a:ext cx="1752840" cy="60948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0" y="4572000"/>
            <a:ext cx="198108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acto en la decis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5181120" y="5334120"/>
            <a:ext cx="1676520" cy="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5181120" y="5486400"/>
            <a:ext cx="1676520" cy="68580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1523880"/>
            <a:ext cx="4572000" cy="4572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lativos a atributos y 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00600" y="175248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105520" y="1752480"/>
            <a:ext cx="0" cy="53352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mportancia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segmentar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5715000" cy="48006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28600" y="1676520"/>
            <a:ext cx="2743200" cy="9144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Se puede descubrir información import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80880" y="2895480"/>
            <a:ext cx="2362320" cy="990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Notar diferencia en preferencia de marc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5400000">
            <a:off x="1028520" y="4076640"/>
            <a:ext cx="1066680" cy="838080"/>
          </a:xfrm>
          <a:prstGeom prst="rightArrow">
            <a:avLst>
              <a:gd name="adj1" fmla="val 50000"/>
              <a:gd name="adj2" fmla="val 31819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8600" y="5105520"/>
            <a:ext cx="2666880" cy="15238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Hay que tener en cuenta el nivel de segmentación para el cual se harán recomendacio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imulación: Relatividad de los 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gunos modelos para simular comportamiento de mercado, basado en los datos obtenido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era elección (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first choic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babilidad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intenta obtener “cuotas de mercad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 son </a:t>
            </a:r>
            <a:r>
              <a:rPr b="0" lang="es-ES_tradnl" sz="2800" spc="-1" strike="noStrike">
                <a:solidFill>
                  <a:srgbClr val="9999cc"/>
                </a:solidFill>
                <a:latin typeface="Arial"/>
              </a:rPr>
              <a:t>rel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rven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r opciones del consum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r preferencias por productos (per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imulación: Preferencias exager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2196720"/>
            <a:ext cx="808668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s de primera elección =&gt; Predicen comportamiento según selección que produce la </a:t>
            </a: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máxima ut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 </a:t>
            </a:r>
            <a:r>
              <a:rPr b="0" lang="es-ES_tradnl" sz="2800" spc="-1" strike="noStrike">
                <a:solidFill>
                  <a:srgbClr val="9999cc"/>
                </a:solidFill>
                <a:latin typeface="Arial"/>
              </a:rPr>
              <a:t>sobrevaloran la 1ª elección e infravaloran la úl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be a que modelos asumen que comprador </a:t>
            </a: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N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mete err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2720520" y="228600"/>
            <a:ext cx="3641760" cy="6448680"/>
            <a:chOff x="2720520" y="228600"/>
            <a:chExt cx="3641760" cy="6448680"/>
          </a:xfrm>
        </p:grpSpPr>
        <p:sp>
          <p:nvSpPr>
            <p:cNvPr id="256" name=""/>
            <p:cNvSpPr/>
            <p:nvPr/>
          </p:nvSpPr>
          <p:spPr>
            <a:xfrm>
              <a:off x="3162240" y="22860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urgimiento de la Neces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62240" y="13712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Búsqueda de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62240" y="3578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referenc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62240" y="4705200"/>
              <a:ext cx="3200040" cy="4597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Decisión de Comp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62240" y="5486040"/>
              <a:ext cx="3200040" cy="119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entimientos posteriores a la comp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"/>
            <p:cNvCxnSpPr>
              <a:stCxn id="256" idx="2"/>
              <a:endCxn id="257" idx="0"/>
            </p:cNvCxnSpPr>
            <p:nvPr/>
          </p:nvCxnSpPr>
          <p:spPr>
            <a:xfrm>
              <a:off x="4762080" y="107928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57" idx="2"/>
              <a:endCxn id="263" idx="0"/>
            </p:cNvCxnSpPr>
            <p:nvPr/>
          </p:nvCxnSpPr>
          <p:spPr>
            <a:xfrm>
              <a:off x="4762080" y="2221920"/>
              <a:ext cx="1080" cy="203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58" idx="2"/>
              <a:endCxn id="259" idx="0"/>
            </p:cNvCxnSpPr>
            <p:nvPr/>
          </p:nvCxnSpPr>
          <p:spPr>
            <a:xfrm>
              <a:off x="4762080" y="4428720"/>
              <a:ext cx="108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59" idx="2"/>
              <a:endCxn id="260" idx="0"/>
            </p:cNvCxnSpPr>
            <p:nvPr/>
          </p:nvCxnSpPr>
          <p:spPr>
            <a:xfrm>
              <a:off x="4762080" y="5190480"/>
              <a:ext cx="108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3" name=""/>
            <p:cNvSpPr/>
            <p:nvPr/>
          </p:nvSpPr>
          <p:spPr>
            <a:xfrm>
              <a:off x="3162240" y="2435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ercep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3" idx="2"/>
              <a:endCxn id="258" idx="0"/>
            </p:cNvCxnSpPr>
            <p:nvPr/>
          </p:nvCxnSpPr>
          <p:spPr>
            <a:xfrm>
              <a:off x="4762080" y="328572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0" idx="1"/>
              <a:endCxn id="256" idx="1"/>
            </p:cNvCxnSpPr>
            <p:nvPr/>
          </p:nvCxnSpPr>
          <p:spPr>
            <a:xfrm flipH="1" rot="10800000">
              <a:off x="3152160" y="648360"/>
              <a:ext cx="2160" cy="5440680"/>
            </a:xfrm>
            <a:prstGeom prst="bentConnector3">
              <a:avLst>
                <a:gd name="adj1" fmla="val -240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57" idx="1"/>
              <a:endCxn id="256" idx="1"/>
            </p:cNvCxnSpPr>
            <p:nvPr/>
          </p:nvCxnSpPr>
          <p:spPr>
            <a:xfrm flipH="1" rot="10800000">
              <a:off x="3152160" y="649080"/>
              <a:ext cx="2160" cy="1143000"/>
            </a:xfrm>
            <a:prstGeom prst="bentConnector3">
              <a:avLst>
                <a:gd name="adj1" fmla="val -138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2781360" y="2895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81360" y="49528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81360" y="4038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553080" y="236232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010280" y="3200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33520" y="380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urgimiento de la Nece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1523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Búsqueda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3730680"/>
            <a:ext cx="3200400" cy="82548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4857840"/>
            <a:ext cx="3200400" cy="459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Decis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3520" y="5638680"/>
            <a:ext cx="320040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entimientos posteriores a la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4" idx="2"/>
            <a:endCxn id="275" idx="0"/>
          </p:cNvCxnSpPr>
          <p:nvPr/>
        </p:nvCxnSpPr>
        <p:spPr>
          <a:xfrm>
            <a:off x="2133360" y="123156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5" idx="2"/>
            <a:endCxn id="281" idx="0"/>
          </p:cNvCxnSpPr>
          <p:nvPr/>
        </p:nvCxnSpPr>
        <p:spPr>
          <a:xfrm>
            <a:off x="2133360" y="2374920"/>
            <a:ext cx="1080" cy="20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6" idx="2"/>
            <a:endCxn id="277" idx="0"/>
          </p:cNvCxnSpPr>
          <p:nvPr/>
        </p:nvCxnSpPr>
        <p:spPr>
          <a:xfrm>
            <a:off x="2133360" y="4581000"/>
            <a:ext cx="108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7" idx="2"/>
            <a:endCxn id="278" idx="0"/>
          </p:cNvCxnSpPr>
          <p:nvPr/>
        </p:nvCxnSpPr>
        <p:spPr>
          <a:xfrm>
            <a:off x="2133360" y="5343480"/>
            <a:ext cx="108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533520" y="25876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ercep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81" idx="2"/>
            <a:endCxn id="276" idx="0"/>
          </p:cNvCxnSpPr>
          <p:nvPr/>
        </p:nvCxnSpPr>
        <p:spPr>
          <a:xfrm>
            <a:off x="2133360" y="343800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1"/>
            <a:endCxn id="274" idx="1"/>
          </p:cNvCxnSpPr>
          <p:nvPr/>
        </p:nvCxnSpPr>
        <p:spPr>
          <a:xfrm flipH="1" rot="10800000">
            <a:off x="522720" y="801000"/>
            <a:ext cx="2520" cy="5441040"/>
          </a:xfrm>
          <a:prstGeom prst="bentConnector3">
            <a:avLst>
              <a:gd name="adj1" fmla="val -240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5" idx="1"/>
            <a:endCxn id="274" idx="1"/>
          </p:cNvCxnSpPr>
          <p:nvPr/>
        </p:nvCxnSpPr>
        <p:spPr>
          <a:xfrm flipH="1" rot="10800000">
            <a:off x="522720" y="801000"/>
            <a:ext cx="2520" cy="1143720"/>
          </a:xfrm>
          <a:prstGeom prst="bentConnector3">
            <a:avLst>
              <a:gd name="adj1" fmla="val -138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152280" y="3048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51055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2280" y="4191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14800" y="922320"/>
            <a:ext cx="46483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l individuo estructura las percepciones en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l consumidor tiene una función de utilidad para los atributos (la satisfacción varía con niveles alternativos y combinaciones de atribu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A través de algún proceso de evaluación se forma la actitud hacia la ma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asados en la forma en que uno siente acerca de al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a cómo actuamos cuando se nos presenta una oportunidad de 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TITUD: tendencia general a responder favorable o desfavorablemente hacia un ob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 que haremos es traspasar las percepciones de los clientes a ac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Actitud 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Formación de Pre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 dos tipos de modelos de actitu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PENSATORI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falta o deficiencia de algún atributo puede ser compensada con la presencia o exceso de o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 COMPENS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n menos atributos, los cuales no pueden ser compens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Act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6T22:32:41Z</dcterms:created>
  <dc:creator>William Young</dc:creator>
  <dc:description/>
  <dc:language>en-US</dc:language>
  <cp:lastModifiedBy>William Young</cp:lastModifiedBy>
  <dcterms:modified xsi:type="dcterms:W3CDTF">2007-05-07T00:16:30Z</dcterms:modified>
  <cp:revision>12</cp:revision>
  <dc:subject/>
  <dc:title>PREFERENCIAS</dc:title>
</cp:coreProperties>
</file>