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82D22A-47B9-45A1-97E3-B94334B3566B}"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8DE16-A811-431F-9745-6E93BD0F86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74DD803-D38B-4B21-8017-0D3A87473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70A374C-A8B3-4047-9413-C8CA601196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C1C2F3B-57E4-42CF-AED8-33C81BF5F8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7FADFC-E7C0-4288-B11F-5051A3EDB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A691A49-DF45-4BBC-B971-B1E17D5344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819282B-DA64-43DB-8FB7-1A1BC9FD2F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EC85EF4-93EC-447A-A142-427DE1AB7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A7B38F97-E441-45D2-A56C-C3165E888C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F562A89-8301-42DC-BE05-80E1A14EA0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6007281-D0D5-4BED-B193-3534796DDB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930A45F-64B7-4A7F-BDC5-6381CC276C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FE65C78-8082-4DD7-BE66-981F41132E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010C108-2AC8-4CC3-BBCB-21900BEF57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16F3BA9-ED55-4CC3-ACC0-B51262F60C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ED1C5E5-1244-4E02-9CE8-366FC3EA8D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793612EF-55D7-4E15-9A4C-6EE3CEB3A1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BB9D3C1-5C9E-4A78-A1F9-93F155C6E9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428EB4B-F6E0-455B-9177-8942E2CD5D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876B9646-AFC8-4A5C-A8C0-88C56B794F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6951777-EF7F-4BA0-AEB1-84A1FD221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5AAC024-EEBB-499B-9E06-CE4E61C19D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F89060B-870E-4793-93CB-3E0DBDBCE7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79B0F0C-E272-42B4-8868-045F0F668F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B86F-33C9-4A20-A9B9-25A004C9F9A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1D6E-ECAD-4C92-A549-C8D7339B2BA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5E39550D-81F0-4099-B529-81CCF2F028F2}"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50A19A4-C472-4424-B579-C89C6D9855BC}"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E7993006-B138-4752-9945-6B1BE1920E51}"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F94ECAF-49DC-45A0-8864-22E0598B689F}"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AAA21388-E851-44B6-B008-A442D80BC4CF}"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29AC74E-16F4-4822-A6A5-1A2FBC029700}"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8DF9E237-B57E-4461-A267-E8BCB2FC55C9}"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52252F73-6361-42E9-A466-601C3E4F20B5}"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209B0D31-676E-49EC-8E34-D351BF1B61EE}"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ADF33AF1-F849-4232-97F0-29F623583B2A}"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6309621-5E93-4436-8E59-B80D10A18E56}"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92AA024-5859-44F3-832E-403686E5C0EF}"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22EE581-EE46-4D6A-B62C-285BE01ADA57}"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ADA8B103-51F8-4068-B484-F425AE9F350F}"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998DE96F-F025-4B36-8913-5ED660E86DA4}"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982F39A-D14B-4265-B749-4E7BB056E08C}"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75B07B15-2063-4B4A-9869-D677E8770EF1}"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68434BE4-6897-479A-B3E3-78EDA12EB7F4}"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D73D9F7-55BA-461D-9966-7C40FDF397D2}"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7FD282A0-EFAF-451D-88D6-D9E4B2DDA139}"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DE7E39-0DE2-4CC4-8E1A-3DBE342B8C10}"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725BA89E-F85E-446C-BD97-87E92DD03BD0}"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28DFCA-A269-447C-A275-3C84CB6CBCAB}"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563C06D-E8F1-47F4-9DA9-32A95AC9B1C5}"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BD8A43EA-991B-46AD-B2C4-9E05D7325CED}"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4466210F-DA1C-407D-BD83-9A19050A6F56}"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0AF4D321-9D02-4EEA-8887-7C0D2D8855C7}"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FBAA8F7E-099F-4F04-9281-0D7545F22486}"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12CD438-B7A9-4005-92A8-F794542A2A92}"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7F35964-77EB-49FE-A419-82603478A5A9}"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79F5257-88C6-4E1B-BBE3-07D0B1AA378B}"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BA6BF256-122D-4AA8-8A2A-661DDE012AC3}"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D9E396C5-491C-4043-B881-3633FC8990B9}"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61BA5FC-4A16-4B30-9750-E0D4D2F93098}"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CB7D514-7CD7-4C2D-BA23-15FDBFD0D3B1}"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CA24922-3EC5-4444-932D-BC371856EB4A}"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perceptuales y nivel de ajuste</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606920"/>
          </a:xfrm>
          <a:prstGeom prst="rect">
            <a:avLst/>
          </a:prstGeom>
          <a:noFill/>
          <a:ln w="0">
            <a:noFill/>
          </a:ln>
        </p:spPr>
        <p:txBody>
          <a:bodyPr lIns="90000" rIns="90000" tIns="46800" bIns="46800" anchor="t">
            <a:normAutofit/>
          </a:bodyPr>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i bien el número de dimensiones es el mínimo posible que tenga un ajuste razonable, lo que habitualmente se busca es imponer las distancias entre objetos, en una estructura de dos dimensiones (graficar objetos en un plano) y evaluar si esta estructura alcanza un ajuste razona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nivel de stress ≤ 0.1, suele ser un valor de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A4994C4A-C069-4242-8EFB-9FC243359D52}"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3478A83-04EB-4347-8598-1E0C651C2A10}"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0E975E4-7257-4861-9088-79AE63124953}"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10C7E6EB-277C-46D8-9D21-413809FFBC7C}"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C48102ED-58B1-4445-BA62-3F9C7B6512F7}"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40D7FE92-9592-47EF-9BA5-23E8470FB4D4}"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A5D1D708-7168-4C66-A08D-4FD914E92713}"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B22E0C6-C0D2-465D-8B93-F9CE64DF90A4}"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8837002F-4320-4A42-85B3-A78CF04CBB56}"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042498B-9387-4E6D-92E3-19D4198FF1E8}"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25C676B-C452-4B26-8442-D79F8C6BA5EB}"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C88C682-10AC-416E-9042-7135ADE0A206}"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9-13T22:55:56Z</dcterms:modified>
  <cp:revision>947</cp:revision>
  <dc:subject/>
  <dc:title>Propuesta Modelo Evaluación Impacto Programa Capacitación</dc:title>
</cp:coreProperties>
</file>