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C0BB2-9948-4400-9513-3F1B7278B0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31D0AF4-7911-4866-9040-2A64DBD08A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433E2F9E-2196-4D94-BBAF-6CE47A68FE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A870803-6819-4174-9A47-D408BA071D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CDB1F0-4485-4699-8FCA-2CBB5A00F0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0FC9799-0AB0-4A0A-825F-28E843AEC5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9FECF229-22EA-4208-8764-5DC5BC574D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0D7C474-DD9B-4088-B310-B5C4956920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08F23718-93B6-47F1-BAB6-EE8A106460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24E406F6-FA7A-4538-8CB7-1684A27DC6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E719FCB-784D-4A4B-96CA-561D75F40B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558417E-109A-4B32-816E-25D0B2CE5D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5DE8EE7-B60B-4524-954A-A87464B259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DAD6659-4F75-4AF2-A248-F7AECE93CC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36BE56C-8ECB-4FAA-A69C-DFDC58988B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29D3163B-7C52-4B4F-B07C-0E6C672516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1688C351-E83C-4D14-B4DE-01EAAB7495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D419CD7-A94C-4102-AC36-F53F3B7596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B72C768-3871-42EC-992E-E24B69CA41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8AA07633-6F4F-45FF-8012-FEBB6318D0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8138B34-650B-4497-8D36-F1857D1ADE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9090DEB-A4B8-44B2-B981-A98C04C8D1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8A2BDC7-E366-4FE7-8EB1-5032A7250D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75DC24A-F748-452E-94F5-0BBB47CD49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40AB-12FA-4460-807A-C90FF18E2CD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55C9-B94A-4594-9E3B-05C01E3F1F2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A2A7F0C2-E47C-45C8-B705-1DCE80A8030C}"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01DEA95-2353-4612-BECD-3A251179834F}"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CEBBA85-081A-433F-B1C0-6DB6E5C79CD0}"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70B0D6EE-F219-4E58-9D2B-DB9D852C37E1}"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DC5E3218-9F7F-4186-926B-1438AE5A7228}"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F8FC3F4D-D37C-4677-9D82-C10C53E2C84E}"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EA29C33-40EF-4F60-9C5D-8F0E2E5268AB}"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C01FFCD-49A3-43CC-B77B-A2AB7F545671}"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0F1BEF2-0435-4659-A870-0F24CEEDF739}"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CA40F45-A7E9-4730-AA3B-7DE8B9C87CD3}"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25A25844-E79F-4422-858D-60BE99A2BFC4}"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6E318159-B97A-49D4-B909-0DE6B1FBF936}"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4AA94801-0C66-4CFB-8795-043FFD247FB6}"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6C662547-4D1E-4E94-BFB6-D98FD702E67E}"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551CB84D-164F-4014-8755-DE886D373F00}"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3678B834-F15E-4FC4-A96A-3E9F103B6C5C}"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9CA9D4E7-5251-4886-81E0-8F282F587FAB}"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09390FAA-8505-4F9E-8038-BCDCB1E30835}"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17856BDD-2288-4464-8DAE-0438F82E111D}"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B2006EC-5653-4F4E-91D5-0A0EDD84FB69}"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F318CF9-AAF5-4502-8DED-37D987A2AA8E}"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7DCF567-094B-4AD8-8601-F400E9CA22F2}"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06F4112-B971-4F98-B278-8852E62E9CF5}"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5423D14-F24E-482E-BE78-78A2F428C147}"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6B27154A-B2E7-4934-930B-7AB7F1AF2351}"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62FB569A-4A14-41CC-892E-62DE647FFEAA}"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A5BB0C3-5217-46BC-806B-5F9F802EDB46}"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1999487-BE07-444B-943D-3A560E8A045C}"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468B22BF-A9EF-48E0-B6B6-6BAA06A99F9B}"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20E8A82-2D3D-45B6-8DEB-B4D4BDB1301E}"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9CBD8E2-3ABF-4D6A-AD84-8FE1842198E1}"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B73F7726-22A3-4C26-861D-6B473FE42D1B}"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B3B82A6-8739-493F-B4B4-43A5006A30DC}"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EC3E048-4B7C-486C-9636-02B720E1A152}"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33C9B3E2-4750-4CBC-89DA-E18A88860BE9}"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5DD07177-8B12-4720-B598-A8777C17A7E4}"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5F86A290-A22B-45AB-9C44-25142246FE1B}"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FEE44C2C-DBAC-4DFE-8F1A-9C7877C0A0F8}"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C1778115-5478-4D02-B636-A7342A44B303}"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2A1F4ADA-F031-48CE-9B39-1C2FDAE96880}"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42B5605-9608-4539-A36F-1B6106344235}"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4F67578-6009-4263-BFF4-0B58EDB7804D}"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8B1AC0AE-66AC-4B61-9FC3-6E069FB074DD}"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A9D5CE34-428A-4525-B518-45173F0C3FA8}"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9F00898C-D7A5-4725-8367-D10306148746}"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EB26D97-1114-4FC9-8059-A0EA48E6A2F2}"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91D5461-E2B9-4BB5-A4EA-F9AE58D87B5F}"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EB8B0E1-83BF-4596-9E2C-B43BB349C888}"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6963AC1-631B-4435-9212-600581945BB9}"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ECCA459-B975-48C4-BC02-6B1A24AB1052}"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E1170B8A-CA38-4CAF-80B7-601A5B64D859}"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005B22C4-038B-48A7-ABAE-476861ECEE3C}"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BCABE1A-B0F8-419C-8408-8ADB0B554E48}"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0303F137-C9E5-44D8-92C3-794BAEC0E683}"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8529488-3C97-4F7D-AC4B-69868CDDF446}"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C8913A5A-50D0-41B1-9C7F-71FB04208F19}"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BE5A1B5-5556-43F5-98AD-7A31FEE7F698}"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82AF480B-6321-4559-9B94-548988766CC9}"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D9A3042-BC47-4DAD-80FD-AA0FA8B7717C}"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D8794EC-2B4A-4BD4-BFC8-319A5C4D17F8}"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CC249F48-B104-40EF-9EFD-C5ECCDD8B474}"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64810AD-0FAE-48B4-B7C9-86A6B6412177}"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0E74002-357B-497B-8D5E-35839AA09BBB}"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9798B885-6542-423D-9AB8-0A3E927E31DF}"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5AFFA9EC-28B0-4007-ABCD-14DAAC8E329A}"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7C0E6A6-3624-482F-835E-AC7359213D97}"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E254C53-0B04-44DD-916F-53E646203EDA}"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7DEE3DF-2F3C-4032-AF67-CED91044C9B8}"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607A907-E154-425C-AE30-BE8097B347AA}"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6C3039FF-A845-485A-BCD5-7C9C113EB477}"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DEB1D95-A4DE-46B6-AC45-5C0EA7E98B64}"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A6CD4DC-6C9E-42DE-8F53-CCD4C2E687E8}"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DD5705C7-34C8-4E75-834E-37CB5CAA9AF5}"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D0259F1-E652-4A1F-975C-DB6C5F0D603A}"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9EB4891-90C4-437F-82DC-5AC0F0C14910}"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