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273B3-5EB9-46D7-A2ED-36542A40A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FD3B084-6C88-4FBB-A003-82B048B477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772E5D8-FDA7-4BCA-80B4-D257335E6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A3F9ED1-04E5-4199-A6D6-E1E1E7C53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16C4CE-F143-4A1E-9429-6B93D1206A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C74C6D7-96F3-4C28-9843-2B953B5D40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4D45527-AA4B-4EF9-AFE9-B4C59D53EB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C7D733E-5B29-4DBF-8515-C7F4531E9D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661A7076-ACDB-4690-B746-5F276E060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38D50803-95B1-4B45-88FF-AB7DEA962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46E072C-937A-4822-A86F-56FAE746BA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2AB09C8-AA1A-4D76-95F9-94EAF4D60C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16D181F-C3AE-4683-86D7-3FBA89E0A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6B5A61F-6507-4B1B-8B63-15ED8F8F8A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15CE071-4D9A-4A85-AD4E-CD5280621D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11EEDD6-FE2A-4215-BA23-4E68262C49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275CC56-C245-45F9-857D-590BD6A5CB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FB798CB-EAF2-47CD-9141-DE665B046F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8CEE598-304D-41A3-A0F5-BB084C67BC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F54FC5A6-8C3F-4E60-8BFF-28AB4977BC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ADE162A-6C58-4C46-B1E5-A77BCCC6CC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1305C8-BC3B-46A0-9189-AB3055A25B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B72896-94A2-4A2F-8B20-9D798AF03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4891DC3-3EDB-419B-AA07-A80E13A6A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E014-50A0-474C-A8D1-B3E84CD9B35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24F0-6DE9-4FD4-9CCB-CF79A43CD5A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4F6F31E3-4B98-479E-9E3F-7BEA829B1036}"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7E2BE32-BB61-4C50-B74F-71CA816D2CB0}"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D2D790E-0DF9-488A-AECA-F485FAC94B14}"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1F1F41BF-5903-409E-A3FA-678D65D3A56E}"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C90DA2F-3CE7-40F5-955B-530895EEF960}"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73D93B66-0D0D-4422-876C-43E2659B8934}"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7671B01-7AFC-47FC-8592-85321D0F4889}"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7D5B2E5-1058-437D-A219-639231DA343A}"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7AC5CCF-D300-46CE-894C-ACF4B8373D71}"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5EFF6E9-50F8-499A-81E6-2811AAAB92DD}"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34EBF889-04C5-4DE0-8CC9-AD46CF7F056B}"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414A7F05-1E3E-4E38-987C-AE41DB8F7CE5}"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0A9ADB21-DB12-43A0-9C44-AB2670A1CFD6}"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17AFAFF7-CA62-4FAE-83BE-5E8330DF2BEA}"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800A6C6-D0DB-45A7-89C4-220440D28FFD}"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E0171002-B67C-44E2-88C3-C4DC2C642DC8}"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EEF6F401-2737-4EE7-9529-5830EF52771A}"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FFB2100B-A485-4ADF-BDD5-69139BFE3724}"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59C0A8DD-0B15-4E84-AD98-29C48B3956F2}"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04923A2-9718-440A-9182-256E50401D21}"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11BB13C-0DB1-4B32-9C79-86AF4A58B25A}"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3C29E85-658F-4938-9329-503E3E90D381}"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A90C886-1DFF-4D91-840C-8DAEB444A0BF}"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4B4C092-02C1-4525-AC7A-D958A3BC729A}"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CFBEB0E3-DB2A-4DDE-9659-65DEBBBB7616}"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AEE1FAB2-5F22-48BA-8F0D-D9ADDD859108}"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5C10D91-5C24-46E5-B604-0CA2A7E7E176}"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DE19756-3B99-4670-A9CA-91785C481790}"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2A297C59-ECB0-42FB-86BA-FC0728BBA809}"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68BC87A-A2CF-4988-BDB4-BEB0393BBAB3}"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893CC96-F673-4355-9D9D-A131CB0EBBAE}"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1104E954-45DD-4A71-828A-A2A0E9FC0442}"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461240A-196F-4534-811B-FC9C2F5032C0}"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B99C0CD-A6A3-45F1-BFFA-48DE3394A460}"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0ADFE42A-CB16-4ADB-B531-715CED763495}"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97D0FCFD-C5BE-4E51-B5D5-D2DF0BC2A915}"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5ADBF2D1-F4C3-492C-A6DC-3A13F0A2F7E9}"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987AB039-424C-4DCA-A880-978CCB042053}"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7C7D83D1-556D-4F25-8EDB-24B4A7053FC1}"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3239D433-14A4-46A8-A026-95FACD211EDB}"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A683FEC-9674-4F5F-A9AB-695DE8065E5C}"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0B4A739-F709-4A9C-8080-D1902CCFB804}"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B7E22F0-379E-4E13-A01B-776AEBDCDC66}"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D76B9F7B-70FC-4C2D-9E3F-7C9342F61418}"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8674880C-E024-41BD-AE62-12D27E383AAF}"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396EA3C-5B2B-4112-9470-37DEF6318602}"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64B01D9-FCE8-40AC-BDEA-F7F54BD60AD1}"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3C05E88-6CF0-4674-A14D-B65D71BD6D6C}"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2CC2C6A-81D9-47A5-B65A-528CDE844890}"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25401F6-7E85-4382-913C-AD53A67CF715}"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D7B7A9E5-0E67-4A34-BA88-6A11D300D40C}"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B7C8F21-CFA6-4B03-BB53-F84ACB0AF595}"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5B0CB7-8A9F-4B7C-93AC-211D4E407D58}"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AC4732A7-B265-4860-8AD7-95E2CF2C3DAD}"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A53FF09-6418-42AE-A65E-26260B2B0E54}"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5C768173-7F4E-4AC6-B12B-5CDEE6A27D91}"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C25BBB9-6932-4B1E-B7B4-8E7C7E0E1DA1}"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8DA1A125-2495-40A1-A569-72C365B4CAF2}"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5EBA4D3-90C2-4DA0-A612-A793CAE16265}"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1F96BA-B794-4C12-B5AD-D3C77C0F3AEC}"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AF9983A-7ED4-49FE-9AD0-F547F856540A}"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D91E75C-17EE-4074-AE64-6DDC76EE5983}"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6975A1F-2018-4675-A0EF-F1D744F77F65}"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491DDD19-0A38-45B0-B6AA-E92D2EAB1A00}"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AA7DB83A-B997-4F20-9189-AD75DC17BB3D}"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B64EE24-5C6E-488B-B7DE-495477EB84D0}"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FE6B44C-9D8A-4729-B707-75FC6777C6CD}"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9F88D24-5F1D-4778-9626-F5DC6D7450CC}"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FF24B1C-7DBB-47B8-99A6-77411DB8331F}"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BDF3DE5-7B17-4C4D-AD19-5974577186EF}"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A8E1C8F-DC0E-4E01-ABC0-13194F7342D4}"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7980DFC-5207-401E-A2C4-191FF3E1A385}"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902BBAC9-E4DE-4EAB-BDA0-D85CC3B5C8DF}"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9A23A3E-02DD-408D-AA2A-6F19BEA0272F}"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B5E7E5F-4336-4176-82DA-E21EF6AAAFE4}"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