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E3CAA-45EE-45B6-9710-34C2926E74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8605509-CA2B-4001-BC56-B663664469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08FCCF2-C991-40A0-86C3-111E0BD4E7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DC48D23-FF87-4047-8159-E676431CB1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F34328-067B-490A-B61A-3201E56911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69E9F93-266E-4FA4-9E6E-4BBEEA3D2B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8CBAD0F-1620-4E79-9982-EF8027E256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7AD89CC-9579-4207-A05A-E93FD6D4E8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1CE16569-8678-44AF-983D-EEFCC62A38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B99A268-4E1F-49AF-AC07-BCDA168558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7A88B4E-AF89-4116-A86A-D8F7A729F9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0A079BC-9DDB-4918-9C38-59AA4E1CD5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D804CDF-3AA9-4BF0-9DEE-3B3E2912E8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7A37815-E832-43C8-A4A3-D6806F994F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B6846AA-D56D-4D5D-8DD3-418E0F008B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A1D51F73-0E32-4637-923F-E0DA1F8DB8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A3616CCB-7F04-4F30-A5C6-75E46FC636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0A7CC62-1DCA-47AB-A609-8758A8730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833070A-391F-4E53-8D3F-8030FB59D9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566A9292-A742-4108-93CA-438037A9A0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8BF4000-7E03-4699-9C10-60BF091D82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5DB3E91-C144-47C6-9E49-12584D02C7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FFD2D3A-9E60-413A-94C9-71FFF4EE31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D1DCD3B-F944-4CA3-A0DF-98AFCABEF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0604-EF23-475E-B7B8-4C11ECB8B33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25DF-E42E-4BEB-B169-188CCC373D6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36BDE771-C2C9-45AE-A7C7-60E017AD4905}"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7AC2475-E2D0-43B6-92B6-A80020BDF816}"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9914094C-A89A-4D18-86C2-3ACA4D0F65F8}"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9A142886-C2E6-4057-975C-0349A9E2CDE2}"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0CC9BA8D-A38C-4002-BA0F-DF1A97D91F66}"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7C9FA63A-77F7-412A-BDC8-C0E5AA5964BF}"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A6B95BDA-0701-4A3D-8966-3EEC0AE5BAD2}"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0349879-2A0E-4BA6-9EC3-D2529345A254}"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2B265F9-7186-4AA2-8546-F92BD0ED31FC}"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F9735C8-6398-4054-BC35-0572DAC0E6B2}"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46035BFB-62DC-4818-8955-CCF0B06A2FE8}"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D24A948C-4F08-4441-8D70-117580DE9227}"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FA76A921-6AE6-4118-AD8A-7F7E3E2F9936}"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6A920997-67C0-4CAA-97CA-379E15B4CEEB}"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FDD7B05B-9B12-44D2-9E17-BE73EDEEED88}"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44C3AF27-7B4F-41C8-9B28-AE9F034DA79D}"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AFE66B88-4341-4691-B662-AEE4EF66808B}"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FE874EEB-7F34-462D-9E2E-F39DF8ADBB4D}"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F2EB9D71-846A-4EE8-8778-916D7200F914}"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5234B017-2628-479F-AC3B-48EA088ED0E1}"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48FD7F4-F329-4F45-B567-249E263DF211}"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439A909B-BB62-491F-80BE-15AF08DCCB17}"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D14B5B7-4EAD-48E0-B816-7C68B1D7607E}"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E1F7829-4508-4416-B7C8-C3A8DC45DE01}"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29332E78-D174-4916-8D56-8DAD821E30AC}"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66640188-C49F-495C-A0C3-E9FAB5F32BF6}"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29D793B-6A51-4604-AE1C-8752BA5BD516}"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91C3863-F98F-40B0-BC2D-F0DB98AA9F5E}"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FFBFAF82-4971-4238-B614-1102A3875373}"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E15C697-99AC-477C-BBBD-FFCDC7E26C48}"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94BAA195-DC7E-4847-9253-120E7BC33D64}"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9A0C8EDF-3C56-4567-8806-D937420307B8}"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115D65B-643F-4342-8EC2-8D722F5C470C}"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31EF93A-936F-4F8F-922E-57D19BD9D183}"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CC2B4F27-9B2E-4F59-BE88-636D71217B46}"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4EA4B9B7-DBAF-44B6-91A4-441FC61D7710}"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AC7EF851-6EBA-4E90-9846-7AB7861CC900}"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C8F930E6-D4CC-41B4-B26D-595476B7C953}"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2C94646E-CFCF-483B-BCF7-1F6FDF8CF813}"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BC093339-FECC-4F56-8FB9-A7720D754632}"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C39E0CAF-D593-4A55-84F6-5B45C730FBC7}"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FC8E361-50F1-46B0-939E-B0768F551B04}"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417D29E2-6E70-447F-AAFB-E7EF8F3EFF2D}"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6AAC25F7-FCF7-466C-B979-997B9EA1CABA}"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A1F07DA6-3A9F-4935-96C6-280E1DE1C40C}"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E3D65D2-F451-4C5B-A865-BDE59C4686D8}"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1EBB43C-A56F-45EB-A6E5-836C4850D8D7}"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BE47CD7-BC87-427E-B8C7-50D2C96B99C9}"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2C3B990-53F6-479B-AA33-980595067D42}"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5F17C90-83E9-46F6-AC4A-847C6EEA0130}"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CB2EF1B9-8AC8-4BA3-A2C4-87D8C43CDA2B}"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37B22C1B-1FF8-4624-B360-BAD6A3B9A75B}"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61A0651-3EF1-478E-82E3-FBF6926F614F}"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73069124-094E-4286-AA49-8B77A1EF526B}"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5B03E7B-4A44-46F0-8853-00B6BB274390}"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FD609FE6-5100-4E77-A5F6-E29078199B79}"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C95F86E-7B62-4F65-A199-EE83BAE0B0C6}"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575A6DAF-D350-4B00-BA2B-5CCCC0C62662}"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3F6DF1-3DDD-463F-A93A-7E710D49645A}"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4121953-C6E0-4BB9-AAE3-C137B9C3A152}"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22E0930E-9779-470D-B522-C44FB4DC0BAF}"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71E5429-EBEC-4937-BC60-BB67E3C466A6}"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33FB561-F5D8-4C6A-B3F9-DD680FBD75DC}"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104C171D-C95A-482C-BD17-E3DB0BA48145}"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ECE9BC75-74F1-4A97-B22F-356F3E512771}"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E13EF6B-AC09-433E-B729-E8F16D0B220A}"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6DFD156-EEB3-4065-84FC-AC02EAEC6143}"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B8E67F4-A16F-42AA-8465-447CB42954ED}"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174DF0E-83DD-4F77-A62C-0C7FA338D1A9}"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DDD4E34A-04A0-410D-850A-FBEA9A0B5BAD}"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5E3E76F-4CD0-4515-A7AE-98F9EADB2B95}"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FC3CE15-D14C-4BD3-B760-79AB5DF0654A}"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D4800E74-CD61-4220-8680-EEE1CC6F1155}"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C38AA13-8A76-48FA-A386-4B08C35C36ED}"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3683046-B2B6-4F40-B101-2D2059114247}"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