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5EA70-FF78-4513-A6E1-AE8E31BFE7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064FC8A-F432-4AFE-AD23-F76035B46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3C479B1-9605-4886-8755-2D3C847E1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13DBAF1-C6A5-4D4A-BB1C-49C4716468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DBB0EF-C56E-416A-91C3-2A13AB995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8024483-7FD7-4404-8690-E4CC74EEC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428759F-3A20-4C3A-B104-C070702627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8C03221-3617-48FA-9BB0-0F42241A7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DF31B8AB-10C5-45EA-BA5D-783BEA7201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CEC00E3-CD7A-4BCE-9255-F32F2E9B47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D54E403-C681-4440-9970-FD0D545730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84488A9-86C0-44C2-A185-130766850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3B7DDC9-8EA0-4806-83C4-929225A3BB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ACB3D7D-C0C0-4451-8C42-08931E9D6B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E6F6B7A-DA01-49FF-9CBF-7FF0DC81CF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73D559B-DD8E-450F-A759-D3FDE5BC31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406BEF7-09ED-48B1-98E2-B3DBE6B6F4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AAB7D6A-B4C2-4C1D-BE67-691EB0B6DD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D9A7F7F-8970-45D2-871D-A318021CE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8D3403A-A79E-4BE4-9008-E1279B3747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41D8589-8B04-4A77-999E-8233F7B6B4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DFDCF4-EB0B-4618-8FBC-C356696000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0E6049-F570-4C3B-A5CF-3F67ED816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07C71AD-0359-4283-87FF-BC85E1445D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9A0-DC7D-4497-9C61-6C8DC262EB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6157-22A9-43D3-BA90-95A76C362C4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668314E-2ED1-4490-8852-A4E3E7EFAEB1}"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DA478DE-93FE-43A8-9548-6D3A4466F423}"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B4D83C3-CBDF-4886-80DB-793D262A0B40}"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1185FAAE-AD6E-41EA-A8FC-E8BC65031398}"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4348A3B3-A099-41AB-8F01-17932EC11074}"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907FBFA5-3F6D-420F-A3AF-095FFEA5FB8E}"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5185DED-F74B-4BDE-A6B4-D2E6FE199075}"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3570844-D057-4EFC-85BF-3FFE4F1CA1F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7B71CC7-1D0E-4CA9-A9FD-7BC4E40B60E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8E5DD2D-F571-4FD1-81C9-A2AD8909773D}"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D8921491-672A-4BEF-BB20-D84CA1402A06}"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32C5BCD8-00FB-47EA-A97A-5AFD0B3BA202}"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3DECAD4D-3E98-4556-A490-972D95B1D835}"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31B55349-25E5-4AEA-9636-B45BE12F540D}"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59ED879-377F-4074-883C-244767456B98}"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ED496882-A979-4467-A708-10C1C32E669D}"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BAB6352D-5DC6-4522-8306-ED600ABA2C01}"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584070EA-81F1-40B4-A6E8-355F895DA321}"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64F9083-5D9C-4A1D-A0F9-ECAFE5291F07}"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01CF69C-DA11-495E-9F75-7CE3ECF47BA0}"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5F2B978-98E2-489A-85E8-FB79D60DBE60}"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8659697-D0A6-4055-AEF3-FB5A0ED137D3}"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AD84D6B-0685-4010-B54E-7CEA3E9CC932}"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C45C5C1-C582-4031-8C48-D83482A0FF29}"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19E3878E-3B2B-49BD-81CB-0FFF18682631}"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67F8119B-0DE4-420C-99B7-E384AEDAE5C6}"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7131A41-8746-4F5B-8E29-E4C0F2B49615}"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EEC0E93-F017-46E5-8E6A-0E32BEE1DCB2}"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6011CCB8-935E-4448-896C-6567F48363C4}"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27BEC5B-DF1B-474B-941E-20B696EE6DE6}"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6D4EC19-188B-47A1-A7F1-6B4DDE173483}"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0B1928E-DB6E-4496-AD00-12688749A81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3762A6C-9EE7-4911-9A31-C09FB8B78D71}"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5A2A2C2-7CFD-4B75-AD54-77787F59D73C}"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D639BC13-F89A-4F88-87D8-D95F0C3EF325}"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6888A1CF-B40E-4819-8B95-6C4CEA342C9D}"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9ED01D6D-012F-4B29-BF8A-0F58E298AD25}"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93CF01B6-3DF9-4483-951A-9EC880E4F77E}"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66292377-E211-474C-96F7-76AC2B3C115B}"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3854C877-014A-483F-A48A-F733F987F0A1}"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6BB8C74-1FE2-4BF0-9978-C0A7B7CF027B}"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9512643-4D57-4FA1-A90B-8A1021BC8FD3}"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58DC0070-6AED-4E77-8125-A7234DB4E35C}"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253D24B9-4357-421A-ABB8-A537CDC51281}"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0EF846DD-0A73-41B7-B8D6-4C71B2400D5B}"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DF4F4A3-A7BF-4570-965F-6164FD68B908}"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D4AA98-702D-4E0A-AC96-96D0F06F7ADF}"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2B8D10B-7F92-4CB5-B5A4-9DD441219F33}"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9370A17-FDD4-4B82-B82C-4744BE0B2AA2}"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4E08D66-B408-491F-A140-9D22852C5FB3}"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9B5C07F5-78AB-4C43-9D05-2D83E219C90F}"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CA7F8DE-DEED-4C1E-9C78-EDB28A2A87B0}"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AB6AC6-4A81-4CC4-9F41-D143F40F0450}"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7C349DED-0776-41EA-A4A4-EFEC8C318D76}"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24055CB-6390-4B81-B23A-B64140CD76A0}"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94A95EF1-AB0B-4BBE-97C1-293AFCF98B51}"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D14375E-D162-42EE-9A1D-DA622E99885C}"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143E612B-EEBA-44B6-B796-F99C7B88CB39}"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0345075-96A6-4909-B1A8-4877E97698DE}"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E8A1D1-4B9D-41E5-BC45-40AA2FE39D91}"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6E03107-CAF1-4172-83AB-8756B28AAA3C}"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784B294-BA1E-49F8-8325-600B00C9B990}"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1E27D64-2F86-48BE-B1D8-46F09E932A19}"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29B1DBCF-5481-4D46-A553-8495BF50DF34}"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5EF1A30D-91D1-4177-B76F-66CEA65A8CED}"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0F762FC-1E53-4A61-924C-A10391F42A55}"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0C1901-9A44-45E7-8651-4C257E4A938D}"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019AD4D-BB92-4482-A56B-45D4294DDD1C}"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2CB85D5-2659-444B-9AEF-6EAE20175964}"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1019233-2D91-432E-A901-F4E468DF850E}"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F510089-539E-4708-996B-940A298E66FB}"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AB08353-B25A-4BD4-81B5-EF060AFE4D5C}"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EF1D7792-23BA-4C57-A656-4133D0362BE7}"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397B14A-AE4D-4A63-866A-97872DD6B66D}"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102FBD4-EB39-410F-8B90-152328240219}"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