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7901-A8C5-4397-B626-4BA91C85D11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09C9-0DC0-4648-B478-0120E0DF028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05D9-2596-4FD8-8C02-129E2B72460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E435-1DEF-4FEE-997B-6E229470C53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FB42-D948-420C-9277-0D806D33514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213D-3D16-42D6-8B90-037DAF8C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6BEA-A54E-4EEB-A27E-D0AE67E6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DE0D-B9FD-4E1F-904B-E5C10416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FC29-95CF-4C02-970C-894E50AB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B55F-BDCC-4A37-875B-54E1AFD1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A7B5-C1B8-4307-ABF3-AF7F5F18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9A44-3953-4085-80C3-EC5240C3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4503-5C89-444D-BA3E-EE3D6872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B362-E781-48D6-B72E-F143F57E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5844-65F3-4CFE-875A-00AC2980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6D79-8227-4B3A-8B82-4F098994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9145-86DA-4833-B101-7E4E4D27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81DE-330C-4F67-B3D6-1743D947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261B-4B76-42DA-99F8-703268E4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2ACE-2357-4CAE-8193-DD5A446B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6B4E-E5F4-4EB6-AE71-C5FE24FB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5919-A3FD-406C-BEDA-AEAB1E19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1D87-500D-43C0-9C5C-AE863FC9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3C78-547D-4C0D-B98C-594C5C21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948E-0B6A-479C-8F2E-52C998B3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BEAD-7B4D-4C61-838B-D7571E16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F1C2-2D07-4C05-9520-C68AA922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81B1-FDA4-488A-BC61-F3776F1B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E543-0DEC-4590-8B9E-1D4631E3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62C0-E7D3-4FBE-934D-F2E8F858EE0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3A06-FFE2-4B01-ACB6-C142168DD59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ueba de Conceptos con Análisis Conju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2340000" y="3716280"/>
            <a:ext cx="6095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uxiliar: Paola Nahum 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Basado en “Adventures in Conjoint Analysis”, Wharton School, Paul Green y Abba Krieger, Marzo 200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puntes M. Bosc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UXILIAR 2: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660066"/>
                </a:solidFill>
                <a:latin typeface="Tahoma"/>
              </a:rPr>
              <a:t>¿Cómo funciona AC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Se varían las características del producto (variables independientes) para construir muchos (usualmente 12 o más) conceptos de productos (productos hipotéticos) .</a:t>
            </a:r>
            <a:br>
              <a:rPr sz="2400"/>
            </a:b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os encuestados le ponen nota o rankean esos concep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on las evaluaciones de los sujetos estimamos cual es el “valor parcial ” (utilidad) de cada atribu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(Esto se logra “regresionando” la variable dependiente (input del sujeto) contra la descripción en atributos del perfil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Un atributo de mayor importancia : el prec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Val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l valor se modela como una función matemática multiatributada.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i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= f (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s-ES_tradnl" sz="3200" spc="-1" strike="noStrike" baseline="30000">
                <a:solidFill>
                  <a:srgbClr val="40458c"/>
                </a:solidFill>
                <a:latin typeface="Tahoma"/>
              </a:rPr>
              <a:t>i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, 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s-ES_tradnl" sz="3200" spc="-1" strike="noStrike" baseline="30000">
                <a:solidFill>
                  <a:srgbClr val="40458c"/>
                </a:solidFill>
                <a:latin typeface="Tahoma"/>
              </a:rPr>
              <a:t>i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, ..........., 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n</a:t>
            </a:r>
            <a:r>
              <a:rPr b="0" lang="es-ES_tradnl" sz="3200" spc="-1" strike="noStrike" baseline="30000">
                <a:solidFill>
                  <a:srgbClr val="40458c"/>
                </a:solidFill>
                <a:latin typeface="Tahoma"/>
              </a:rPr>
              <a:t>i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 forma más usada es la llamad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FUNCIÓN DE VALOR PARCI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Valor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40458c"/>
                </a:solidFill>
                <a:latin typeface="Tahoma"/>
              </a:rPr>
              <a:t>Función de valor parc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1" lang="es-ES_tradnl" sz="3200" spc="-1" strike="noStrike" baseline="-25000">
                <a:solidFill>
                  <a:srgbClr val="40458c"/>
                </a:solidFill>
                <a:latin typeface="Tahoma"/>
              </a:rPr>
              <a:t>i </a:t>
            </a: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1" lang="es-ES_tradnl" sz="4000" spc="-1" strike="noStrike">
                <a:solidFill>
                  <a:srgbClr val="40458c"/>
                </a:solidFill>
                <a:latin typeface="Symbol"/>
                <a:ea typeface="Symbol"/>
              </a:rPr>
              <a:t></a:t>
            </a:r>
            <a:r>
              <a:rPr b="1" lang="es-ES_tradnl" sz="4000" spc="-1" strike="noStrike">
                <a:solidFill>
                  <a:srgbClr val="40458c"/>
                </a:solidFill>
                <a:latin typeface="Tahoma"/>
              </a:rPr>
              <a:t>w</a:t>
            </a:r>
            <a:r>
              <a:rPr b="1" lang="es-ES_tradnl" sz="3200" spc="-1" strike="noStrike" baseline="-25000">
                <a:solidFill>
                  <a:srgbClr val="40458c"/>
                </a:solidFill>
                <a:latin typeface="Tahoma"/>
              </a:rPr>
              <a:t>jk </a:t>
            </a: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* </a:t>
            </a:r>
            <a:r>
              <a:rPr b="1" lang="es-ES_tradnl" sz="4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1" lang="es-ES_tradnl" sz="3200" spc="-1" strike="noStrike" baseline="-25000">
                <a:solidFill>
                  <a:srgbClr val="40458c"/>
                </a:solidFill>
                <a:latin typeface="Tahoma"/>
              </a:rPr>
              <a:t>ijk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  en qu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ijk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= 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1 si el atributo j está presente al nivel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k en el producto 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0 en caso contrario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w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jk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mportancia relativa del nivel k del atributo 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40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i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alor del producto i para el consumid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179280" y="5734080"/>
            <a:ext cx="867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estimación de estas funciones se realiza mediante técnicas estadística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2492280"/>
            <a:ext cx="287280" cy="136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Concepto de Niv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2476440"/>
            <a:ext cx="2057400" cy="171468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464832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257184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342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r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amañ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5562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Concepto de Niv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476440"/>
            <a:ext cx="2057400" cy="171468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464832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257184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1676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r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1752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amañ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342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nd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2514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hev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19520" y="2871720"/>
            <a:ext cx="2826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For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26668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 cilindr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3429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 cilindr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81680" y="32004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8120" y="4724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$15.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71800" y="5562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0.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18000" y="525780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n Producto = 1 nivel de cada atribu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05120" y="2666880"/>
            <a:ext cx="1904760" cy="3429000"/>
            <a:chOff x="1905120" y="2666880"/>
            <a:chExt cx="1904760" cy="3429000"/>
          </a:xfrm>
        </p:grpSpPr>
        <p:sp>
          <p:nvSpPr>
            <p:cNvPr id="269" name=""/>
            <p:cNvSpPr/>
            <p:nvPr/>
          </p:nvSpPr>
          <p:spPr>
            <a:xfrm>
              <a:off x="1905120" y="2666880"/>
              <a:ext cx="1904760" cy="3429000"/>
            </a:xfrm>
            <a:prstGeom prst="cube">
              <a:avLst>
                <a:gd name="adj" fmla="val 250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05120" y="4114800"/>
              <a:ext cx="14475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05120" y="5029200"/>
              <a:ext cx="14475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276720" y="3428640"/>
              <a:ext cx="533160" cy="6858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352680" y="4266720"/>
              <a:ext cx="457200" cy="838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05740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For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4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4 ci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$20.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Algunas cosas básica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guntas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é prefiere usted?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. . 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210 Hp           o         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  140 Hp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17 MPG                                    28 MP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escoge el de la izq., prefiere potencia.  Si elige el de la derecha, sus preferencias van por el ahorro de combustib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esta forma de preguntarlo es mej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EMPLO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2438280"/>
            <a:ext cx="6858000" cy="19814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LANES TELEFÓN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979640" y="1773360"/>
          <a:ext cx="5335560" cy="1606320"/>
        </p:xfrm>
        <a:graphic>
          <a:graphicData uri="http://schemas.openxmlformats.org/drawingml/2006/table">
            <a:tbl>
              <a:tblPr/>
              <a:tblGrid>
                <a:gridCol w="674640"/>
                <a:gridCol w="2181240"/>
                <a:gridCol w="1434960"/>
                <a:gridCol w="1044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 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 Red fija y misma 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 otras marca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 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 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"/>
          <p:cNvSpPr/>
          <p:nvPr/>
        </p:nvSpPr>
        <p:spPr>
          <a:xfrm>
            <a:off x="468360" y="3860640"/>
            <a:ext cx="79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2 perfiles posible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24000" y="4653000"/>
          <a:ext cx="8528040" cy="819000"/>
        </p:xfrm>
        <a:graphic>
          <a:graphicData uri="http://schemas.openxmlformats.org/drawingml/2006/table">
            <a:tbl>
              <a:tblPr/>
              <a:tblGrid>
                <a:gridCol w="312084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  <a:gridCol w="253800"/>
                <a:gridCol w="31212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50 Min. Red fija y Móviles misma 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20 Min. Red fija y Móviles misma 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0 Min. Móviles otras marca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0 Min. Móviles otras marca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90 Mensajes a cualquier Móvil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0 Mensajes a cualquier Móvil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179280" y="5516640"/>
            <a:ext cx="8964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 recomendable que al comparar perfiles, uno de estos no supere en todos los atributos al otro, para no producir una respuesta obvia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ecd882"/>
                </a:solidFill>
                <a:latin typeface="Tahoma"/>
              </a:rPr>
              <a:t>Diseño del Estudio a realizar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¿Qué atributos seleccionar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lo más importante para realizar un buen análisis posterior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penden del objetivo del estud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j.: Si objetivo es intentar determinar qué atributos un producto debería te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ecd882"/>
                </a:solidFill>
                <a:latin typeface="Tahoma"/>
              </a:rPr>
              <a:t>=&gt; Incluyo sólo los atributos sobre los cuales voy a actu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recio y marca =&gt; Incluir esos atributos (Pero deben ser independient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Qué es un Concepto o Perfil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2286000"/>
            <a:ext cx="7696080" cy="34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descripción de un producto o servicio como un conjunto de característic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Una etapa anterior al “prototipo” usual en el diseño de producto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Generalmente una descripción multiatributad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¿Cuántos atributos seleccionar?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pende de ciertos factor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Objetivos del estud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Tiempo disponible para entrevist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Forma de AC que se utiliza para recolectar la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uchos atributos proveen de exceso de información a los entrevistados (6 a 8 es ideal en el caso de las “Tarjetas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CA (Software de entrevista) acepta 30 atributos, pues como es guiado, sólo hace preguntas parciales, usando entre 6 y 8 de los atributos tot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Interacción entre atributos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udios asumen la no existencia de interacción entre atribu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mpíricamente, se ha encontrado que muy pocos atributos interactúan entre s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xcepción importan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ecio y Marc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cd882"/>
                </a:solidFill>
                <a:latin typeface="Tahoma"/>
              </a:rPr>
              <a:t>Solución: Atributo compues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¿Qué niveles seleccionar?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iveles deben ser exclusiv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da producto debe estar asociado a niveles únic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cd882"/>
                </a:solidFill>
                <a:latin typeface="Tahoma"/>
              </a:rPr>
              <a:t>N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se puede aplicar dos niveles de un atributo a un mismo produc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posible </a:t>
            </a:r>
            <a:r>
              <a:rPr b="0" i="1" lang="es-ES_tradnl" sz="3200" spc="-1" strike="noStrike">
                <a:solidFill>
                  <a:srgbClr val="40458c"/>
                </a:solidFill>
                <a:latin typeface="Tahoma"/>
              </a:rPr>
              <a:t>interpolar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tre niveles, pero no </a:t>
            </a:r>
            <a:r>
              <a:rPr b="0" i="1" lang="es-ES_tradnl" sz="3200" spc="-1" strike="noStrike">
                <a:solidFill>
                  <a:srgbClr val="40458c"/>
                </a:solidFill>
                <a:latin typeface="Tahoma"/>
              </a:rPr>
              <a:t>extrapol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ango de niveles debe ser amplio como para cubrir </a:t>
            </a:r>
            <a:r>
              <a:rPr b="0" lang="es-ES_tradnl" sz="3200" spc="-1" strike="noStrike">
                <a:solidFill>
                  <a:srgbClr val="ecd882"/>
                </a:solidFill>
                <a:latin typeface="Tahoma"/>
              </a:rPr>
              <a:t>TODOS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los escenarios posi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Número de Niveles por atributo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spectos a tener en cuent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ás niveles implican entrevista más exten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ás niveles implican medición más detalla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enos niveles =&gt; Lo contr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ha comprobado que más niveles para un mismo intervalo =&gt; una mayor importancia relativa de ese atribu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d882"/>
                </a:solidFill>
                <a:latin typeface="Tahoma"/>
              </a:rPr>
              <a:t>Efecto se minimiza asignando igual número de niveles para todos los atribu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ecd882"/>
                </a:solidFill>
                <a:latin typeface="Tahoma"/>
              </a:rPr>
              <a:t>Implementación del Estudio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Tamaño de la muestra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ivel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dividual (Ej.: Preferencias para casa nuev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gmento de merc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ercado comple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so de segmentos: Muestra se estabiliza con un Nº superior a 30-50 entrevistad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so de múltiples segmentos: Entre 200 y 400 entrevistad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Modalidad de recopilación de datos: Entrevistas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Todos los mecanismos de recolección son factibles, excepto las entrevistas telefónic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Hay 3 principales modalidad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1.- Ranking de trade-offs por pares de atribu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2.- Comparación de tarje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3.- Análisis conjunto adaptativ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.- Ranking de trade-offs por pares de atribu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pide al entrevistado llenar una matriz con preferencias por pares de atribu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jemplo de las pelotas de Golf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lcance, duración, precio =&gt; 3 combinaciones a pregunt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lcance - Duración (Precio constant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lcance - Precio (Duración constant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uración - Precio (Alcance constant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228600" y="5257800"/>
            <a:ext cx="5715000" cy="13716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 flipH="1">
            <a:off x="5943240" y="5867280"/>
            <a:ext cx="762120" cy="0"/>
          </a:xfrm>
          <a:prstGeom prst="line">
            <a:avLst/>
          </a:prstGeom>
          <a:ln w="4428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5257800"/>
            <a:ext cx="2057400" cy="12952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Matriz a llenar con preferenci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.- Ranking de trade-offs por pares de atribu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Mecanismos de análisis matemático de matrices permiten obtener  “utilidades relativa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ocedimientos iterativos de ajuste con medidas de error que se deben minimizar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odelo asume que atributos son independient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3809880" y="4952880"/>
            <a:ext cx="121932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4952880"/>
            <a:ext cx="1219320" cy="60984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05520" y="4648320"/>
            <a:ext cx="2514600" cy="5331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No redundant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05520" y="5257800"/>
            <a:ext cx="2514600" cy="5335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Sin interac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57913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tra-ejemplo: Rojo - Negro vs. Limousine y Convertib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2.- Comparación de tarjetas: Mecanismo de Ordenación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un mecanismo realist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Genera </a:t>
            </a:r>
            <a:r>
              <a:rPr b="0" i="1" lang="es-ES_tradnl" sz="3200" spc="-1" strike="noStrike">
                <a:solidFill>
                  <a:srgbClr val="ecd882"/>
                </a:solidFill>
                <a:latin typeface="Tahoma"/>
              </a:rPr>
              <a:t>perfiles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o </a:t>
            </a:r>
            <a:r>
              <a:rPr b="0" i="1" lang="es-ES_tradnl" sz="3200" spc="-1" strike="noStrike">
                <a:solidFill>
                  <a:srgbClr val="ecd882"/>
                </a:solidFill>
                <a:latin typeface="Tahoma"/>
              </a:rPr>
              <a:t>productos tip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ntrevistado hace ranking de esos perfi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3352680" y="3505320"/>
            <a:ext cx="5105520" cy="3047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819520" y="3657240"/>
            <a:ext cx="0" cy="68580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3657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4038480"/>
            <a:ext cx="1295280" cy="5335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Arial"/>
              </a:rPr>
              <a:t>Perfi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5257800"/>
            <a:ext cx="1828800" cy="9907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Arial"/>
              </a:rPr>
              <a:t>Atributos y nivel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19520" y="4495680"/>
            <a:ext cx="0" cy="190512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9520" y="64008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19520" y="6172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19520" y="5943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54864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5029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449568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57400" y="57150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Qué es Análisis Conjunto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2057400"/>
            <a:ext cx="739116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Una técnica de estimación de funciones de preferenci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e asume que las preferencias por un producto se descompone en las preferencias por las distintas características  del produc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desarrolla sobre perfi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2.- Comparación de tarjetas: Modelamiento por Elección Discret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Nºde tarjetas Min = NºNiveles - NºAtributos +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2362320"/>
            <a:ext cx="9144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1" lang="es-ES_tradnl" sz="3200" spc="-1" strike="noStrike">
                <a:solidFill>
                  <a:srgbClr val="ecd882"/>
                </a:solidFill>
                <a:latin typeface="Tahoma"/>
              </a:rPr>
              <a:t>Modelamiento por Elección Discreta (DCM)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pregunta al entrevistado, para cada escenario, qué producto elegiría, y con que nivel de preferencia según una escala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ahoma"/>
              </a:rPr>
              <a:t>Ejemplo: Cadenas de hotel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e elige de entre un paquete de opcion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 un proceso iterativo, con diferentes escenari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2.- Comparación de tarjetas: Modelamiento por Elección Discret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153280" cy="4952880"/>
          </a:xfrm>
          <a:prstGeom prst="rect">
            <a:avLst/>
          </a:prstGeom>
          <a:ln w="9360">
            <a:solidFill>
              <a:srgbClr val="ecd88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3.- Análisis conjunto adaptativ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da concepto muestra perfiles de no más de 5 atributos (Casi siempre, son 2 ó 3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Éstos son </a:t>
            </a:r>
            <a:r>
              <a:rPr b="0" i="1" lang="es-ES_tradnl" sz="3200" spc="-1" strike="noStrike">
                <a:solidFill>
                  <a:srgbClr val="40458c"/>
                </a:solidFill>
                <a:latin typeface="Tahoma"/>
              </a:rPr>
              <a:t>perfiles parci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ntrevista es sobre perfiles más relevan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pueden incluir hasta 30 atribu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fácilmente realizable en un software, aunque no hay much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ecd882"/>
                </a:solidFill>
                <a:latin typeface="Tahoma"/>
              </a:rPr>
              <a:t>Análisis de los Datos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terpretación de las Utilida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207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cd882"/>
                </a:solidFill>
                <a:latin typeface="Tahoma"/>
              </a:rPr>
              <a:t>0 = Menos preferido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cd882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ecd882"/>
                </a:solidFill>
                <a:latin typeface="Tahoma"/>
              </a:rPr>
              <a:t>=/=&gt; Utilidad = 0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cd882"/>
                </a:solidFill>
                <a:latin typeface="Tahoma"/>
              </a:rPr>
              <a:t>El número en sí NO tiene significado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cd882"/>
                </a:solidFill>
                <a:latin typeface="Tahoma"/>
              </a:rPr>
              <a:t>GAPS sí representan ganancias al cambiar niveles de atributos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cd882"/>
                </a:solidFill>
                <a:latin typeface="Tahoma"/>
              </a:rPr>
              <a:t>Utilidades sólo son válidas relativas a otras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5486400" y="1828800"/>
            <a:ext cx="3429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mportancia relativa de atribu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5981760" cy="44956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 flipH="1">
            <a:off x="5181480" y="2971800"/>
            <a:ext cx="1067040" cy="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48520" y="2286000"/>
            <a:ext cx="2666880" cy="129528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(100 x 57)/ (57+84+46+47+78) = 18.30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5181120" y="4571640"/>
            <a:ext cx="1752840" cy="60948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0" y="4572000"/>
            <a:ext cx="1981080" cy="129528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Impacto en la decisión de compr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181120" y="5334120"/>
            <a:ext cx="1676520" cy="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181120" y="5486400"/>
            <a:ext cx="1676520" cy="68580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1523880"/>
            <a:ext cx="4572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Relativos a atributos y nive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0600" y="175248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1752480"/>
            <a:ext cx="0" cy="53352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mportancia de segmentar resultados, ejempl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34920" y="1371600"/>
            <a:ext cx="2743200" cy="121932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0458c"/>
                </a:solidFill>
                <a:latin typeface="Arial"/>
              </a:rPr>
              <a:t>Se puede descubrir información importante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9280" y="2743200"/>
            <a:ext cx="236232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0458c"/>
                </a:solidFill>
                <a:latin typeface="Arial"/>
              </a:rPr>
              <a:t>Notar diferencia en preferencia de atributos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5400000">
            <a:off x="739440" y="4076640"/>
            <a:ext cx="1066680" cy="838440"/>
          </a:xfrm>
          <a:prstGeom prst="rightArrow">
            <a:avLst>
              <a:gd name="adj1" fmla="val 50000"/>
              <a:gd name="adj2" fmla="val 31805"/>
            </a:avLst>
          </a:prstGeom>
          <a:solidFill>
            <a:srgbClr val="00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920" y="5105520"/>
            <a:ext cx="2666880" cy="152388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0458c"/>
                </a:solidFill>
                <a:latin typeface="Arial"/>
              </a:rPr>
              <a:t>Hay que tener en cuenta el nivel de segmentación para el cual se harán recomendaciones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916360" y="1628640"/>
          <a:ext cx="6095880" cy="4943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Tod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egmento 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egmento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tributo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Nivel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Utilida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mpor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Utilida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mpor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Utilida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mpor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otenci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,0 H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,5 H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,0 H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ncho de corte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8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7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4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1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4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7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Garantí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 año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 añ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recio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$15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$20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$25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Disponibilidad a pagar por atribut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Una forma de estimar la disponibilidad a pagar por pasar de un nivel de un atributo, a otro que proporciona mayor utilidad al individuo, se muestra en el siguiente ejempl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3276720" y="1341360"/>
          <a:ext cx="2423880" cy="5024520"/>
        </p:xfrm>
        <a:graphic>
          <a:graphicData uri="http://schemas.openxmlformats.org/drawingml/2006/table">
            <a:tbl>
              <a:tblPr/>
              <a:tblGrid>
                <a:gridCol w="1438200"/>
                <a:gridCol w="9856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e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Tamañ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chic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media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Lobby grand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Sala reunione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si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Piscin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chic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Edifici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moder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ntigu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Precio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$8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$11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"/>
          <p:cNvSpPr/>
          <p:nvPr/>
        </p:nvSpPr>
        <p:spPr>
          <a:xfrm>
            <a:off x="250920" y="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imes New Roman"/>
              </a:rPr>
              <a:t>Ejemplo Hoteles: atributos y niveles considerados relevantes en este ejemplo son los siguient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044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ANÁLISIS CONJU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43200" y="1447920"/>
            <a:ext cx="900792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La primera comparación podría ser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1.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Exprese preferecias entre pares de produc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(hoteles- cuarto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125 cuartos, 2 pisos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600 cuartos, 12 piso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lobby pequeño,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gran  lobby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sin salas de reuniones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varias salas de reunion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Piscina al aire libre, pequeña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Sin Piscin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Edificio moderno, atractivo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Edificio antiguo señorial, atractiv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Precio: $80 doble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Precio: $110 dobl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4------3------2------1------0------1------2------3------4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Prefiere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Indiferente                                                 Prefier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Fuertemente   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        Fuertemen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9280" y="2997360"/>
            <a:ext cx="3816360" cy="1871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6000" y="2997360"/>
            <a:ext cx="4176720" cy="1871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660066"/>
                </a:solidFill>
                <a:latin typeface="Tahoma"/>
              </a:rPr>
              <a:t>Ejemplo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de </a:t>
            </a:r>
            <a:r>
              <a:rPr b="0" lang="es-ES" sz="3200" spc="-1" strike="noStrike">
                <a:solidFill>
                  <a:srgbClr val="660066"/>
                </a:solidFill>
                <a:latin typeface="Tahoma"/>
              </a:rPr>
              <a:t>Productos y sus Característica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Tarjeta de Crédito:</a:t>
            </a:r>
            <a:br>
              <a:rPr sz="2800"/>
            </a:br>
            <a:br>
              <a:rPr sz="2800"/>
            </a:b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Marca + Tasa de Interés + Cargo Anual + Límite de crédi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lan de Salu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Marca + Nivel de Reembolso en Hospitalización+ en Ambulatorio+ Exámenes Médicos +Límites+ Limitaciones a la libre ele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0440" y="3045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ANÁLISIS CONJU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746280"/>
            <a:ext cx="86868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    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2. Luego de analizar las respuestas del los individuos en las diversas comparaciones, el  Modelo infiere las preferencias (“utilidades”) para varios atributo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403280" y="2225520"/>
          <a:ext cx="6416640" cy="4399200"/>
        </p:xfrm>
        <a:graphic>
          <a:graphicData uri="http://schemas.openxmlformats.org/drawingml/2006/table">
            <a:tbl>
              <a:tblPr/>
              <a:tblGrid>
                <a:gridCol w="108288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ributo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vel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dades de los encuestado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ortancia relativ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mañ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a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bby 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7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a reunion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scin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ifi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igu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8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1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go total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9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044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ANÁLISIS CONJU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343080" y="609480"/>
            <a:ext cx="8458200" cy="18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Ejemplo: Hotel para cliente Z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3. Desarrolle una escala para cada cliente en función de sus preferencias y relativicelas respecto al preci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Diferencia en Precio/Diferencia en Utilidad = Precio/Indice de Utilida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40360" y="2997360"/>
            <a:ext cx="302436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imes New Roman"/>
              </a:rPr>
              <a:t>La diferencia en Precio es 30 US$ y en Utilidad es .50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imes New Roman"/>
              </a:rPr>
              <a:t>30/.5=6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imes New Roman"/>
              </a:rPr>
              <a:t>Con esto quiere decir que para el individuo Z, el util vale US$ 60, de esta forma se hacen comparativos los atributos y se puede determinar cuanto está dispuesto a pagar Z por pasar de un nivel de un atributo, a otro nivel (independientemente del nivel en que se encuentren los otros atributos).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692360" y="2708280"/>
          <a:ext cx="3959280" cy="3881520"/>
        </p:xfrm>
        <a:graphic>
          <a:graphicData uri="http://schemas.openxmlformats.org/drawingml/2006/table">
            <a:tbl>
              <a:tblPr/>
              <a:tblGrid>
                <a:gridCol w="1082880"/>
                <a:gridCol w="762120"/>
                <a:gridCol w="1020600"/>
                <a:gridCol w="109368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ributo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vel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dad de Z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MIUM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mañ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3*60 = 25.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a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*60 =    3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bby 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*60 =    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a reunion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*60 =    4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scin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*60 =   8.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2*60 = 13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ifi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igu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*60 =     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8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1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1371600" y="1770120"/>
          <a:ext cx="6477120" cy="38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70120"/>
                    <a:ext cx="647712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708120" y="754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440" bIns="464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ANÁLISIS CONJUNT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660066"/>
                </a:solidFill>
                <a:latin typeface="Tahoma"/>
              </a:rPr>
              <a:t>Descomposición del Problema y Diseño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2895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0458c"/>
                </a:solidFill>
                <a:latin typeface="Tahoma"/>
              </a:rPr>
              <a:t>Si aprendemos como los consumidores valoran las características de un producto, estamos más capacitados para diseñar mejores product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Alternativas simples a AC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cer preguntas directas: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Qué Marca Prefiere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Qué es una tasa de interés alta (baja) para usted?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Qué es un cargo anual alto para usted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Cuás es un límite de crédito bueno/regular/malo para usted?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spuestas simples y triviales. Poco aprendizaj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sume independencia entre los atributos 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Ses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Otra Alternativa a C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guntas directas sobre importancia</a:t>
            </a:r>
            <a:br>
              <a:rPr sz="2800"/>
            </a:b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mportancias Declarada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Ratings de Importancia tienen poca capacidad discriminant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3880" y="2590920"/>
          <a:ext cx="6097680" cy="40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259092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¿Qué es Análisis conjunto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écnica de IM desarrollada en los 70`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de como los consumidores evalúan los productos, a través de la evaluación (CONJUNTA) de sus atributo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23:28:52Z</dcterms:created>
  <dc:creator> </dc:creator>
  <dc:description/>
  <dc:language>en-US</dc:language>
  <cp:lastModifiedBy>Paola Nahum</cp:lastModifiedBy>
  <dcterms:modified xsi:type="dcterms:W3CDTF">2007-09-01T21:21:50Z</dcterms:modified>
  <cp:revision>57</cp:revision>
  <dc:subject/>
  <dc:title>Prueba de Conceptos con Análisis Conjunto</dc:title>
</cp:coreProperties>
</file>