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40F-ABB0-4649-88C3-D9BBB8C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825-B2B5-46BA-8D24-61C9F4C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A28-D1AF-45DC-8AF9-39025E43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31A-56FA-4CED-A54A-31D231CD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A76B-5646-4A53-AA19-05DE06A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CB0-F682-4B0B-BC3B-8AD220C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14E5-3505-4472-9E98-4681ED60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72C4-1AA5-47A5-8BF3-A5BEA12C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4B3D-44C8-49D6-BF31-CFBD52F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E8E8-93EE-44ED-B216-BA6F6054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D2D-BBD5-4D50-A15B-0E47DDA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669-7AA3-4AAD-862B-30259CBB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6C0-81E2-420E-8697-124A14C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9362-020C-430E-BBA8-04FCC28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071-9962-4D1F-A75F-2666A2F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040-34F1-4335-9538-D94080E7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6693-7B4C-426D-8120-AF60ADA6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F55F-1EF5-4EAA-A484-326B5C7A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8AB3-94BE-4E91-AAFB-F43E6B3A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A3B1-4BA0-4819-B428-CEFDA76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60D1-6F8D-4351-A2DE-5B8E2B5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7DE3-7887-4AF3-BEDD-4207AC7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084-3081-4A80-97C2-3F606DD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976C-5D19-49C9-9DB4-83E99C2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5BAC-ADF1-4E01-AED3-E0F72E7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5FB9-D422-41CF-8A8F-2D617CF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7366-0A44-4535-8763-7B1FFF8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8657-6F4E-45C8-89A3-00044AE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C138-4D88-49D2-AD54-D7FC253B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4820-84F1-4670-B3FC-36C4F921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604B-6447-4373-8943-2BBEB176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F32B-4CB1-4230-BA28-346C1D12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5EA5-ACF6-4D6C-B16C-F425293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896-FAEC-4F5C-AA78-E107215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EC6D-FE66-4682-ACB1-B072196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9466-8D32-4128-899B-9D9AEE6E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06BB-AFD1-48AE-ACFA-2A33E6C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989A-DB73-44A3-B05C-39AA5635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6EC2-B697-4137-8057-763C038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C5DD-4C55-4432-BE92-39F988BB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F93E-7CF0-41BF-AF51-EE5E721B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8626-96E4-4793-ADFB-D389611B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F945-3524-4856-BF1A-6B66EEA3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2601-E966-4211-A53B-1D30EFCF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F65-482B-43D5-ABF2-1431B99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4A06-ACDA-4C3A-8B65-E6BD356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CB49E-CB92-4921-8F9F-EAF2873B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7331-5D70-4F0A-B3BB-9F915303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2C15-3C9F-4E9F-9755-BE29E51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A82C-EC88-4F5F-BF76-27F6FC5F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4EC5-E0E1-4B1D-9CE9-51262B8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4C91-5AD3-4A04-B23F-5F6A030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2B574-8B5F-4CDA-9157-42D8C84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CE47-7CDF-417B-B992-C86621E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00B7-EF31-4CB7-B39D-91764194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B06-5911-4465-B0FF-0CF2BA8D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B179-B70A-4797-BF5E-9EFDDBC4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496-8038-4FAA-915E-475E81B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018-6894-4F61-9DA4-8D26C57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C72-49BB-4062-85A1-0081E6A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804-C107-4F4B-954F-C76882A538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2034-0B63-4B88-867A-ED54E0049C6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CED-8E3C-4F45-B730-499725AB2BD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1F1-96E9-4DBB-9135-2982FCAA42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C01-D7E9-4515-8662-631BAE4F48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240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ola Nahum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sado en apuntes Máximo Bosch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end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, siempre hay Promociones, al menos en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í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783480" y="2276640"/>
            <a:ext cx="189216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0920" y="1249200"/>
            <a:ext cx="2085840" cy="4124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458136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484360" y="476280"/>
            <a:ext cx="1576440" cy="239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84720" y="333360"/>
            <a:ext cx="3024000" cy="1079640"/>
          </a:xfrm>
          <a:prstGeom prst="cloudCallout">
            <a:avLst>
              <a:gd name="adj1" fmla="val -46273"/>
              <a:gd name="adj2" fmla="val 14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 helado es cremoso y 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068640"/>
            <a:ext cx="3024360" cy="1584360"/>
          </a:xfrm>
          <a:prstGeom prst="cloudCallout">
            <a:avLst>
              <a:gd name="adj1" fmla="val -35828"/>
              <a:gd name="adj2" fmla="val 55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oy a comprar un helado porque está b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708280"/>
            <a:ext cx="66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odo mercado se puede segmentar de acuerdo al grado de lealtad a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extremo, hay leales y “switch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os “switchers” son el principal objetivo d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08280"/>
            <a:ext cx="74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pendiendo de las características del producto, se pueden dar distintos comportamientos en el consumidor, lo que hace más o menos atractiva llevar a cabo l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os Efec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fecto Invent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nsumo  (Efecto Co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biarse de marca  (Efecto “switch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297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2860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, y aumenta su consumo en 2 unidades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312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alidad será algo entre 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323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336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eales: Caso Interme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971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nea base de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4038480"/>
            <a:ext cx="4114800" cy="304920"/>
          </a:xfrm>
          <a:prstGeom prst="rect">
            <a:avLst/>
          </a:prstGeom>
          <a:solidFill>
            <a:srgbClr val="06de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33412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switchers compran en los dos períodos 8 unidades, pero la Marca con promoción los vende todos durante la semana de la promoción. La otra no vende nada durante dos perí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5800" y="2895480"/>
            <a:ext cx="5791320" cy="1828800"/>
            <a:chOff x="685800" y="2895480"/>
            <a:chExt cx="5791320" cy="1828800"/>
          </a:xfrm>
        </p:grpSpPr>
        <p:sp>
          <p:nvSpPr>
            <p:cNvPr id="37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0400" y="28954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41911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57600" y="2286000"/>
            <a:ext cx="1561680" cy="3073320"/>
            <a:chOff x="3657600" y="2286000"/>
            <a:chExt cx="1561680" cy="3073320"/>
          </a:xfrm>
        </p:grpSpPr>
        <p:sp>
          <p:nvSpPr>
            <p:cNvPr id="385" name=""/>
            <p:cNvSpPr/>
            <p:nvPr/>
          </p:nvSpPr>
          <p:spPr>
            <a:xfrm>
              <a:off x="3657600" y="3759120"/>
              <a:ext cx="45684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2286000"/>
              <a:ext cx="1409400" cy="1778040"/>
            </a:xfrm>
            <a:custGeom>
              <a:avLst/>
              <a:gdLst/>
              <a:ahLst/>
              <a:rect l="l" t="t" r="r" b="b"/>
              <a:pathLst>
                <a:path w="888" h="1120">
                  <a:moveTo>
                    <a:pt x="192" y="1120"/>
                  </a:moveTo>
                  <a:cubicBezTo>
                    <a:pt x="516" y="972"/>
                    <a:pt x="840" y="824"/>
                    <a:pt x="864" y="640"/>
                  </a:cubicBezTo>
                  <a:cubicBezTo>
                    <a:pt x="888" y="456"/>
                    <a:pt x="480" y="0"/>
                    <a:pt x="336" y="16"/>
                  </a:cubicBezTo>
                  <a:cubicBezTo>
                    <a:pt x="192" y="32"/>
                    <a:pt x="56" y="616"/>
                    <a:pt x="0" y="7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3428640"/>
            <a:ext cx="5334120" cy="1219680"/>
            <a:chOff x="685800" y="3428640"/>
            <a:chExt cx="5334120" cy="1219680"/>
          </a:xfrm>
        </p:grpSpPr>
        <p:sp>
          <p:nvSpPr>
            <p:cNvPr id="39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3429000"/>
              <a:ext cx="533520" cy="12193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4191120"/>
              <a:ext cx="228600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39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33920" y="251460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3505320"/>
            <a:ext cx="5334120" cy="1218960"/>
            <a:chOff x="1066680" y="3505320"/>
            <a:chExt cx="5334120" cy="1218960"/>
          </a:xfrm>
        </p:grpSpPr>
        <p:sp>
          <p:nvSpPr>
            <p:cNvPr id="407" name=""/>
            <p:cNvSpPr/>
            <p:nvPr/>
          </p:nvSpPr>
          <p:spPr>
            <a:xfrm>
              <a:off x="1066680" y="4267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58128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371240" y="47242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4267080"/>
              <a:ext cx="2438280" cy="456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505320"/>
              <a:ext cx="533520" cy="1218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267080"/>
              <a:ext cx="2286000" cy="456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3885840"/>
              <a:ext cx="2438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3885840"/>
              <a:ext cx="228600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66680" y="1066680"/>
            <a:ext cx="5791320" cy="1828800"/>
            <a:chOff x="1066680" y="1066680"/>
            <a:chExt cx="5791320" cy="1828800"/>
          </a:xfrm>
        </p:grpSpPr>
        <p:sp>
          <p:nvSpPr>
            <p:cNvPr id="417" name=""/>
            <p:cNvSpPr/>
            <p:nvPr/>
          </p:nvSpPr>
          <p:spPr>
            <a:xfrm>
              <a:off x="1066680" y="2362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81280" y="1599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71240" y="2819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3000" y="23623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10666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23623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3000" y="19810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19810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14400" y="5257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ótese que en ambos casos las ventas aumentan, y que , porcentualmente, si la promoción la hace el más chico, es el que más gana. !!Se lleva las ventas del Grande en el período de la promoció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2133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962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22096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 por sobre el costo, el que es igual para ambos fabric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17002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5805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El valor indica el ingreso multiplicado por M, en que M es el tamaño del merc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209680"/>
            <a:ext cx="8077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ían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52480" y="2590920"/>
            <a:ext cx="5105520" cy="3352680"/>
            <a:chOff x="1752480" y="2590920"/>
            <a:chExt cx="5105520" cy="3352680"/>
          </a:xfrm>
        </p:grpSpPr>
        <p:sp>
          <p:nvSpPr>
            <p:cNvPr id="459" name=""/>
            <p:cNvSpPr/>
            <p:nvPr/>
          </p:nvSpPr>
          <p:spPr>
            <a:xfrm>
              <a:off x="32763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65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34290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472428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3886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Si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4800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36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lt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05160" y="2666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Baj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29000" y="3657600"/>
              <a:ext cx="121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</a:rPr>
                <a:t>Nadie gana. Poca 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9000" y="4800600"/>
              <a:ext cx="1218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Cada uno Promociona hacia su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37339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Marca no líder con claros Incen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29200" y="5029200"/>
              <a:ext cx="175248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Todos tienen incentivos.Much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Promo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59436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259092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5248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as consideracion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Efecto de la Frecuencia de las Promociones en una Mar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ás que Rebajas de Pre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9280" y="79200"/>
            <a:ext cx="8785440" cy="666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7280" y="62244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92640" y="393840"/>
            <a:ext cx="914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4976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6920" y="1557360"/>
            <a:ext cx="7751880" cy="424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380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216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78720" y="6021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93040" y="6048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688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18160" y="60451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99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91240" y="603252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1004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77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44960" y="60357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51000" y="60436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175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724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5092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160" y="6021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80000" y="1879560"/>
            <a:ext cx="18288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EVALU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GLOB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2480" y="3220920"/>
            <a:ext cx="1866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UTIL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80080" y="3243240"/>
            <a:ext cx="18684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HED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AHOR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336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ONV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NIEN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NTRE-TEN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VA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96360" y="4941720"/>
            <a:ext cx="7999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XPLO-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612960" y="127620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9320" y="1216080"/>
            <a:ext cx="14040" cy="647640"/>
          </a:xfrm>
          <a:custGeom>
            <a:avLst/>
            <a:gdLst/>
            <a:ahLst/>
            <a:rect l="l" t="t" r="r" b="b"/>
            <a:pathLst>
              <a:path w="22" h="1021">
                <a:moveTo>
                  <a:pt x="0" y="1021"/>
                </a:moveTo>
                <a:lnTo>
                  <a:pt x="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21440" y="129204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1320" y="2682720"/>
            <a:ext cx="1339920" cy="533520"/>
          </a:xfrm>
          <a:custGeom>
            <a:avLst/>
            <a:gdLst/>
            <a:ahLst/>
            <a:rect l="l" t="t" r="r" b="b"/>
            <a:pathLst>
              <a:path w="844" h="336">
                <a:moveTo>
                  <a:pt x="844" y="0"/>
                </a:move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2666880"/>
            <a:ext cx="1660320" cy="563760"/>
          </a:xfrm>
          <a:custGeom>
            <a:avLst/>
            <a:gdLst/>
            <a:ahLst/>
            <a:rect l="l" t="t" r="r" b="b"/>
            <a:pathLst>
              <a:path w="1046" h="355">
                <a:moveTo>
                  <a:pt x="0" y="0"/>
                </a:moveTo>
                <a:lnTo>
                  <a:pt x="1046" y="3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69960" y="4022640"/>
            <a:ext cx="852480" cy="946080"/>
          </a:xfrm>
          <a:custGeom>
            <a:avLst/>
            <a:gdLst/>
            <a:ahLst/>
            <a:rect l="l" t="t" r="r" b="b"/>
            <a:pathLst>
              <a:path w="537" h="596">
                <a:moveTo>
                  <a:pt x="537" y="0"/>
                </a:moveTo>
                <a:lnTo>
                  <a:pt x="0" y="5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7440" y="4051440"/>
            <a:ext cx="12600" cy="901440"/>
          </a:xfrm>
          <a:custGeom>
            <a:avLst/>
            <a:gdLst/>
            <a:ahLst/>
            <a:rect l="l" t="t" r="r" b="b"/>
            <a:pathLst>
              <a:path w="20" h="1420">
                <a:moveTo>
                  <a:pt x="0" y="0"/>
                </a:moveTo>
                <a:lnTo>
                  <a:pt x="20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2920" y="4008600"/>
            <a:ext cx="747720" cy="944280"/>
          </a:xfrm>
          <a:custGeom>
            <a:avLst/>
            <a:gdLst/>
            <a:ahLst/>
            <a:rect l="l" t="t" r="r" b="b"/>
            <a:pathLst>
              <a:path w="471" h="595">
                <a:moveTo>
                  <a:pt x="0" y="0"/>
                </a:moveTo>
                <a:lnTo>
                  <a:pt x="471" y="59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4068720"/>
            <a:ext cx="625320" cy="884160"/>
          </a:xfrm>
          <a:custGeom>
            <a:avLst/>
            <a:gdLst/>
            <a:ahLst/>
            <a:rect l="l" t="t" r="r" b="b"/>
            <a:pathLst>
              <a:path w="394" h="557">
                <a:moveTo>
                  <a:pt x="394" y="0"/>
                </a:moveTo>
                <a:lnTo>
                  <a:pt x="0" y="5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038480"/>
            <a:ext cx="3240" cy="914400"/>
          </a:xfrm>
          <a:custGeom>
            <a:avLst/>
            <a:gdLst/>
            <a:ahLst/>
            <a:rect l="l" t="t" r="r" b="b"/>
            <a:pathLst>
              <a:path w="2" h="576">
                <a:moveTo>
                  <a:pt x="0" y="0"/>
                </a:moveTo>
                <a:lnTo>
                  <a:pt x="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84960" y="4068720"/>
            <a:ext cx="838440" cy="868320"/>
          </a:xfrm>
          <a:custGeom>
            <a:avLst/>
            <a:gdLst/>
            <a:ahLst/>
            <a:rect l="l" t="t" r="r" b="b"/>
            <a:pathLst>
              <a:path w="528" h="547">
                <a:moveTo>
                  <a:pt x="0" y="0"/>
                </a:moveTo>
                <a:lnTo>
                  <a:pt x="528" y="54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3040" y="5532480"/>
            <a:ext cx="882720" cy="487440"/>
          </a:xfrm>
          <a:custGeom>
            <a:avLst/>
            <a:gdLst/>
            <a:ahLst/>
            <a:rect l="l" t="t" r="r" b="b"/>
            <a:pathLst>
              <a:path w="556" h="307">
                <a:moveTo>
                  <a:pt x="556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5532480"/>
            <a:ext cx="625320" cy="503280"/>
          </a:xfrm>
          <a:custGeom>
            <a:avLst/>
            <a:gdLst/>
            <a:ahLst/>
            <a:rect l="l" t="t" r="r" b="b"/>
            <a:pathLst>
              <a:path w="394" h="317">
                <a:moveTo>
                  <a:pt x="394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1840" y="5532480"/>
            <a:ext cx="334800" cy="503280"/>
          </a:xfrm>
          <a:custGeom>
            <a:avLst/>
            <a:gdLst/>
            <a:ahLst/>
            <a:rect l="l" t="t" r="r" b="b"/>
            <a:pathLst>
              <a:path w="211" h="317">
                <a:moveTo>
                  <a:pt x="211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65240" y="5532480"/>
            <a:ext cx="655560" cy="503280"/>
          </a:xfrm>
          <a:custGeom>
            <a:avLst/>
            <a:gdLst/>
            <a:ahLst/>
            <a:rect l="l" t="t" r="r" b="b"/>
            <a:pathLst>
              <a:path w="413" h="317">
                <a:moveTo>
                  <a:pt x="413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92200" y="5546880"/>
            <a:ext cx="411480" cy="488880"/>
          </a:xfrm>
          <a:custGeom>
            <a:avLst/>
            <a:gdLst/>
            <a:ahLst/>
            <a:rect l="l" t="t" r="r" b="b"/>
            <a:pathLst>
              <a:path w="259" h="308">
                <a:moveTo>
                  <a:pt x="25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35360" y="5546880"/>
            <a:ext cx="196920" cy="473040"/>
          </a:xfrm>
          <a:custGeom>
            <a:avLst/>
            <a:gdLst/>
            <a:ahLst/>
            <a:rect l="l" t="t" r="r" b="b"/>
            <a:pathLst>
              <a:path w="124" h="298">
                <a:moveTo>
                  <a:pt x="124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13160" y="55468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55960" y="5532480"/>
            <a:ext cx="212760" cy="487440"/>
          </a:xfrm>
          <a:custGeom>
            <a:avLst/>
            <a:gdLst/>
            <a:ahLst/>
            <a:rect l="l" t="t" r="r" b="b"/>
            <a:pathLst>
              <a:path w="134" h="307">
                <a:moveTo>
                  <a:pt x="134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5546880"/>
            <a:ext cx="15840" cy="473040"/>
          </a:xfrm>
          <a:custGeom>
            <a:avLst/>
            <a:gdLst/>
            <a:ahLst/>
            <a:rect l="l" t="t" r="r" b="b"/>
            <a:pathLst>
              <a:path w="10" h="298">
                <a:moveTo>
                  <a:pt x="10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45040" y="5562720"/>
            <a:ext cx="289080" cy="487080"/>
          </a:xfrm>
          <a:custGeom>
            <a:avLst/>
            <a:gdLst/>
            <a:ahLst/>
            <a:rect l="l" t="t" r="r" b="b"/>
            <a:pathLst>
              <a:path w="182" h="307">
                <a:moveTo>
                  <a:pt x="182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5562720"/>
            <a:ext cx="12240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77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7400" y="5546880"/>
            <a:ext cx="45720" cy="502920"/>
          </a:xfrm>
          <a:custGeom>
            <a:avLst/>
            <a:gdLst/>
            <a:ahLst/>
            <a:rect l="l" t="t" r="r" b="b"/>
            <a:pathLst>
              <a:path w="29" h="317">
                <a:moveTo>
                  <a:pt x="0" y="0"/>
                </a:moveTo>
                <a:lnTo>
                  <a:pt x="29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6880" y="5532480"/>
            <a:ext cx="166680" cy="50328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105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97520" y="5546880"/>
            <a:ext cx="60480" cy="502920"/>
          </a:xfrm>
          <a:custGeom>
            <a:avLst/>
            <a:gdLst/>
            <a:ahLst/>
            <a:rect l="l" t="t" r="r" b="b"/>
            <a:pathLst>
              <a:path w="38" h="317">
                <a:moveTo>
                  <a:pt x="0" y="0"/>
                </a:moveTo>
                <a:lnTo>
                  <a:pt x="38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5532480"/>
            <a:ext cx="274680" cy="533520"/>
          </a:xfrm>
          <a:custGeom>
            <a:avLst/>
            <a:gdLst/>
            <a:ahLst/>
            <a:rect l="l" t="t" r="r" b="b"/>
            <a:pathLst>
              <a:path w="173" h="336">
                <a:moveTo>
                  <a:pt x="0" y="0"/>
                </a:moveTo>
                <a:lnTo>
                  <a:pt x="17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18480" y="5516640"/>
            <a:ext cx="14400" cy="503280"/>
          </a:xfrm>
          <a:custGeom>
            <a:avLst/>
            <a:gdLst/>
            <a:ahLst/>
            <a:rect l="l" t="t" r="r" b="b"/>
            <a:pathLst>
              <a:path w="9" h="317">
                <a:moveTo>
                  <a:pt x="9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047080" y="5516640"/>
            <a:ext cx="228600" cy="519120"/>
          </a:xfrm>
          <a:custGeom>
            <a:avLst/>
            <a:gdLst/>
            <a:ahLst/>
            <a:rect l="l" t="t" r="r" b="b"/>
            <a:pathLst>
              <a:path w="144" h="327">
                <a:moveTo>
                  <a:pt x="0" y="0"/>
                </a:moveTo>
                <a:lnTo>
                  <a:pt x="144" y="3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5516640"/>
            <a:ext cx="473040" cy="549360"/>
          </a:xfrm>
          <a:custGeom>
            <a:avLst/>
            <a:gdLst/>
            <a:ahLst/>
            <a:rect l="l" t="t" r="r" b="b"/>
            <a:pathLst>
              <a:path w="298" h="346">
                <a:moveTo>
                  <a:pt x="0" y="0"/>
                </a:moveTo>
                <a:lnTo>
                  <a:pt x="298" y="3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8280" y="1816200"/>
            <a:ext cx="17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LA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11280" y="2349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47640" y="404640"/>
          <a:ext cx="7848720" cy="5580000"/>
        </p:xfrm>
        <a:graphic>
          <a:graphicData uri="http://schemas.openxmlformats.org/drawingml/2006/table">
            <a:tbl>
              <a:tblPr/>
              <a:tblGrid>
                <a:gridCol w="434880"/>
                <a:gridCol w="6299280"/>
                <a:gridCol w="1114560"/>
              </a:tblGrid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I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ahorrar di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gasto me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ndo esta promoción el producto me sale más econó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esta promoción accedo a una marca de mejor calidad al mismo pre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comprar una marca de mayor presti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puedo comprar un producto mejor a lo hab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ncontrara esta promoción mientras compro, recordaría si necesito o no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 esta promoción me ayuda a recordar que debo compr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sta promoción estuviera señalada, me acordaría más fácilmente de llev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esta promoción me haría sentir más astuto que los que no la us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ión de val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aprovechara esta promoción, me sentiría satisfecho por haber hecho una mejor comp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 sentiría ingenioso si aprovechara esta of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una marca que no consumo tuviera esta promoción, la compra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incentiva a probar nuevas mar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hace más fácil adquirir y conocer marcas que no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entreten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diver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 paso bien participando de esta promo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alá hubieran más promociones como é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. Gl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sta es una buena promo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vale la p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990360" y="2400120"/>
            <a:ext cx="7201080" cy="4056480"/>
            <a:chOff x="990360" y="2400120"/>
            <a:chExt cx="7201080" cy="4056480"/>
          </a:xfrm>
        </p:grpSpPr>
        <p:sp>
          <p:nvSpPr>
            <p:cNvPr id="548" name=""/>
            <p:cNvSpPr/>
            <p:nvPr/>
          </p:nvSpPr>
          <p:spPr>
            <a:xfrm>
              <a:off x="7848720" y="5686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533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6752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437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7700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6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472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980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480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05120" y="583884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1928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0960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58197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064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5280" y="581040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944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2944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673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14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17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85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9920" y="26478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0036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52520" y="2400120"/>
              <a:ext cx="61200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1880" y="2400120"/>
              <a:ext cx="6127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2400120"/>
              <a:ext cx="61200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24200" y="3047760"/>
              <a:ext cx="1142640" cy="57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88040" y="2648520"/>
              <a:ext cx="419040" cy="466560"/>
            </a:xfrm>
            <a:custGeom>
              <a:avLst/>
              <a:gdLst/>
              <a:ahLst/>
              <a:rect l="l" t="t" r="r" b="b"/>
              <a:pathLst>
                <a:path w="660" h="735">
                  <a:moveTo>
                    <a:pt x="660" y="7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7960" y="2639160"/>
              <a:ext cx="360" cy="399960"/>
            </a:xfrm>
            <a:custGeom>
              <a:avLst/>
              <a:gdLst/>
              <a:ahLst/>
              <a:rect l="l" t="t" r="r" b="b"/>
              <a:pathLst>
                <a:path w="1" h="630">
                  <a:moveTo>
                    <a:pt x="0" y="63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54880" y="2648520"/>
              <a:ext cx="361800" cy="495000"/>
            </a:xfrm>
            <a:custGeom>
              <a:avLst/>
              <a:gdLst/>
              <a:ahLst/>
              <a:rect l="l" t="t" r="r" b="b"/>
              <a:pathLst>
                <a:path w="570" h="780">
                  <a:moveTo>
                    <a:pt x="0" y="780"/>
                  </a:move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9560" y="3429720"/>
              <a:ext cx="2143080" cy="1942920"/>
            </a:xfrm>
            <a:custGeom>
              <a:avLst/>
              <a:gdLst/>
              <a:ahLst/>
              <a:rect l="l" t="t" r="r" b="b"/>
              <a:pathLst>
                <a:path w="3375" h="3060">
                  <a:moveTo>
                    <a:pt x="3375" y="0"/>
                  </a:moveTo>
                  <a:lnTo>
                    <a:pt x="0" y="30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00080" y="3553560"/>
              <a:ext cx="1142640" cy="1842480"/>
            </a:xfrm>
            <a:custGeom>
              <a:avLst/>
              <a:gdLst/>
              <a:ahLst/>
              <a:rect l="l" t="t" r="r" b="b"/>
              <a:pathLst>
                <a:path w="1800" h="2902">
                  <a:moveTo>
                    <a:pt x="1800" y="0"/>
                  </a:moveTo>
                  <a:lnTo>
                    <a:pt x="0" y="2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81240" y="3629520"/>
              <a:ext cx="237960" cy="1756800"/>
            </a:xfrm>
            <a:custGeom>
              <a:avLst/>
              <a:gdLst/>
              <a:ahLst/>
              <a:rect l="l" t="t" r="r" b="b"/>
              <a:pathLst>
                <a:path w="375" h="2767">
                  <a:moveTo>
                    <a:pt x="375" y="0"/>
                  </a:moveTo>
                  <a:lnTo>
                    <a:pt x="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7240" y="3620160"/>
              <a:ext cx="685800" cy="1756800"/>
            </a:xfrm>
            <a:custGeom>
              <a:avLst/>
              <a:gdLst/>
              <a:ahLst/>
              <a:rect l="l" t="t" r="r" b="b"/>
              <a:pathLst>
                <a:path w="1080" h="2767">
                  <a:moveTo>
                    <a:pt x="0" y="0"/>
                  </a:moveTo>
                  <a:lnTo>
                    <a:pt x="108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86120" y="3543120"/>
              <a:ext cx="1685880" cy="1814760"/>
            </a:xfrm>
            <a:custGeom>
              <a:avLst/>
              <a:gdLst/>
              <a:ahLst/>
              <a:rect l="l" t="t" r="r" b="b"/>
              <a:pathLst>
                <a:path w="2655" h="2858">
                  <a:moveTo>
                    <a:pt x="0" y="0"/>
                  </a:moveTo>
                  <a:lnTo>
                    <a:pt x="2655" y="28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8760" y="3429720"/>
              <a:ext cx="2733480" cy="1928160"/>
            </a:xfrm>
            <a:custGeom>
              <a:avLst/>
              <a:gdLst/>
              <a:ahLst/>
              <a:rect l="l" t="t" r="r" b="b"/>
              <a:pathLst>
                <a:path w="4305" h="3037">
                  <a:moveTo>
                    <a:pt x="0" y="0"/>
                  </a:moveTo>
                  <a:lnTo>
                    <a:pt x="4305" y="30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7120" y="538164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57360" y="54007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8520" y="5391000"/>
              <a:ext cx="702360" cy="36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7480" y="53719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t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5772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6048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61720" y="5700960"/>
              <a:ext cx="218880" cy="428400"/>
            </a:xfrm>
            <a:custGeom>
              <a:avLst/>
              <a:gdLst/>
              <a:ahLst/>
              <a:rect l="l" t="t" r="r" b="b"/>
              <a:pathLst>
                <a:path w="345" h="675">
                  <a:moveTo>
                    <a:pt x="34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2320" y="5739120"/>
              <a:ext cx="19080" cy="380880"/>
            </a:xfrm>
            <a:custGeom>
              <a:avLst/>
              <a:gdLst/>
              <a:ahLst/>
              <a:rect l="l" t="t" r="r" b="b"/>
              <a:pathLst>
                <a:path w="30" h="600">
                  <a:moveTo>
                    <a:pt x="3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0920" y="5729760"/>
              <a:ext cx="123840" cy="399960"/>
            </a:xfrm>
            <a:custGeom>
              <a:avLst/>
              <a:gdLst/>
              <a:ahLst/>
              <a:rect l="l" t="t" r="r" b="b"/>
              <a:pathLst>
                <a:path w="195" h="630">
                  <a:moveTo>
                    <a:pt x="0" y="0"/>
                  </a:moveTo>
                  <a:lnTo>
                    <a:pt x="19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90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6188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6124320"/>
              <a:ext cx="3452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381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99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6136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772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988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204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670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2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86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4816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1032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568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74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296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9840" y="5729760"/>
              <a:ext cx="199800" cy="390240"/>
            </a:xfrm>
            <a:custGeom>
              <a:avLst/>
              <a:gdLst/>
              <a:ahLst/>
              <a:rect l="l" t="t" r="r" b="b"/>
              <a:pathLst>
                <a:path w="315" h="615">
                  <a:moveTo>
                    <a:pt x="315" y="0"/>
                  </a:moveTo>
                  <a:lnTo>
                    <a:pt x="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71640" y="5758200"/>
              <a:ext cx="360" cy="361800"/>
            </a:xfrm>
            <a:custGeom>
              <a:avLst/>
              <a:gdLst/>
              <a:ahLst/>
              <a:rect l="l" t="t" r="r" b="b"/>
              <a:pathLst>
                <a:path w="1" h="570">
                  <a:moveTo>
                    <a:pt x="0" y="0"/>
                  </a:moveTo>
                  <a:lnTo>
                    <a:pt x="0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440" y="5739120"/>
              <a:ext cx="171360" cy="390240"/>
            </a:xfrm>
            <a:custGeom>
              <a:avLst/>
              <a:gdLst/>
              <a:ahLst/>
              <a:rect l="l" t="t" r="r" b="b"/>
              <a:pathLst>
                <a:path w="270" h="615">
                  <a:moveTo>
                    <a:pt x="0" y="0"/>
                  </a:moveTo>
                  <a:lnTo>
                    <a:pt x="27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9440" y="571032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0960" y="574848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28920" y="5715000"/>
              <a:ext cx="142920" cy="414720"/>
            </a:xfrm>
            <a:custGeom>
              <a:avLst/>
              <a:gdLst/>
              <a:ahLst/>
              <a:rect l="l" t="t" r="r" b="b"/>
              <a:pathLst>
                <a:path w="225" h="653">
                  <a:moveTo>
                    <a:pt x="0" y="0"/>
                  </a:moveTo>
                  <a:lnTo>
                    <a:pt x="22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38760" y="5691600"/>
              <a:ext cx="142560" cy="428400"/>
            </a:xfrm>
            <a:custGeom>
              <a:avLst/>
              <a:gdLst/>
              <a:ahLst/>
              <a:rect l="l" t="t" r="r" b="b"/>
              <a:pathLst>
                <a:path w="225" h="675">
                  <a:moveTo>
                    <a:pt x="22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005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571032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67440" y="570096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101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9400" y="5715000"/>
              <a:ext cx="162000" cy="414720"/>
            </a:xfrm>
            <a:custGeom>
              <a:avLst/>
              <a:gdLst/>
              <a:ahLst/>
              <a:rect l="l" t="t" r="r" b="b"/>
              <a:pathLst>
                <a:path w="255" h="653">
                  <a:moveTo>
                    <a:pt x="0" y="0"/>
                  </a:moveTo>
                  <a:lnTo>
                    <a:pt x="25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77040" y="5715000"/>
              <a:ext cx="152280" cy="433440"/>
            </a:xfrm>
            <a:custGeom>
              <a:avLst/>
              <a:gdLst/>
              <a:ahLst/>
              <a:rect l="l" t="t" r="r" b="b"/>
              <a:pathLst>
                <a:path w="240" h="683">
                  <a:moveTo>
                    <a:pt x="240" y="0"/>
                  </a:moveTo>
                  <a:lnTo>
                    <a:pt x="0" y="6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39200" y="573912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8080" y="569160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31240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ecesitamos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erramientas de tipo Ec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Única forma de “eficientizar” las pro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Línea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2590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la Línea Base (LB) como las ventas que hubiera tenido la Marca en el período afectado por la Promoción , si la Promoción no se hubiese realizado, pero todo lo demás sí. (todo lo demás: otras promociones, promociones de la competenci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ínea base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1905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stima la LB en base ventas semanales durante un período largo de tiempo, (¿2 años?), a nivel de s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1680" y="2895480"/>
            <a:ext cx="8001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trabaja la data de modo de eliminar los ef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entos Especiales (Navidad, “18”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fectos Promocionales, propios o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iebres de Stock en ítemes baja R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ores Especiales de Mercado (Eventos de otras Tiendas, Lluvias, y simila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360" y="1557360"/>
            <a:ext cx="8820000" cy="3600000"/>
            <a:chOff x="144360" y="1557360"/>
            <a:chExt cx="8820000" cy="3600000"/>
          </a:xfrm>
        </p:grpSpPr>
        <p:cxnSp>
          <p:nvCxnSpPr>
            <p:cNvPr id="230" name="_s524310"/>
            <p:cNvCxnSpPr>
              <a:stCxn id="231" idx="0"/>
              <a:endCxn id="232" idx="2"/>
            </p:cNvCxnSpPr>
            <p:nvPr/>
          </p:nvCxnSpPr>
          <p:spPr>
            <a:xfrm flipV="1" rot="16200000">
              <a:off x="7506000" y="3577680"/>
              <a:ext cx="450720" cy="90900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524308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6597720" y="3578040"/>
              <a:ext cx="450720" cy="908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524306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3422520" y="312336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524304"/>
            <p:cNvCxnSpPr>
              <a:stCxn id="239" idx="0"/>
              <a:endCxn id="237" idx="2"/>
            </p:cNvCxnSpPr>
            <p:nvPr/>
          </p:nvCxnSpPr>
          <p:spPr>
            <a:xfrm flipV="1" rot="16200000">
              <a:off x="2514960" y="4030920"/>
              <a:ext cx="450720" cy="216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524302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1605600" y="312372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524299"/>
            <p:cNvCxnSpPr>
              <a:stCxn id="232" idx="0"/>
              <a:endCxn id="243" idx="2"/>
            </p:cNvCxnSpPr>
            <p:nvPr/>
          </p:nvCxnSpPr>
          <p:spPr>
            <a:xfrm flipV="1" rot="16200000">
              <a:off x="5916240" y="1546560"/>
              <a:ext cx="450720" cy="22712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524298"/>
            <p:cNvCxnSpPr>
              <a:stCxn id="237" idx="0"/>
              <a:endCxn id="243" idx="2"/>
            </p:cNvCxnSpPr>
            <p:nvPr/>
          </p:nvCxnSpPr>
          <p:spPr>
            <a:xfrm flipH="1" flipV="1" rot="5400000">
              <a:off x="3647520" y="1548360"/>
              <a:ext cx="450720" cy="2267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524294"/>
            <p:cNvSpPr/>
            <p:nvPr/>
          </p:nvSpPr>
          <p:spPr>
            <a:xfrm>
              <a:off x="4227840" y="15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Verdana"/>
                </a:rPr>
                <a:t>Promo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524295"/>
            <p:cNvSpPr/>
            <p:nvPr/>
          </p:nvSpPr>
          <p:spPr>
            <a:xfrm>
              <a:off x="195876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ti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524296"/>
            <p:cNvSpPr/>
            <p:nvPr/>
          </p:nvSpPr>
          <p:spPr>
            <a:xfrm>
              <a:off x="649872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característic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_s524301"/>
            <p:cNvSpPr/>
            <p:nvPr/>
          </p:nvSpPr>
          <p:spPr>
            <a:xfrm>
              <a:off x="144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Al ca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_s524303"/>
            <p:cNvSpPr/>
            <p:nvPr/>
          </p:nvSpPr>
          <p:spPr>
            <a:xfrm>
              <a:off x="196092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irectas al consumid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524305"/>
            <p:cNvSpPr/>
            <p:nvPr/>
          </p:nvSpPr>
          <p:spPr>
            <a:xfrm>
              <a:off x="3777480" y="4257360"/>
              <a:ext cx="155484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l retai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524307"/>
            <p:cNvSpPr/>
            <p:nvPr/>
          </p:nvSpPr>
          <p:spPr>
            <a:xfrm>
              <a:off x="5592240" y="4257360"/>
              <a:ext cx="15552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 incentiv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524309"/>
            <p:cNvSpPr/>
            <p:nvPr/>
          </p:nvSpPr>
          <p:spPr>
            <a:xfrm>
              <a:off x="7407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Comunicacion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álculo del Efe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fecto (de Corto Plaz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641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87640" y="1052640"/>
            <a:ext cx="2808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6544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28526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20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40360" y="38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3"/>
          </p:cNvCxnSpPr>
          <p:nvPr/>
        </p:nvCxnSpPr>
        <p:spPr>
          <a:xfrm>
            <a:off x="5796000" y="1520640"/>
            <a:ext cx="2160" cy="3602520"/>
          </a:xfrm>
          <a:prstGeom prst="bentConnector3">
            <a:avLst>
              <a:gd name="adj1" fmla="val 275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156360" y="29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ciones al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029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del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15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a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irectas al Consum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77336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, reembo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rigidas al Ca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 tempo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 en la exhibición y publicidad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en gónd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el Ret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, potenciando algún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2319480"/>
          <a:ext cx="8785440" cy="3254400"/>
        </p:xfrm>
        <a:graphic>
          <a:graphicData uri="http://schemas.openxmlformats.org/drawingml/2006/table">
            <a:tbl>
              <a:tblPr/>
              <a:tblGrid>
                <a:gridCol w="1440000"/>
                <a:gridCol w="2268360"/>
                <a:gridCol w="1540080"/>
                <a:gridCol w="2058840"/>
                <a:gridCol w="1478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pro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de incen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comunic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entos 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nios, exclus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ibición, publicidad com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retai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, descuentos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álogos, exhibición en gónd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 desde el proveedor, reembol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estras gr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5:33:59Z</dcterms:created>
  <dc:creator>Dii</dc:creator>
  <dc:description/>
  <dc:language>en-US</dc:language>
  <cp:lastModifiedBy>Paola Nahum</cp:lastModifiedBy>
  <cp:lastPrinted>2001-09-21T22:44:24Z</cp:lastPrinted>
  <dcterms:modified xsi:type="dcterms:W3CDTF">2007-11-08T19:13:33Z</dcterms:modified>
  <cp:revision>129</cp:revision>
  <dc:subject/>
  <dc:title>PRICING</dc:title>
</cp:coreProperties>
</file>