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395-232D-4FCE-AF8D-84D0FA5E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6E9-A74C-4DA4-8E67-FC2D2C7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D43-6AD4-4B6B-82D9-68D73E20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2BD-9F9A-45FE-A8FC-A04217CA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D6BA-E398-4362-A19C-581BB3BC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5A20-BFD8-46AF-8F0E-8D0A8F8E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A372-5161-4872-9EE8-5F10CC52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9E3-03F6-4BB6-8C4F-666DF8C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C79A-64C1-4419-AF0C-CB820775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0E6-3382-4894-8D45-CCB4628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609C-7995-4E9E-9B0E-4200CF3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939-4593-4BC9-9E31-24F10BD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5A6-A5C6-4D3E-A27E-6DF5918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9DA-6FD8-4005-B494-6A42211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F561-B7EB-4887-9543-B532FDCF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BB5-570B-42D3-98AD-42D90803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FF98-A1C2-454B-B119-98A6228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7828-D206-42E8-B1AC-F7596A57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F0FF-E795-41D4-AC88-5C7F49A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1885-BF2A-4869-BDBF-B078D1F9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2C21-62F6-46F6-B7EA-AFDE98A9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5D2D-5B90-4E57-B19B-9199421B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C8D-F968-4CC4-B111-78CA5F2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AD5B-7C85-47BD-9B37-AA29823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B738-9323-4676-9842-87482F8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DF7F-7225-4F49-9E03-18BA726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AD54-2ADB-4876-9927-84D201C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DE94-3B71-4318-ABC6-99830DB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0BB2-CCB8-4328-AB94-1C913236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45CE-2ADF-47B8-9DAC-4B21786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DBE1-0336-4A9B-8560-F7829CBD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B64E-068F-405F-9818-70D65A9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DCDCC-7051-444B-8243-2FE247F6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D3A-B6DD-43C0-800C-CA1429B1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A956-D882-40CF-B43B-BEBEFA82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647A-A49C-4CCC-8817-12DE214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BBB9-C626-40A9-83B2-C1D2886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8E31-FB63-4409-8441-13D4D98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47C0-BF36-423B-ADC8-0D39063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8E43-3B14-43CF-B639-15CBC65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E092-25D3-4539-B59C-748CAFE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4F3D-BCDC-4AC9-98BB-BBA4D529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6C245-E4EA-4614-AA95-9B9DA232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59B1-A0EC-4153-8B5A-1CF44A7A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678-A0B2-4E87-8052-03E55281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3B63-9F92-49E0-BEE7-AA7CE04F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E3F7-7299-4C95-99A0-4AA1FAC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65E8-D542-4DCA-ADF0-5909199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5C01-D7EC-4693-AE1F-833B5F5C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0693D-7FE3-4481-9B76-02E4161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D5D43-B08D-48BB-9296-5374A50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ADFDE-66B8-4DB3-B4D9-6561C15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D0827-AC75-48F7-BC73-D954B1F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28F8-F52E-46A6-965D-8FE7695A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3D09-4AEE-4D86-A474-1AE5BB17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263-23F9-4A54-9607-A9DE0C0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10B0D-A7CC-4A44-907C-0323C175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34B-56B6-4B5A-B121-59ECB82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29F-6678-44EB-BF51-363BC48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2DD-7928-4E49-90B4-330C1CB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DDB-EFC7-4223-A43E-774A8EDC8B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2C4-2113-4AEE-A681-CD92CFE1FE9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83E-502B-4895-A1D2-5EDEC4FC798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97B2-9516-438D-B684-39D70D0308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5781-591D-4362-81E4-3EE8DCE251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240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ola Nahum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sado en apuntes Máximo Bosch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end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, siempre hay Promociones, al menos en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í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stos Indire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783480" y="2276640"/>
            <a:ext cx="189216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0920" y="1249200"/>
            <a:ext cx="2085840" cy="4124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458136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2484360" y="476280"/>
            <a:ext cx="1576440" cy="239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84720" y="333360"/>
            <a:ext cx="3024000" cy="1079640"/>
          </a:xfrm>
          <a:prstGeom prst="cloudCallout">
            <a:avLst>
              <a:gd name="adj1" fmla="val -46273"/>
              <a:gd name="adj2" fmla="val 14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 helado es cremoso y 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068640"/>
            <a:ext cx="3024360" cy="1584360"/>
          </a:xfrm>
          <a:prstGeom prst="cloudCallout">
            <a:avLst>
              <a:gd name="adj1" fmla="val -35828"/>
              <a:gd name="adj2" fmla="val 55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oy a comprar un helado porque está b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708280"/>
            <a:ext cx="66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odo mercado se puede segmentar de acuerdo al grado de lealtad a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extremo, hay leales y “switch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os “switchers” son el principal objetivo d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Porqué exist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08280"/>
            <a:ext cx="74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pendiendo de las características del producto, se pueden dar distintos comportamientos en el consumidor, lo que hace más o menos atractiva llevar a cabo l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os Efect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fecto Invent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nsumo  (Efecto Co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biarse de marca  (Efecto “switch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297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228600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, y aumenta su consumo en 2 unidades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312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los Le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alidad será algo entre 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323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336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eales: Caso Interme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971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inea base de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4038480"/>
            <a:ext cx="4114800" cy="304920"/>
          </a:xfrm>
          <a:prstGeom prst="rect">
            <a:avLst/>
          </a:prstGeom>
          <a:solidFill>
            <a:srgbClr val="06de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33412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switchers compran en los dos períodos 8 unidades, pero la Marca con promoción los vende todos durante la semana de la promoción. La otra no vende nada durante dos perí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5800" y="2895480"/>
            <a:ext cx="5791320" cy="1828800"/>
            <a:chOff x="685800" y="2895480"/>
            <a:chExt cx="5791320" cy="1828800"/>
          </a:xfrm>
        </p:grpSpPr>
        <p:sp>
          <p:nvSpPr>
            <p:cNvPr id="37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0400" y="28954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41911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57600" y="2286000"/>
            <a:ext cx="1561680" cy="3073320"/>
            <a:chOff x="3657600" y="2286000"/>
            <a:chExt cx="1561680" cy="3073320"/>
          </a:xfrm>
        </p:grpSpPr>
        <p:sp>
          <p:nvSpPr>
            <p:cNvPr id="385" name=""/>
            <p:cNvSpPr/>
            <p:nvPr/>
          </p:nvSpPr>
          <p:spPr>
            <a:xfrm>
              <a:off x="3657600" y="3759120"/>
              <a:ext cx="45684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2286000"/>
              <a:ext cx="1409400" cy="1778040"/>
            </a:xfrm>
            <a:custGeom>
              <a:avLst/>
              <a:gdLst/>
              <a:ahLst/>
              <a:rect l="l" t="t" r="r" b="b"/>
              <a:pathLst>
                <a:path w="888" h="1120">
                  <a:moveTo>
                    <a:pt x="192" y="1120"/>
                  </a:moveTo>
                  <a:cubicBezTo>
                    <a:pt x="516" y="972"/>
                    <a:pt x="840" y="824"/>
                    <a:pt x="864" y="640"/>
                  </a:cubicBezTo>
                  <a:cubicBezTo>
                    <a:pt x="888" y="456"/>
                    <a:pt x="480" y="0"/>
                    <a:pt x="336" y="16"/>
                  </a:cubicBezTo>
                  <a:cubicBezTo>
                    <a:pt x="192" y="32"/>
                    <a:pt x="56" y="616"/>
                    <a:pt x="0" y="7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Análisis de  los switchers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 aumento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3428640"/>
            <a:ext cx="5334120" cy="1219680"/>
            <a:chOff x="685800" y="3428640"/>
            <a:chExt cx="5334120" cy="1219680"/>
          </a:xfrm>
        </p:grpSpPr>
        <p:sp>
          <p:nvSpPr>
            <p:cNvPr id="395" name=""/>
            <p:cNvSpPr/>
            <p:nvPr/>
          </p:nvSpPr>
          <p:spPr>
            <a:xfrm>
              <a:off x="68580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200400" y="3428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0400" y="3429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41911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3429000"/>
              <a:ext cx="533520" cy="121932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4191120"/>
              <a:ext cx="228600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38098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33920" y="38098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257800" y="2057400"/>
            <a:ext cx="33526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Todas las ventas de este período se las lleva la marca que hace la 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33920" y="251460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3505320"/>
            <a:ext cx="5334120" cy="1218960"/>
            <a:chOff x="1066680" y="3505320"/>
            <a:chExt cx="5334120" cy="1218960"/>
          </a:xfrm>
        </p:grpSpPr>
        <p:sp>
          <p:nvSpPr>
            <p:cNvPr id="407" name=""/>
            <p:cNvSpPr/>
            <p:nvPr/>
          </p:nvSpPr>
          <p:spPr>
            <a:xfrm>
              <a:off x="1066680" y="4267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581280" y="3505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371240" y="47242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4267080"/>
              <a:ext cx="2438280" cy="456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505320"/>
              <a:ext cx="533520" cy="12189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267080"/>
              <a:ext cx="2286000" cy="456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43000" y="3885840"/>
              <a:ext cx="2438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3885840"/>
              <a:ext cx="228600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66680" y="1066680"/>
            <a:ext cx="5791320" cy="1828800"/>
            <a:chOff x="1066680" y="1066680"/>
            <a:chExt cx="5791320" cy="1828800"/>
          </a:xfrm>
        </p:grpSpPr>
        <p:sp>
          <p:nvSpPr>
            <p:cNvPr id="417" name=""/>
            <p:cNvSpPr/>
            <p:nvPr/>
          </p:nvSpPr>
          <p:spPr>
            <a:xfrm>
              <a:off x="1066680" y="2362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81280" y="1599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1371240" y="28195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3000" y="2362320"/>
              <a:ext cx="2438280" cy="457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1280" y="1066680"/>
              <a:ext cx="533520" cy="175284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2362320"/>
              <a:ext cx="2286000" cy="5331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43000" y="1981080"/>
              <a:ext cx="2438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1981080"/>
              <a:ext cx="228600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14400" y="52578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ótese que en ambos casos las ventas aumentan, y que , porcentualmente, si la promoción la hace el más chico, es el que más gana. !!Se lleva las ventas del Grande en el período de la promoción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2133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962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 aumento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22096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 por sobre el costo, el que es igual para ambos fabrica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..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17002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5805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El valor indica el ingreso multiplicado por M, en que M es el tamaño del merc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209680"/>
            <a:ext cx="8077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ían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752480" y="2590920"/>
            <a:ext cx="5105520" cy="3352680"/>
            <a:chOff x="1752480" y="2590920"/>
            <a:chExt cx="5105520" cy="3352680"/>
          </a:xfrm>
        </p:grpSpPr>
        <p:sp>
          <p:nvSpPr>
            <p:cNvPr id="459" name=""/>
            <p:cNvSpPr/>
            <p:nvPr/>
          </p:nvSpPr>
          <p:spPr>
            <a:xfrm>
              <a:off x="32763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656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2480" y="34290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472428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3886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Si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4800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n aumento de Consu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360" y="26668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lt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05160" y="2666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Baja Lealt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29000" y="3657600"/>
              <a:ext cx="121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0000"/>
                  </a:solidFill>
                  <a:latin typeface="Times New Roman"/>
                </a:rPr>
                <a:t>Nadie gana. Poca pro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9000" y="4800600"/>
              <a:ext cx="1218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Cada uno Promociona hacia sus 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81480" y="37339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Marca no líder con claros Incen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29200" y="5029200"/>
              <a:ext cx="175248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Todos tienen incentivos.Much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Promo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594360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2590920"/>
              <a:ext cx="510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52480" y="259092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2743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as consideracion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Efecto de la Frecuencia de las Promociones en una Mar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ás que Rebajas de Pre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9280" y="79200"/>
            <a:ext cx="8785440" cy="666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7280" y="62244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92640" y="393840"/>
            <a:ext cx="914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49760" y="507960"/>
            <a:ext cx="914400" cy="800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6920" y="1557360"/>
            <a:ext cx="7751880" cy="4248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4380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216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78720" y="6021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93040" y="6048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688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18160" y="60451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99120" y="60483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91240" y="603252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10040" y="60292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77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44960" y="60357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51000" y="604368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17560" y="603576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724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50920" y="6019920"/>
            <a:ext cx="49536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160" y="6021360"/>
            <a:ext cx="495000" cy="63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80000" y="1879560"/>
            <a:ext cx="182880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EVALU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Tahoma"/>
              </a:rPr>
              <a:t>GLOB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22480" y="3220920"/>
            <a:ext cx="186696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UTIL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80080" y="3243240"/>
            <a:ext cx="18684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HEDO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AHOR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0336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4965840"/>
            <a:ext cx="8002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CONVE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NIEN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NTRE-TEN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965840"/>
            <a:ext cx="79992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VA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96360" y="4941720"/>
            <a:ext cx="7999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rebuchet MS"/>
              </a:rPr>
              <a:t>EXPLO-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612960" y="1276200"/>
            <a:ext cx="6858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9320" y="1216080"/>
            <a:ext cx="14040" cy="647640"/>
          </a:xfrm>
          <a:custGeom>
            <a:avLst/>
            <a:gdLst/>
            <a:ahLst/>
            <a:rect l="l" t="t" r="r" b="b"/>
            <a:pathLst>
              <a:path w="22" h="1021">
                <a:moveTo>
                  <a:pt x="0" y="1021"/>
                </a:moveTo>
                <a:lnTo>
                  <a:pt x="2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21440" y="129204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11320" y="2682720"/>
            <a:ext cx="1339920" cy="533520"/>
          </a:xfrm>
          <a:custGeom>
            <a:avLst/>
            <a:gdLst/>
            <a:ahLst/>
            <a:rect l="l" t="t" r="r" b="b"/>
            <a:pathLst>
              <a:path w="844" h="336">
                <a:moveTo>
                  <a:pt x="844" y="0"/>
                </a:move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2666880"/>
            <a:ext cx="1660320" cy="563760"/>
          </a:xfrm>
          <a:custGeom>
            <a:avLst/>
            <a:gdLst/>
            <a:ahLst/>
            <a:rect l="l" t="t" r="r" b="b"/>
            <a:pathLst>
              <a:path w="1046" h="355">
                <a:moveTo>
                  <a:pt x="0" y="0"/>
                </a:moveTo>
                <a:lnTo>
                  <a:pt x="1046" y="3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69960" y="4022640"/>
            <a:ext cx="852480" cy="946080"/>
          </a:xfrm>
          <a:custGeom>
            <a:avLst/>
            <a:gdLst/>
            <a:ahLst/>
            <a:rect l="l" t="t" r="r" b="b"/>
            <a:pathLst>
              <a:path w="537" h="596">
                <a:moveTo>
                  <a:pt x="537" y="0"/>
                </a:moveTo>
                <a:lnTo>
                  <a:pt x="0" y="5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27440" y="4051440"/>
            <a:ext cx="12600" cy="901440"/>
          </a:xfrm>
          <a:custGeom>
            <a:avLst/>
            <a:gdLst/>
            <a:ahLst/>
            <a:rect l="l" t="t" r="r" b="b"/>
            <a:pathLst>
              <a:path w="20" h="1420">
                <a:moveTo>
                  <a:pt x="0" y="0"/>
                </a:moveTo>
                <a:lnTo>
                  <a:pt x="20" y="14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82920" y="4008600"/>
            <a:ext cx="747720" cy="944280"/>
          </a:xfrm>
          <a:custGeom>
            <a:avLst/>
            <a:gdLst/>
            <a:ahLst/>
            <a:rect l="l" t="t" r="r" b="b"/>
            <a:pathLst>
              <a:path w="471" h="595">
                <a:moveTo>
                  <a:pt x="0" y="0"/>
                </a:moveTo>
                <a:lnTo>
                  <a:pt x="471" y="59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4068720"/>
            <a:ext cx="625320" cy="884160"/>
          </a:xfrm>
          <a:custGeom>
            <a:avLst/>
            <a:gdLst/>
            <a:ahLst/>
            <a:rect l="l" t="t" r="r" b="b"/>
            <a:pathLst>
              <a:path w="394" h="557">
                <a:moveTo>
                  <a:pt x="394" y="0"/>
                </a:moveTo>
                <a:lnTo>
                  <a:pt x="0" y="5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038480"/>
            <a:ext cx="3240" cy="914400"/>
          </a:xfrm>
          <a:custGeom>
            <a:avLst/>
            <a:gdLst/>
            <a:ahLst/>
            <a:rect l="l" t="t" r="r" b="b"/>
            <a:pathLst>
              <a:path w="2" h="576">
                <a:moveTo>
                  <a:pt x="0" y="0"/>
                </a:moveTo>
                <a:lnTo>
                  <a:pt x="2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84960" y="4068720"/>
            <a:ext cx="838440" cy="868320"/>
          </a:xfrm>
          <a:custGeom>
            <a:avLst/>
            <a:gdLst/>
            <a:ahLst/>
            <a:rect l="l" t="t" r="r" b="b"/>
            <a:pathLst>
              <a:path w="528" h="547">
                <a:moveTo>
                  <a:pt x="0" y="0"/>
                </a:moveTo>
                <a:lnTo>
                  <a:pt x="528" y="54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3040" y="5532480"/>
            <a:ext cx="882720" cy="487440"/>
          </a:xfrm>
          <a:custGeom>
            <a:avLst/>
            <a:gdLst/>
            <a:ahLst/>
            <a:rect l="l" t="t" r="r" b="b"/>
            <a:pathLst>
              <a:path w="556" h="307">
                <a:moveTo>
                  <a:pt x="556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5532480"/>
            <a:ext cx="625320" cy="503280"/>
          </a:xfrm>
          <a:custGeom>
            <a:avLst/>
            <a:gdLst/>
            <a:ahLst/>
            <a:rect l="l" t="t" r="r" b="b"/>
            <a:pathLst>
              <a:path w="394" h="317">
                <a:moveTo>
                  <a:pt x="394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1840" y="5532480"/>
            <a:ext cx="334800" cy="503280"/>
          </a:xfrm>
          <a:custGeom>
            <a:avLst/>
            <a:gdLst/>
            <a:ahLst/>
            <a:rect l="l" t="t" r="r" b="b"/>
            <a:pathLst>
              <a:path w="211" h="317">
                <a:moveTo>
                  <a:pt x="211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65240" y="5532480"/>
            <a:ext cx="655560" cy="503280"/>
          </a:xfrm>
          <a:custGeom>
            <a:avLst/>
            <a:gdLst/>
            <a:ahLst/>
            <a:rect l="l" t="t" r="r" b="b"/>
            <a:pathLst>
              <a:path w="413" h="317">
                <a:moveTo>
                  <a:pt x="413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92200" y="5546880"/>
            <a:ext cx="411480" cy="488880"/>
          </a:xfrm>
          <a:custGeom>
            <a:avLst/>
            <a:gdLst/>
            <a:ahLst/>
            <a:rect l="l" t="t" r="r" b="b"/>
            <a:pathLst>
              <a:path w="259" h="308">
                <a:moveTo>
                  <a:pt x="25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35360" y="5546880"/>
            <a:ext cx="196920" cy="473040"/>
          </a:xfrm>
          <a:custGeom>
            <a:avLst/>
            <a:gdLst/>
            <a:ahLst/>
            <a:rect l="l" t="t" r="r" b="b"/>
            <a:pathLst>
              <a:path w="124" h="298">
                <a:moveTo>
                  <a:pt x="124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13160" y="55468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9" y="0"/>
                </a:moveTo>
                <a:lnTo>
                  <a:pt x="0" y="3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55960" y="5532480"/>
            <a:ext cx="212760" cy="487440"/>
          </a:xfrm>
          <a:custGeom>
            <a:avLst/>
            <a:gdLst/>
            <a:ahLst/>
            <a:rect l="l" t="t" r="r" b="b"/>
            <a:pathLst>
              <a:path w="134" h="307">
                <a:moveTo>
                  <a:pt x="134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5546880"/>
            <a:ext cx="15840" cy="473040"/>
          </a:xfrm>
          <a:custGeom>
            <a:avLst/>
            <a:gdLst/>
            <a:ahLst/>
            <a:rect l="l" t="t" r="r" b="b"/>
            <a:pathLst>
              <a:path w="10" h="298">
                <a:moveTo>
                  <a:pt x="10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45040" y="5562720"/>
            <a:ext cx="289080" cy="487080"/>
          </a:xfrm>
          <a:custGeom>
            <a:avLst/>
            <a:gdLst/>
            <a:ahLst/>
            <a:rect l="l" t="t" r="r" b="b"/>
            <a:pathLst>
              <a:path w="182" h="307">
                <a:moveTo>
                  <a:pt x="182" y="0"/>
                </a:moveTo>
                <a:lnTo>
                  <a:pt x="0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5562720"/>
            <a:ext cx="122400" cy="473040"/>
          </a:xfrm>
          <a:custGeom>
            <a:avLst/>
            <a:gdLst/>
            <a:ahLst/>
            <a:rect l="l" t="t" r="r" b="b"/>
            <a:pathLst>
              <a:path w="77" h="298">
                <a:moveTo>
                  <a:pt x="77" y="0"/>
                </a:moveTo>
                <a:lnTo>
                  <a:pt x="0" y="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37400" y="5546880"/>
            <a:ext cx="45720" cy="502920"/>
          </a:xfrm>
          <a:custGeom>
            <a:avLst/>
            <a:gdLst/>
            <a:ahLst/>
            <a:rect l="l" t="t" r="r" b="b"/>
            <a:pathLst>
              <a:path w="29" h="317">
                <a:moveTo>
                  <a:pt x="0" y="0"/>
                </a:moveTo>
                <a:lnTo>
                  <a:pt x="29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46880" y="5532480"/>
            <a:ext cx="166680" cy="50328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105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97520" y="5546880"/>
            <a:ext cx="60480" cy="502920"/>
          </a:xfrm>
          <a:custGeom>
            <a:avLst/>
            <a:gdLst/>
            <a:ahLst/>
            <a:rect l="l" t="t" r="r" b="b"/>
            <a:pathLst>
              <a:path w="38" h="317">
                <a:moveTo>
                  <a:pt x="0" y="0"/>
                </a:moveTo>
                <a:lnTo>
                  <a:pt x="38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5532480"/>
            <a:ext cx="274680" cy="533520"/>
          </a:xfrm>
          <a:custGeom>
            <a:avLst/>
            <a:gdLst/>
            <a:ahLst/>
            <a:rect l="l" t="t" r="r" b="b"/>
            <a:pathLst>
              <a:path w="173" h="336">
                <a:moveTo>
                  <a:pt x="0" y="0"/>
                </a:moveTo>
                <a:lnTo>
                  <a:pt x="17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18480" y="5516640"/>
            <a:ext cx="14400" cy="503280"/>
          </a:xfrm>
          <a:custGeom>
            <a:avLst/>
            <a:gdLst/>
            <a:ahLst/>
            <a:rect l="l" t="t" r="r" b="b"/>
            <a:pathLst>
              <a:path w="9" h="317">
                <a:moveTo>
                  <a:pt x="9" y="0"/>
                </a:moveTo>
                <a:lnTo>
                  <a:pt x="0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047080" y="5516640"/>
            <a:ext cx="228600" cy="519120"/>
          </a:xfrm>
          <a:custGeom>
            <a:avLst/>
            <a:gdLst/>
            <a:ahLst/>
            <a:rect l="l" t="t" r="r" b="b"/>
            <a:pathLst>
              <a:path w="144" h="327">
                <a:moveTo>
                  <a:pt x="0" y="0"/>
                </a:moveTo>
                <a:lnTo>
                  <a:pt x="144" y="3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5516640"/>
            <a:ext cx="473040" cy="549360"/>
          </a:xfrm>
          <a:custGeom>
            <a:avLst/>
            <a:gdLst/>
            <a:ahLst/>
            <a:rect l="l" t="t" r="r" b="b"/>
            <a:pathLst>
              <a:path w="298" h="346">
                <a:moveTo>
                  <a:pt x="0" y="0"/>
                </a:moveTo>
                <a:lnTo>
                  <a:pt x="298" y="34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8280" y="1816200"/>
            <a:ext cx="171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LA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11280" y="2349360"/>
            <a:ext cx="82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47640" y="404640"/>
          <a:ext cx="7848720" cy="5580000"/>
        </p:xfrm>
        <a:graphic>
          <a:graphicData uri="http://schemas.openxmlformats.org/drawingml/2006/table">
            <a:tbl>
              <a:tblPr/>
              <a:tblGrid>
                <a:gridCol w="434880"/>
                <a:gridCol w="6299280"/>
                <a:gridCol w="1114560"/>
              </a:tblGrid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I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ahorrar di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or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gasto me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ndo esta promoción el producto me sale más econó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 esta promoción accedo a una marca de mejor calidad al mismo pre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permite comprar una marca de mayor presti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as a esta promoción puedo comprar un producto mejor a lo hab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ncontrara esta promoción mientras compro, recordaría si necesito o no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i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 esta promoción me ayuda a recordar que debo compr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esta promoción estuviera señalada, me acordaría más fácilmente de llevar el produc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r esta promoción me haría sentir más astuto que los que no la us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ión de val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aprovechara esta promoción, me sentiría satisfecho por haber hecho una mejor comp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 sentiría ingenioso si aprovechara esta of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una marca que no consumo tuviera esta promoción, la compra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incentiva a probar nuevas mar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me hace más fácil adquirir y conocer marcas que no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entreten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eten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es diver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 paso bien participando de esta promo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alá hubieran más promociones como é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. Gl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sta es una buena promo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 promoción vale la p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990360" y="2400120"/>
            <a:ext cx="7201080" cy="4056480"/>
            <a:chOff x="990360" y="2400120"/>
            <a:chExt cx="7201080" cy="4056480"/>
          </a:xfrm>
        </p:grpSpPr>
        <p:sp>
          <p:nvSpPr>
            <p:cNvPr id="548" name=""/>
            <p:cNvSpPr/>
            <p:nvPr/>
          </p:nvSpPr>
          <p:spPr>
            <a:xfrm>
              <a:off x="7848720" y="56865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533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6752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29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4376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7700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64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14720" y="58291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9800" y="56959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4800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05120" y="583884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19280" y="567684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0960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581976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2876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0640" y="573408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5280" y="581040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9440" y="57150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0,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2944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673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14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17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8592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86000" y="422892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9920" y="2647800"/>
              <a:ext cx="342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00360" y="2628720"/>
              <a:ext cx="3427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52520" y="2400120"/>
              <a:ext cx="612000" cy="25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71880" y="2400120"/>
              <a:ext cx="6127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2400120"/>
              <a:ext cx="61200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24200" y="3047760"/>
              <a:ext cx="1142640" cy="57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88040" y="2648520"/>
              <a:ext cx="419040" cy="466560"/>
            </a:xfrm>
            <a:custGeom>
              <a:avLst/>
              <a:gdLst/>
              <a:ahLst/>
              <a:rect l="l" t="t" r="r" b="b"/>
              <a:pathLst>
                <a:path w="660" h="735">
                  <a:moveTo>
                    <a:pt x="660" y="7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7960" y="2639160"/>
              <a:ext cx="360" cy="399960"/>
            </a:xfrm>
            <a:custGeom>
              <a:avLst/>
              <a:gdLst/>
              <a:ahLst/>
              <a:rect l="l" t="t" r="r" b="b"/>
              <a:pathLst>
                <a:path w="1" h="630">
                  <a:moveTo>
                    <a:pt x="0" y="63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54880" y="2648520"/>
              <a:ext cx="361800" cy="495000"/>
            </a:xfrm>
            <a:custGeom>
              <a:avLst/>
              <a:gdLst/>
              <a:ahLst/>
              <a:rect l="l" t="t" r="r" b="b"/>
              <a:pathLst>
                <a:path w="570" h="780">
                  <a:moveTo>
                    <a:pt x="0" y="780"/>
                  </a:move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9560" y="3429720"/>
              <a:ext cx="2143080" cy="1942920"/>
            </a:xfrm>
            <a:custGeom>
              <a:avLst/>
              <a:gdLst/>
              <a:ahLst/>
              <a:rect l="l" t="t" r="r" b="b"/>
              <a:pathLst>
                <a:path w="3375" h="3060">
                  <a:moveTo>
                    <a:pt x="3375" y="0"/>
                  </a:moveTo>
                  <a:lnTo>
                    <a:pt x="0" y="30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00080" y="3553560"/>
              <a:ext cx="1142640" cy="1842480"/>
            </a:xfrm>
            <a:custGeom>
              <a:avLst/>
              <a:gdLst/>
              <a:ahLst/>
              <a:rect l="l" t="t" r="r" b="b"/>
              <a:pathLst>
                <a:path w="1800" h="2902">
                  <a:moveTo>
                    <a:pt x="1800" y="0"/>
                  </a:moveTo>
                  <a:lnTo>
                    <a:pt x="0" y="2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81240" y="3629520"/>
              <a:ext cx="237960" cy="1756800"/>
            </a:xfrm>
            <a:custGeom>
              <a:avLst/>
              <a:gdLst/>
              <a:ahLst/>
              <a:rect l="l" t="t" r="r" b="b"/>
              <a:pathLst>
                <a:path w="375" h="2767">
                  <a:moveTo>
                    <a:pt x="375" y="0"/>
                  </a:moveTo>
                  <a:lnTo>
                    <a:pt x="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7240" y="3620160"/>
              <a:ext cx="685800" cy="1756800"/>
            </a:xfrm>
            <a:custGeom>
              <a:avLst/>
              <a:gdLst/>
              <a:ahLst/>
              <a:rect l="l" t="t" r="r" b="b"/>
              <a:pathLst>
                <a:path w="1080" h="2767">
                  <a:moveTo>
                    <a:pt x="0" y="0"/>
                  </a:moveTo>
                  <a:lnTo>
                    <a:pt x="1080" y="27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86120" y="3543120"/>
              <a:ext cx="1685880" cy="1814760"/>
            </a:xfrm>
            <a:custGeom>
              <a:avLst/>
              <a:gdLst/>
              <a:ahLst/>
              <a:rect l="l" t="t" r="r" b="b"/>
              <a:pathLst>
                <a:path w="2655" h="2858">
                  <a:moveTo>
                    <a:pt x="0" y="0"/>
                  </a:moveTo>
                  <a:lnTo>
                    <a:pt x="2655" y="28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38760" y="3429720"/>
              <a:ext cx="2733480" cy="1928160"/>
            </a:xfrm>
            <a:custGeom>
              <a:avLst/>
              <a:gdLst/>
              <a:ahLst/>
              <a:rect l="l" t="t" r="r" b="b"/>
              <a:pathLst>
                <a:path w="4305" h="3037">
                  <a:moveTo>
                    <a:pt x="0" y="0"/>
                  </a:moveTo>
                  <a:lnTo>
                    <a:pt x="4305" y="30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57120" y="538164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57360" y="54007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l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8520" y="5391000"/>
              <a:ext cx="702360" cy="36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7480" y="5371920"/>
              <a:ext cx="70200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t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5772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60480" y="5371920"/>
              <a:ext cx="702360" cy="36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61720" y="5700960"/>
              <a:ext cx="218880" cy="428400"/>
            </a:xfrm>
            <a:custGeom>
              <a:avLst/>
              <a:gdLst/>
              <a:ahLst/>
              <a:rect l="l" t="t" r="r" b="b"/>
              <a:pathLst>
                <a:path w="345" h="675">
                  <a:moveTo>
                    <a:pt x="34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2320" y="5739120"/>
              <a:ext cx="19080" cy="380880"/>
            </a:xfrm>
            <a:custGeom>
              <a:avLst/>
              <a:gdLst/>
              <a:ahLst/>
              <a:rect l="l" t="t" r="r" b="b"/>
              <a:pathLst>
                <a:path w="30" h="600">
                  <a:moveTo>
                    <a:pt x="3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0920" y="5729760"/>
              <a:ext cx="123840" cy="399960"/>
            </a:xfrm>
            <a:custGeom>
              <a:avLst/>
              <a:gdLst/>
              <a:ahLst/>
              <a:rect l="l" t="t" r="r" b="b"/>
              <a:pathLst>
                <a:path w="195" h="630">
                  <a:moveTo>
                    <a:pt x="0" y="0"/>
                  </a:moveTo>
                  <a:lnTo>
                    <a:pt x="19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90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6188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6124320"/>
              <a:ext cx="3452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381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992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61360" y="612432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4772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0988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2040" y="6134040"/>
              <a:ext cx="35604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D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670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2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H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8636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4816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1032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05680" y="614376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748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29640" y="6134040"/>
              <a:ext cx="352800" cy="31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9840" y="5729760"/>
              <a:ext cx="199800" cy="390240"/>
            </a:xfrm>
            <a:custGeom>
              <a:avLst/>
              <a:gdLst/>
              <a:ahLst/>
              <a:rect l="l" t="t" r="r" b="b"/>
              <a:pathLst>
                <a:path w="315" h="615">
                  <a:moveTo>
                    <a:pt x="315" y="0"/>
                  </a:moveTo>
                  <a:lnTo>
                    <a:pt x="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71640" y="5758200"/>
              <a:ext cx="360" cy="361800"/>
            </a:xfrm>
            <a:custGeom>
              <a:avLst/>
              <a:gdLst/>
              <a:ahLst/>
              <a:rect l="l" t="t" r="r" b="b"/>
              <a:pathLst>
                <a:path w="1" h="570">
                  <a:moveTo>
                    <a:pt x="0" y="0"/>
                  </a:moveTo>
                  <a:lnTo>
                    <a:pt x="0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440" y="5739120"/>
              <a:ext cx="171360" cy="390240"/>
            </a:xfrm>
            <a:custGeom>
              <a:avLst/>
              <a:gdLst/>
              <a:ahLst/>
              <a:rect l="l" t="t" r="r" b="b"/>
              <a:pathLst>
                <a:path w="270" h="615">
                  <a:moveTo>
                    <a:pt x="0" y="0"/>
                  </a:moveTo>
                  <a:lnTo>
                    <a:pt x="270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9440" y="571032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0960" y="574848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28920" y="5715000"/>
              <a:ext cx="142920" cy="414720"/>
            </a:xfrm>
            <a:custGeom>
              <a:avLst/>
              <a:gdLst/>
              <a:ahLst/>
              <a:rect l="l" t="t" r="r" b="b"/>
              <a:pathLst>
                <a:path w="225" h="653">
                  <a:moveTo>
                    <a:pt x="0" y="0"/>
                  </a:moveTo>
                  <a:lnTo>
                    <a:pt x="22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38760" y="5691600"/>
              <a:ext cx="142560" cy="428400"/>
            </a:xfrm>
            <a:custGeom>
              <a:avLst/>
              <a:gdLst/>
              <a:ahLst/>
              <a:rect l="l" t="t" r="r" b="b"/>
              <a:pathLst>
                <a:path w="225" h="675">
                  <a:moveTo>
                    <a:pt x="225" y="0"/>
                  </a:move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005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571032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67440" y="5700960"/>
              <a:ext cx="152280" cy="419040"/>
            </a:xfrm>
            <a:custGeom>
              <a:avLst/>
              <a:gdLst/>
              <a:ahLst/>
              <a:rect l="l" t="t" r="r" b="b"/>
              <a:pathLst>
                <a:path w="240" h="660">
                  <a:moveTo>
                    <a:pt x="240" y="0"/>
                  </a:moveTo>
                  <a:lnTo>
                    <a:pt x="0" y="6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10160" y="5720040"/>
              <a:ext cx="9360" cy="409680"/>
            </a:xfrm>
            <a:custGeom>
              <a:avLst/>
              <a:gdLst/>
              <a:ahLst/>
              <a:rect l="l" t="t" r="r" b="b"/>
              <a:pathLst>
                <a:path w="15" h="645">
                  <a:moveTo>
                    <a:pt x="0" y="0"/>
                  </a:moveTo>
                  <a:lnTo>
                    <a:pt x="15" y="6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9400" y="5715000"/>
              <a:ext cx="162000" cy="414720"/>
            </a:xfrm>
            <a:custGeom>
              <a:avLst/>
              <a:gdLst/>
              <a:ahLst/>
              <a:rect l="l" t="t" r="r" b="b"/>
              <a:pathLst>
                <a:path w="255" h="653">
                  <a:moveTo>
                    <a:pt x="0" y="0"/>
                  </a:moveTo>
                  <a:lnTo>
                    <a:pt x="255" y="6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77040" y="5715000"/>
              <a:ext cx="152280" cy="433440"/>
            </a:xfrm>
            <a:custGeom>
              <a:avLst/>
              <a:gdLst/>
              <a:ahLst/>
              <a:rect l="l" t="t" r="r" b="b"/>
              <a:pathLst>
                <a:path w="240" h="683">
                  <a:moveTo>
                    <a:pt x="240" y="0"/>
                  </a:moveTo>
                  <a:lnTo>
                    <a:pt x="0" y="6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39200" y="5739120"/>
              <a:ext cx="360" cy="380880"/>
            </a:xfrm>
            <a:custGeom>
              <a:avLst/>
              <a:gdLst/>
              <a:ahLst/>
              <a:rect l="l" t="t" r="r" b="b"/>
              <a:pathLst>
                <a:path w="1" h="600">
                  <a:moveTo>
                    <a:pt x="0" y="0"/>
                  </a:move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8080" y="5691600"/>
              <a:ext cx="161640" cy="428400"/>
            </a:xfrm>
            <a:custGeom>
              <a:avLst/>
              <a:gdLst/>
              <a:ahLst/>
              <a:rect l="l" t="t" r="r" b="b"/>
              <a:pathLst>
                <a:path w="255" h="675">
                  <a:moveTo>
                    <a:pt x="0" y="0"/>
                  </a:moveTo>
                  <a:lnTo>
                    <a:pt x="255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31240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ecesitamos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erramientas de tipo Ec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Única forma de “eficientizar” las pro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Línea 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2590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define la Línea Base (LB) como las ventas que hubiera tenido la Marca en el período afectado por la Promoción , si la Promoción no se hubiese realizado, pero todo lo demás sí. (todo lo demás: otras promociones, promociones de la competenci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ínea base..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1905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stima la LB en base ventas semanales durante un período largo de tiempo, (¿2 años?), a nivel de s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1680" y="2895480"/>
            <a:ext cx="80010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trabaja la data de modo de eliminar los ef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entos Especiales (Navidad, “18”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fectos Promocionales, propios o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iebres de Stock en ítemes baja R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ores Especiales de Mercado (Eventos de otras Tiendas, Lluvias, y simila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360" y="1557360"/>
            <a:ext cx="8820000" cy="3600000"/>
            <a:chOff x="144360" y="1557360"/>
            <a:chExt cx="8820000" cy="3600000"/>
          </a:xfrm>
        </p:grpSpPr>
        <p:cxnSp>
          <p:nvCxnSpPr>
            <p:cNvPr id="230" name="_s524310"/>
            <p:cNvCxnSpPr>
              <a:stCxn id="231" idx="0"/>
              <a:endCxn id="232" idx="2"/>
            </p:cNvCxnSpPr>
            <p:nvPr/>
          </p:nvCxnSpPr>
          <p:spPr>
            <a:xfrm flipV="1" rot="16200000">
              <a:off x="7506000" y="3577680"/>
              <a:ext cx="450720" cy="90900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524308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6597720" y="3578040"/>
              <a:ext cx="450720" cy="908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524306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3422520" y="312336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524304"/>
            <p:cNvCxnSpPr>
              <a:stCxn id="239" idx="0"/>
              <a:endCxn id="237" idx="2"/>
            </p:cNvCxnSpPr>
            <p:nvPr/>
          </p:nvCxnSpPr>
          <p:spPr>
            <a:xfrm flipV="1" rot="16200000">
              <a:off x="2514960" y="4030920"/>
              <a:ext cx="450720" cy="216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524302"/>
            <p:cNvCxnSpPr>
              <a:stCxn id="241" idx="0"/>
              <a:endCxn id="237" idx="2"/>
            </p:cNvCxnSpPr>
            <p:nvPr/>
          </p:nvCxnSpPr>
          <p:spPr>
            <a:xfrm flipH="1" flipV="1" rot="5400000">
              <a:off x="1605600" y="3123720"/>
              <a:ext cx="450720" cy="181728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524299"/>
            <p:cNvCxnSpPr>
              <a:stCxn id="232" idx="0"/>
              <a:endCxn id="243" idx="2"/>
            </p:cNvCxnSpPr>
            <p:nvPr/>
          </p:nvCxnSpPr>
          <p:spPr>
            <a:xfrm flipV="1" rot="16200000">
              <a:off x="5916240" y="1546560"/>
              <a:ext cx="450720" cy="22712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524298"/>
            <p:cNvCxnSpPr>
              <a:stCxn id="237" idx="0"/>
              <a:endCxn id="243" idx="2"/>
            </p:cNvCxnSpPr>
            <p:nvPr/>
          </p:nvCxnSpPr>
          <p:spPr>
            <a:xfrm flipH="1" flipV="1" rot="5400000">
              <a:off x="3647520" y="1548360"/>
              <a:ext cx="450720" cy="2267640"/>
            </a:xfrm>
            <a:prstGeom prst="bentConnector3">
              <a:avLst>
                <a:gd name="adj1" fmla="val 32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524294"/>
            <p:cNvSpPr/>
            <p:nvPr/>
          </p:nvSpPr>
          <p:spPr>
            <a:xfrm>
              <a:off x="4227840" y="15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Verdana"/>
                </a:rPr>
                <a:t>Promo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524295"/>
            <p:cNvSpPr/>
            <p:nvPr/>
          </p:nvSpPr>
          <p:spPr>
            <a:xfrm>
              <a:off x="195876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ti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524296"/>
            <p:cNvSpPr/>
            <p:nvPr/>
          </p:nvSpPr>
          <p:spPr>
            <a:xfrm>
              <a:off x="6498720" y="290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Por característic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_s524301"/>
            <p:cNvSpPr/>
            <p:nvPr/>
          </p:nvSpPr>
          <p:spPr>
            <a:xfrm>
              <a:off x="144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Al ca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_s524303"/>
            <p:cNvSpPr/>
            <p:nvPr/>
          </p:nvSpPr>
          <p:spPr>
            <a:xfrm>
              <a:off x="196092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irectas al consumid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524305"/>
            <p:cNvSpPr/>
            <p:nvPr/>
          </p:nvSpPr>
          <p:spPr>
            <a:xfrm>
              <a:off x="3777480" y="4257360"/>
              <a:ext cx="155484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l retail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524307"/>
            <p:cNvSpPr/>
            <p:nvPr/>
          </p:nvSpPr>
          <p:spPr>
            <a:xfrm>
              <a:off x="5592240" y="4257360"/>
              <a:ext cx="15552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De incentiv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_s524309"/>
            <p:cNvSpPr/>
            <p:nvPr/>
          </p:nvSpPr>
          <p:spPr>
            <a:xfrm>
              <a:off x="7407360" y="4257360"/>
              <a:ext cx="1557000" cy="900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Verdana"/>
                </a:rPr>
                <a:t>Comunicacional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álculo del Efec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fecto (de Corto Plazo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641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87640" y="1052640"/>
            <a:ext cx="2808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87640" y="46544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2852640"/>
            <a:ext cx="2808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20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40360" y="3860640"/>
            <a:ext cx="502920" cy="720720"/>
          </a:xfrm>
          <a:prstGeom prst="downArrow">
            <a:avLst>
              <a:gd name="adj1" fmla="val 50000"/>
              <a:gd name="adj2" fmla="val 3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3"/>
          </p:cNvCxnSpPr>
          <p:nvPr/>
        </p:nvCxnSpPr>
        <p:spPr>
          <a:xfrm>
            <a:off x="5796000" y="1520640"/>
            <a:ext cx="2160" cy="3602520"/>
          </a:xfrm>
          <a:prstGeom prst="bentConnector3">
            <a:avLst>
              <a:gd name="adj1" fmla="val 275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156360" y="2924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ciones al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029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del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215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ones a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irectas al Consum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773360"/>
            <a:ext cx="7924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, reembo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rigidas al Ca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 tempo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 en la exhibición y publicidad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en gónd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mociones del Ret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, potenciando algún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2319480"/>
          <a:ext cx="8785440" cy="3254400"/>
        </p:xfrm>
        <a:graphic>
          <a:graphicData uri="http://schemas.openxmlformats.org/drawingml/2006/table">
            <a:tbl>
              <a:tblPr/>
              <a:tblGrid>
                <a:gridCol w="1440000"/>
                <a:gridCol w="2268360"/>
                <a:gridCol w="1540080"/>
                <a:gridCol w="2058840"/>
                <a:gridCol w="1478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promo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de incen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mente comunic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prec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entos al 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nios, exclus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ibición, publicidad com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in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retai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, descuentos al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álogos, exhibición en gónd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consumi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pones desde el proveedor, reembol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os, club de so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estras gr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egos, entrete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5:33:59Z</dcterms:created>
  <dc:creator>Dii</dc:creator>
  <dc:description/>
  <dc:language>en-US</dc:language>
  <cp:lastModifiedBy>Paola Nahum</cp:lastModifiedBy>
  <cp:lastPrinted>2001-09-21T22:44:24Z</cp:lastPrinted>
  <dcterms:modified xsi:type="dcterms:W3CDTF">2007-11-08T19:13:33Z</dcterms:modified>
  <cp:revision>129</cp:revision>
  <dc:subject/>
  <dc:title>PRICING</dc:title>
</cp:coreProperties>
</file>