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96B-9A7A-40C5-821F-3B762B9A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424-FC25-4AF2-9C9B-CE500B60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26C-9033-42A3-B148-C2A188D0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2134-4EDB-44E3-969E-8CFBBF39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F93F-C023-402E-BCAE-3566437F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2CDE-66D9-43EE-A128-40A428F8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CFC1-23DA-4BEA-A187-1C934D4A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24A3-A865-4DBE-9C46-E112643D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F703-3AA3-4116-84B0-7C4BC57B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7AF6-5A59-4A15-8C00-F1978FCE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9BF7-DE26-4F59-9D55-8489F348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00E-21EE-4D2C-8DFA-835EF4FD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FF0E-98DB-4BB8-B3B5-4DFF8EB4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B491-8798-4543-AC1B-B7F1359E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8F17-26D1-452D-AC98-6A156768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0188-75E3-4318-BB56-22665FFE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05C2-6849-4C5F-9332-931AA917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EA43-E7A9-4AA0-A93E-B9EA7931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A090E-1D9D-41A5-AB56-43766ABA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DC84-3DB4-4CBB-90E6-3CD06D4E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E7389-580E-4BEE-8EAD-A1130C61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67FCC-7510-4880-824C-04F15C57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9AA-1924-4996-8B29-25C35DF8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2BADA-B2C5-4647-9EB5-80623E76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BBFB-2D95-4ECF-83D1-6BE85717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770C-EE3D-46AF-84FB-D55FCCBB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970F7-A288-4745-B9D3-5A9CF127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6F6B0-0279-4C28-9666-634442D2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5B8C-A4D1-48CA-BCDB-A060F84A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E18E3-08A5-4FCB-9D1F-3E2F9F92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63C25-2432-4F05-B5CA-75F4ECB7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EF4B7-76D5-4579-BD93-AAAF330A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0E61B-4FA3-4967-A23B-0BA4D0AE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7E4-1456-43FF-BE86-D7D17C16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19BBE-D39C-4E90-BA2E-7A93D414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B58BF-D62E-4AF0-82D5-2C2B7A83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C4F3D-11DC-499B-9A6F-E037F696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67206-E349-4262-A8E3-F7800056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52740-08BF-4E2D-99FA-C70D2134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4A347-3E88-43DD-BE56-43D37C37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7AD27-A5F6-455D-9983-8D128614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00FA2-55BC-42B3-A7E1-6B143722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0D4B2-6207-48E8-9F2A-31800FD4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EAAEB-800B-4180-A8C5-46C7586D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B99-3649-45A0-A1F5-B08CD3C7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33F41-8314-4FBF-BD2D-9AE32158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D49EC-F9CC-47FE-86B9-0987DFEB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54199-A6AE-4164-B40C-5F6D2A6F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64F94-E360-4EDF-85E5-71406597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FFAF9-A508-488E-BC03-5BCBD5F3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DFA06-0D87-4235-A4FD-AB3BD0A1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BCA2C-5F02-4D95-8499-241CEBF2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CB787-942A-491E-AA6C-6D53A3A4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94E67-8FF4-4B1C-A5F3-A22D4303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D4103-0EA1-473E-9B4E-2AEFE89C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590-5335-4154-9AA5-AAF614E7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58D18-29BD-4B05-AB37-52F7BEA2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309-0B69-46BE-B361-64F57C4E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BBA-4335-4D0A-B1C8-E4D835B8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44F-C819-4EE4-83A0-5C7AF1F2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F47C-1820-41BD-8E74-3D6CC56FD1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214E-C39F-463A-B699-6B15B8F0C72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E83F-3BAB-42CE-B001-2C9476EF116D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A202-6EA0-4C4A-9A14-B21C55689E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4C66-F552-4AE3-9F91-0BCDAE0EB4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240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MO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116000" y="3885840"/>
            <a:ext cx="68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ola Nahum 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asado en apuntes Máximo Bosch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end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13372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más de un 20% mayor que gasto en publicidad 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al Canal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luso en Retailers, siempre hay Promociones, al menos en algunas categor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90512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promociones tienen costos indirectos que pueden ser gr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9880" y="4430880"/>
            <a:ext cx="2982960" cy="215640"/>
          </a:xfrm>
          <a:custGeom>
            <a:avLst/>
            <a:gdLst/>
            <a:ahLst/>
            <a:rect l="l" t="t" r="r" b="b"/>
            <a:pathLst>
              <a:path w="1879" h="136">
                <a:moveTo>
                  <a:pt x="0" y="136"/>
                </a:moveTo>
                <a:cubicBezTo>
                  <a:pt x="60" y="117"/>
                  <a:pt x="103" y="114"/>
                  <a:pt x="170" y="108"/>
                </a:cubicBezTo>
                <a:cubicBezTo>
                  <a:pt x="204" y="85"/>
                  <a:pt x="215" y="77"/>
                  <a:pt x="255" y="89"/>
                </a:cubicBezTo>
                <a:cubicBezTo>
                  <a:pt x="309" y="126"/>
                  <a:pt x="344" y="111"/>
                  <a:pt x="406" y="98"/>
                </a:cubicBezTo>
                <a:cubicBezTo>
                  <a:pt x="476" y="123"/>
                  <a:pt x="552" y="106"/>
                  <a:pt x="623" y="89"/>
                </a:cubicBezTo>
                <a:cubicBezTo>
                  <a:pt x="632" y="83"/>
                  <a:pt x="641" y="64"/>
                  <a:pt x="651" y="70"/>
                </a:cubicBezTo>
                <a:cubicBezTo>
                  <a:pt x="671" y="81"/>
                  <a:pt x="689" y="127"/>
                  <a:pt x="689" y="127"/>
                </a:cubicBezTo>
                <a:cubicBezTo>
                  <a:pt x="739" y="93"/>
                  <a:pt x="802" y="90"/>
                  <a:pt x="859" y="70"/>
                </a:cubicBezTo>
                <a:cubicBezTo>
                  <a:pt x="899" y="84"/>
                  <a:pt x="932" y="74"/>
                  <a:pt x="972" y="61"/>
                </a:cubicBezTo>
                <a:cubicBezTo>
                  <a:pt x="1038" y="64"/>
                  <a:pt x="1106" y="59"/>
                  <a:pt x="1171" y="70"/>
                </a:cubicBezTo>
                <a:cubicBezTo>
                  <a:pt x="1261" y="85"/>
                  <a:pt x="1123" y="120"/>
                  <a:pt x="1218" y="89"/>
                </a:cubicBezTo>
                <a:cubicBezTo>
                  <a:pt x="1283" y="104"/>
                  <a:pt x="1341" y="110"/>
                  <a:pt x="1407" y="98"/>
                </a:cubicBezTo>
                <a:cubicBezTo>
                  <a:pt x="1503" y="35"/>
                  <a:pt x="1441" y="63"/>
                  <a:pt x="1605" y="51"/>
                </a:cubicBezTo>
                <a:cubicBezTo>
                  <a:pt x="1680" y="0"/>
                  <a:pt x="1701" y="66"/>
                  <a:pt x="1766" y="70"/>
                </a:cubicBezTo>
                <a:cubicBezTo>
                  <a:pt x="1804" y="72"/>
                  <a:pt x="1841" y="70"/>
                  <a:pt x="187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46760" y="3747960"/>
            <a:ext cx="3913200" cy="1438560"/>
          </a:xfrm>
          <a:custGeom>
            <a:avLst/>
            <a:gdLst/>
            <a:ahLst/>
            <a:rect l="l" t="t" r="r" b="b"/>
            <a:pathLst>
              <a:path w="2465" h="906">
                <a:moveTo>
                  <a:pt x="0" y="604"/>
                </a:moveTo>
                <a:cubicBezTo>
                  <a:pt x="149" y="569"/>
                  <a:pt x="307" y="618"/>
                  <a:pt x="453" y="566"/>
                </a:cubicBezTo>
                <a:cubicBezTo>
                  <a:pt x="466" y="569"/>
                  <a:pt x="478" y="577"/>
                  <a:pt x="491" y="576"/>
                </a:cubicBezTo>
                <a:cubicBezTo>
                  <a:pt x="514" y="574"/>
                  <a:pt x="540" y="572"/>
                  <a:pt x="557" y="557"/>
                </a:cubicBezTo>
                <a:cubicBezTo>
                  <a:pt x="560" y="555"/>
                  <a:pt x="572" y="479"/>
                  <a:pt x="576" y="472"/>
                </a:cubicBezTo>
                <a:cubicBezTo>
                  <a:pt x="582" y="463"/>
                  <a:pt x="595" y="459"/>
                  <a:pt x="604" y="453"/>
                </a:cubicBezTo>
                <a:cubicBezTo>
                  <a:pt x="625" y="422"/>
                  <a:pt x="653" y="411"/>
                  <a:pt x="670" y="377"/>
                </a:cubicBezTo>
                <a:cubicBezTo>
                  <a:pt x="695" y="327"/>
                  <a:pt x="696" y="270"/>
                  <a:pt x="708" y="217"/>
                </a:cubicBezTo>
                <a:cubicBezTo>
                  <a:pt x="721" y="159"/>
                  <a:pt x="741" y="116"/>
                  <a:pt x="774" y="66"/>
                </a:cubicBezTo>
                <a:cubicBezTo>
                  <a:pt x="780" y="56"/>
                  <a:pt x="789" y="48"/>
                  <a:pt x="793" y="37"/>
                </a:cubicBezTo>
                <a:cubicBezTo>
                  <a:pt x="796" y="28"/>
                  <a:pt x="794" y="14"/>
                  <a:pt x="803" y="9"/>
                </a:cubicBezTo>
                <a:cubicBezTo>
                  <a:pt x="819" y="0"/>
                  <a:pt x="840" y="3"/>
                  <a:pt x="859" y="0"/>
                </a:cubicBezTo>
                <a:cubicBezTo>
                  <a:pt x="905" y="14"/>
                  <a:pt x="920" y="52"/>
                  <a:pt x="935" y="94"/>
                </a:cubicBezTo>
                <a:cubicBezTo>
                  <a:pt x="920" y="153"/>
                  <a:pt x="920" y="113"/>
                  <a:pt x="944" y="160"/>
                </a:cubicBezTo>
                <a:cubicBezTo>
                  <a:pt x="949" y="169"/>
                  <a:pt x="949" y="180"/>
                  <a:pt x="954" y="189"/>
                </a:cubicBezTo>
                <a:cubicBezTo>
                  <a:pt x="965" y="209"/>
                  <a:pt x="992" y="245"/>
                  <a:pt x="992" y="245"/>
                </a:cubicBezTo>
                <a:cubicBezTo>
                  <a:pt x="1005" y="285"/>
                  <a:pt x="1025" y="297"/>
                  <a:pt x="1048" y="330"/>
                </a:cubicBezTo>
                <a:cubicBezTo>
                  <a:pt x="1063" y="351"/>
                  <a:pt x="1072" y="375"/>
                  <a:pt x="1086" y="396"/>
                </a:cubicBezTo>
                <a:cubicBezTo>
                  <a:pt x="1106" y="461"/>
                  <a:pt x="1077" y="391"/>
                  <a:pt x="1124" y="443"/>
                </a:cubicBezTo>
                <a:cubicBezTo>
                  <a:pt x="1147" y="468"/>
                  <a:pt x="1156" y="504"/>
                  <a:pt x="1180" y="528"/>
                </a:cubicBezTo>
                <a:cubicBezTo>
                  <a:pt x="1211" y="559"/>
                  <a:pt x="1247" y="607"/>
                  <a:pt x="1284" y="632"/>
                </a:cubicBezTo>
                <a:cubicBezTo>
                  <a:pt x="1287" y="645"/>
                  <a:pt x="1288" y="658"/>
                  <a:pt x="1294" y="670"/>
                </a:cubicBezTo>
                <a:cubicBezTo>
                  <a:pt x="1329" y="741"/>
                  <a:pt x="1357" y="740"/>
                  <a:pt x="1426" y="765"/>
                </a:cubicBezTo>
                <a:cubicBezTo>
                  <a:pt x="1437" y="810"/>
                  <a:pt x="1428" y="825"/>
                  <a:pt x="1473" y="840"/>
                </a:cubicBezTo>
                <a:cubicBezTo>
                  <a:pt x="1534" y="881"/>
                  <a:pt x="1570" y="894"/>
                  <a:pt x="1643" y="906"/>
                </a:cubicBezTo>
                <a:cubicBezTo>
                  <a:pt x="1703" y="900"/>
                  <a:pt x="1765" y="904"/>
                  <a:pt x="1822" y="887"/>
                </a:cubicBezTo>
                <a:cubicBezTo>
                  <a:pt x="1835" y="883"/>
                  <a:pt x="1825" y="860"/>
                  <a:pt x="1832" y="849"/>
                </a:cubicBezTo>
                <a:cubicBezTo>
                  <a:pt x="1839" y="838"/>
                  <a:pt x="1850" y="829"/>
                  <a:pt x="1860" y="821"/>
                </a:cubicBezTo>
                <a:cubicBezTo>
                  <a:pt x="1878" y="807"/>
                  <a:pt x="1917" y="783"/>
                  <a:pt x="1917" y="783"/>
                </a:cubicBezTo>
                <a:cubicBezTo>
                  <a:pt x="1968" y="708"/>
                  <a:pt x="1901" y="799"/>
                  <a:pt x="1964" y="736"/>
                </a:cubicBezTo>
                <a:cubicBezTo>
                  <a:pt x="1996" y="704"/>
                  <a:pt x="1992" y="695"/>
                  <a:pt x="2040" y="680"/>
                </a:cubicBezTo>
                <a:cubicBezTo>
                  <a:pt x="2055" y="631"/>
                  <a:pt x="2076" y="610"/>
                  <a:pt x="2125" y="595"/>
                </a:cubicBezTo>
                <a:cubicBezTo>
                  <a:pt x="2166" y="567"/>
                  <a:pt x="2177" y="515"/>
                  <a:pt x="2219" y="491"/>
                </a:cubicBezTo>
                <a:cubicBezTo>
                  <a:pt x="2270" y="462"/>
                  <a:pt x="2416" y="443"/>
                  <a:pt x="2465" y="4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5867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anda Ideal para una línea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6019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anda típica producto de una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360" y="3962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38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23960" y="2606760"/>
            <a:ext cx="7696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La mayoría son de precio (reducciones), sin embargo se sabe que ellas generan consumidores más elást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Muchas veces desfocalizan la construcción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783480" y="2276640"/>
            <a:ext cx="1892160" cy="252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50920" y="1249200"/>
            <a:ext cx="2085840" cy="4124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484360" y="4581360"/>
            <a:ext cx="1289160" cy="17589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2484360" y="476280"/>
            <a:ext cx="1576440" cy="239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284720" y="333360"/>
            <a:ext cx="3024000" cy="1079640"/>
          </a:xfrm>
          <a:prstGeom prst="cloudCallout">
            <a:avLst>
              <a:gd name="adj1" fmla="val -46273"/>
              <a:gd name="adj2" fmla="val 141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i helado es cremoso y s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35280" y="3068640"/>
            <a:ext cx="3024360" cy="1584360"/>
          </a:xfrm>
          <a:prstGeom prst="cloudCallout">
            <a:avLst>
              <a:gd name="adj1" fmla="val -35828"/>
              <a:gd name="adj2" fmla="val 55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Voy a comprar un helado porque está ba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Porqué existe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900000" y="2708280"/>
            <a:ext cx="6696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odo mercado se puede segmentar de acuerdo al grado de lealtad a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n el extremo, hay leales y “switcher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os “switchers” son el principal objetivo de la promo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Porqué existe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2708280"/>
            <a:ext cx="7488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pendiendo de las características del producto, se pueden dar distintos comportamientos en el consumidor, lo que hace más o menos atractiva llevar a cabo la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os Efect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22096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efectos de las Promociones en los consumidores pueden ser  (caso productos compra frecuen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ticipar Comp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Efecto Invent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mentar Consumo  (Efecto Consu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mbiarse de marca  (Efecto “switch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2209680"/>
            <a:ext cx="74674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gamos que los mercados se segmen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EALES a la marc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EALES a la Marca B (y ot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WTCHERS  (50% eligen A y 50% eligen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ta: esta segmentación es una simplificación para ejempl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los Le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5146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s caso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 1 Los clientes sólo anticipan compra pero no aumentan consumo.  Supongamos compra  regularmente 1 vez al mes 4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4267080"/>
            <a:ext cx="8229600" cy="2136240"/>
            <a:chOff x="533520" y="4267080"/>
            <a:chExt cx="8229600" cy="2136240"/>
          </a:xfrm>
        </p:grpSpPr>
        <p:sp>
          <p:nvSpPr>
            <p:cNvPr id="297" name=""/>
            <p:cNvSpPr/>
            <p:nvPr/>
          </p:nvSpPr>
          <p:spPr>
            <a:xfrm>
              <a:off x="1219320" y="5334120"/>
              <a:ext cx="1904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124080" y="44953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24080" y="4495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581280" y="44953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038480" y="53341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3581280" y="53341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81280" y="6172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38480" y="5334120"/>
              <a:ext cx="1905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520" y="5181480"/>
              <a:ext cx="5331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38280" y="4267080"/>
              <a:ext cx="30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00400" y="5943600"/>
              <a:ext cx="30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0800" y="5029200"/>
              <a:ext cx="236232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los Le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2286000"/>
            <a:ext cx="8001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 2 Los clientes no adelantan compra pero  aumentan consumo.  Supongamos compra 1 vez al mes 4 unidades, y aumenta su consumo en 2 unidades durante la promo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80880" y="4648320"/>
            <a:ext cx="8229600" cy="1206360"/>
            <a:chOff x="380880" y="4648320"/>
            <a:chExt cx="8229600" cy="1206360"/>
          </a:xfrm>
        </p:grpSpPr>
        <p:sp>
          <p:nvSpPr>
            <p:cNvPr id="312" name=""/>
            <p:cNvSpPr/>
            <p:nvPr/>
          </p:nvSpPr>
          <p:spPr>
            <a:xfrm>
              <a:off x="1066680" y="5334120"/>
              <a:ext cx="1905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971800" y="480060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71800" y="480060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429000" y="480060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29000" y="5334120"/>
              <a:ext cx="1905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62320" y="4648320"/>
              <a:ext cx="3045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5909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 de 2 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tenciar y Acelerar el desarrollo de una Nuev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fender, Fortalecer y Expandir una Marca Exist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los Le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realidad será algo entre medio de estos c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33520" y="1523880"/>
            <a:ext cx="8229600" cy="2136240"/>
            <a:chOff x="533520" y="1523880"/>
            <a:chExt cx="8229600" cy="2136240"/>
          </a:xfrm>
        </p:grpSpPr>
        <p:sp>
          <p:nvSpPr>
            <p:cNvPr id="323" name=""/>
            <p:cNvSpPr/>
            <p:nvPr/>
          </p:nvSpPr>
          <p:spPr>
            <a:xfrm>
              <a:off x="1219320" y="2590920"/>
              <a:ext cx="1904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124080" y="17521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4080" y="1752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581280" y="17521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848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58128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81280" y="3429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38480" y="2590920"/>
              <a:ext cx="1905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3520" y="2438280"/>
              <a:ext cx="5331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38280" y="1523880"/>
              <a:ext cx="30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0400" y="3200400"/>
              <a:ext cx="30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00800" y="2286000"/>
              <a:ext cx="236232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33520" y="4267080"/>
            <a:ext cx="8229600" cy="1206360"/>
            <a:chOff x="533520" y="4267080"/>
            <a:chExt cx="8229600" cy="1206360"/>
          </a:xfrm>
        </p:grpSpPr>
        <p:sp>
          <p:nvSpPr>
            <p:cNvPr id="336" name=""/>
            <p:cNvSpPr/>
            <p:nvPr/>
          </p:nvSpPr>
          <p:spPr>
            <a:xfrm>
              <a:off x="1219320" y="4952880"/>
              <a:ext cx="1905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124440" y="441936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24440" y="441936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3581640" y="441936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1640" y="4952880"/>
              <a:ext cx="1905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3520" y="4800240"/>
              <a:ext cx="5335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4960" y="4267080"/>
              <a:ext cx="3045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01160" y="4647960"/>
              <a:ext cx="236196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5029200" y="1143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nticipación de Compra sin aumento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3429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umenta consumo sin Anticipació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eales: Caso Intermed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34290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98800" y="1843200"/>
            <a:ext cx="5635440" cy="2608200"/>
          </a:xfrm>
          <a:custGeom>
            <a:avLst/>
            <a:gdLst/>
            <a:ahLst/>
            <a:rect l="l" t="t" r="r" b="b"/>
            <a:pathLst>
              <a:path w="3550" h="1643">
                <a:moveTo>
                  <a:pt x="0" y="1011"/>
                </a:moveTo>
                <a:cubicBezTo>
                  <a:pt x="67" y="966"/>
                  <a:pt x="84" y="969"/>
                  <a:pt x="160" y="945"/>
                </a:cubicBezTo>
                <a:cubicBezTo>
                  <a:pt x="168" y="930"/>
                  <a:pt x="184" y="893"/>
                  <a:pt x="198" y="879"/>
                </a:cubicBezTo>
                <a:cubicBezTo>
                  <a:pt x="227" y="851"/>
                  <a:pt x="266" y="835"/>
                  <a:pt x="293" y="803"/>
                </a:cubicBezTo>
                <a:cubicBezTo>
                  <a:pt x="300" y="794"/>
                  <a:pt x="306" y="785"/>
                  <a:pt x="312" y="775"/>
                </a:cubicBezTo>
                <a:cubicBezTo>
                  <a:pt x="319" y="763"/>
                  <a:pt x="321" y="748"/>
                  <a:pt x="330" y="737"/>
                </a:cubicBezTo>
                <a:cubicBezTo>
                  <a:pt x="337" y="728"/>
                  <a:pt x="384" y="698"/>
                  <a:pt x="397" y="690"/>
                </a:cubicBezTo>
                <a:cubicBezTo>
                  <a:pt x="424" y="649"/>
                  <a:pt x="451" y="598"/>
                  <a:pt x="491" y="567"/>
                </a:cubicBezTo>
                <a:cubicBezTo>
                  <a:pt x="509" y="553"/>
                  <a:pt x="548" y="529"/>
                  <a:pt x="548" y="529"/>
                </a:cubicBezTo>
                <a:cubicBezTo>
                  <a:pt x="575" y="489"/>
                  <a:pt x="616" y="466"/>
                  <a:pt x="652" y="435"/>
                </a:cubicBezTo>
                <a:cubicBezTo>
                  <a:pt x="709" y="386"/>
                  <a:pt x="665" y="405"/>
                  <a:pt x="718" y="388"/>
                </a:cubicBezTo>
                <a:cubicBezTo>
                  <a:pt x="721" y="378"/>
                  <a:pt x="726" y="369"/>
                  <a:pt x="727" y="359"/>
                </a:cubicBezTo>
                <a:cubicBezTo>
                  <a:pt x="732" y="322"/>
                  <a:pt x="726" y="282"/>
                  <a:pt x="736" y="246"/>
                </a:cubicBezTo>
                <a:cubicBezTo>
                  <a:pt x="754" y="181"/>
                  <a:pt x="768" y="201"/>
                  <a:pt x="803" y="170"/>
                </a:cubicBezTo>
                <a:cubicBezTo>
                  <a:pt x="835" y="142"/>
                  <a:pt x="867" y="115"/>
                  <a:pt x="897" y="85"/>
                </a:cubicBezTo>
                <a:cubicBezTo>
                  <a:pt x="930" y="52"/>
                  <a:pt x="900" y="58"/>
                  <a:pt x="944" y="29"/>
                </a:cubicBezTo>
                <a:cubicBezTo>
                  <a:pt x="953" y="23"/>
                  <a:pt x="964" y="24"/>
                  <a:pt x="973" y="19"/>
                </a:cubicBezTo>
                <a:cubicBezTo>
                  <a:pt x="983" y="14"/>
                  <a:pt x="992" y="6"/>
                  <a:pt x="1001" y="0"/>
                </a:cubicBezTo>
                <a:cubicBezTo>
                  <a:pt x="1076" y="9"/>
                  <a:pt x="1093" y="13"/>
                  <a:pt x="1152" y="48"/>
                </a:cubicBezTo>
                <a:cubicBezTo>
                  <a:pt x="1172" y="60"/>
                  <a:pt x="1209" y="85"/>
                  <a:pt x="1209" y="85"/>
                </a:cubicBezTo>
                <a:cubicBezTo>
                  <a:pt x="1227" y="113"/>
                  <a:pt x="1237" y="151"/>
                  <a:pt x="1265" y="170"/>
                </a:cubicBezTo>
                <a:cubicBezTo>
                  <a:pt x="1306" y="197"/>
                  <a:pt x="1338" y="230"/>
                  <a:pt x="1379" y="255"/>
                </a:cubicBezTo>
                <a:cubicBezTo>
                  <a:pt x="1385" y="265"/>
                  <a:pt x="1388" y="277"/>
                  <a:pt x="1397" y="284"/>
                </a:cubicBezTo>
                <a:cubicBezTo>
                  <a:pt x="1405" y="290"/>
                  <a:pt x="1419" y="286"/>
                  <a:pt x="1426" y="293"/>
                </a:cubicBezTo>
                <a:cubicBezTo>
                  <a:pt x="1433" y="300"/>
                  <a:pt x="1431" y="312"/>
                  <a:pt x="1435" y="321"/>
                </a:cubicBezTo>
                <a:cubicBezTo>
                  <a:pt x="1448" y="348"/>
                  <a:pt x="1461" y="357"/>
                  <a:pt x="1482" y="378"/>
                </a:cubicBezTo>
                <a:cubicBezTo>
                  <a:pt x="1499" y="425"/>
                  <a:pt x="1521" y="469"/>
                  <a:pt x="1549" y="510"/>
                </a:cubicBezTo>
                <a:cubicBezTo>
                  <a:pt x="1563" y="555"/>
                  <a:pt x="1600" y="574"/>
                  <a:pt x="1624" y="614"/>
                </a:cubicBezTo>
                <a:cubicBezTo>
                  <a:pt x="1674" y="698"/>
                  <a:pt x="1627" y="647"/>
                  <a:pt x="1681" y="699"/>
                </a:cubicBezTo>
                <a:cubicBezTo>
                  <a:pt x="1705" y="777"/>
                  <a:pt x="1765" y="826"/>
                  <a:pt x="1813" y="888"/>
                </a:cubicBezTo>
                <a:cubicBezTo>
                  <a:pt x="1868" y="959"/>
                  <a:pt x="1812" y="916"/>
                  <a:pt x="1870" y="954"/>
                </a:cubicBezTo>
                <a:cubicBezTo>
                  <a:pt x="1876" y="963"/>
                  <a:pt x="1883" y="972"/>
                  <a:pt x="1888" y="982"/>
                </a:cubicBezTo>
                <a:cubicBezTo>
                  <a:pt x="1893" y="991"/>
                  <a:pt x="1893" y="1002"/>
                  <a:pt x="1898" y="1011"/>
                </a:cubicBezTo>
                <a:cubicBezTo>
                  <a:pt x="1924" y="1053"/>
                  <a:pt x="1942" y="1060"/>
                  <a:pt x="1973" y="1096"/>
                </a:cubicBezTo>
                <a:cubicBezTo>
                  <a:pt x="2027" y="1158"/>
                  <a:pt x="2063" y="1211"/>
                  <a:pt x="2125" y="1266"/>
                </a:cubicBezTo>
                <a:cubicBezTo>
                  <a:pt x="2181" y="1316"/>
                  <a:pt x="2222" y="1374"/>
                  <a:pt x="2285" y="1417"/>
                </a:cubicBezTo>
                <a:cubicBezTo>
                  <a:pt x="2339" y="1492"/>
                  <a:pt x="2309" y="1468"/>
                  <a:pt x="2361" y="1502"/>
                </a:cubicBezTo>
                <a:cubicBezTo>
                  <a:pt x="2410" y="1568"/>
                  <a:pt x="2469" y="1586"/>
                  <a:pt x="2549" y="1596"/>
                </a:cubicBezTo>
                <a:cubicBezTo>
                  <a:pt x="2591" y="1610"/>
                  <a:pt x="2626" y="1620"/>
                  <a:pt x="2663" y="1643"/>
                </a:cubicBezTo>
                <a:cubicBezTo>
                  <a:pt x="2715" y="1636"/>
                  <a:pt x="2752" y="1635"/>
                  <a:pt x="2795" y="1606"/>
                </a:cubicBezTo>
                <a:cubicBezTo>
                  <a:pt x="2832" y="1550"/>
                  <a:pt x="2957" y="1484"/>
                  <a:pt x="3022" y="1464"/>
                </a:cubicBezTo>
                <a:cubicBezTo>
                  <a:pt x="3046" y="1426"/>
                  <a:pt x="3062" y="1381"/>
                  <a:pt x="3097" y="1351"/>
                </a:cubicBezTo>
                <a:cubicBezTo>
                  <a:pt x="3114" y="1336"/>
                  <a:pt x="3154" y="1313"/>
                  <a:pt x="3154" y="1313"/>
                </a:cubicBezTo>
                <a:cubicBezTo>
                  <a:pt x="3187" y="1267"/>
                  <a:pt x="3204" y="1230"/>
                  <a:pt x="3248" y="1200"/>
                </a:cubicBezTo>
                <a:cubicBezTo>
                  <a:pt x="3254" y="1190"/>
                  <a:pt x="3258" y="1178"/>
                  <a:pt x="3267" y="1171"/>
                </a:cubicBezTo>
                <a:cubicBezTo>
                  <a:pt x="3275" y="1165"/>
                  <a:pt x="3288" y="1169"/>
                  <a:pt x="3295" y="1162"/>
                </a:cubicBezTo>
                <a:cubicBezTo>
                  <a:pt x="3311" y="1146"/>
                  <a:pt x="3320" y="1124"/>
                  <a:pt x="3333" y="1105"/>
                </a:cubicBezTo>
                <a:cubicBezTo>
                  <a:pt x="3339" y="1096"/>
                  <a:pt x="3341" y="1081"/>
                  <a:pt x="3352" y="1077"/>
                </a:cubicBezTo>
                <a:cubicBezTo>
                  <a:pt x="3446" y="1043"/>
                  <a:pt x="3443" y="1001"/>
                  <a:pt x="3550" y="100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281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464832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área 1 será un poco mayor que el á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o, dependerá de las característica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villetas de papel   Coca Cola     Sahne N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72400" y="29718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inea base de 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 los swit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523880" y="174456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% compra marca A, 50% compra marc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 1. Sin Promoción. Compra 4 al mes, la Línea base es 2 (para A). Sin Inven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4343400"/>
            <a:ext cx="259092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71800" y="4343400"/>
            <a:ext cx="259092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5880" y="40384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ea base para la Marc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4038480"/>
            <a:ext cx="419112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4120" y="36576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nsumo total (marcas A y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46483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4038480"/>
            <a:ext cx="4114800" cy="304920"/>
          </a:xfrm>
          <a:prstGeom prst="rect">
            <a:avLst/>
          </a:prstGeom>
          <a:solidFill>
            <a:srgbClr val="06de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4343400"/>
            <a:ext cx="4343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remental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3720" y="5334120"/>
            <a:ext cx="594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switchers compran en los dos períodos 8 unidades, pero la Marca con promoción los vende todos durante la semana de la promoción. La otra no vende nada durante dos perío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 los switchers</a:t>
            </a: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in aumento de consu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85800" y="2895480"/>
            <a:ext cx="5791320" cy="1828800"/>
            <a:chOff x="685800" y="2895480"/>
            <a:chExt cx="5791320" cy="1828800"/>
          </a:xfrm>
        </p:grpSpPr>
        <p:sp>
          <p:nvSpPr>
            <p:cNvPr id="375" name=""/>
            <p:cNvSpPr/>
            <p:nvPr/>
          </p:nvSpPr>
          <p:spPr>
            <a:xfrm>
              <a:off x="685800" y="4191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200400" y="3428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0400" y="3429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2120" y="4191120"/>
              <a:ext cx="2438280" cy="457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00400" y="2895480"/>
              <a:ext cx="533520" cy="175284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91120" y="4191120"/>
              <a:ext cx="2286000" cy="5331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2120" y="3809880"/>
              <a:ext cx="2438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91120" y="3809880"/>
              <a:ext cx="228600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657600" y="2286000"/>
            <a:ext cx="1561680" cy="3073320"/>
            <a:chOff x="3657600" y="2286000"/>
            <a:chExt cx="1561680" cy="3073320"/>
          </a:xfrm>
        </p:grpSpPr>
        <p:sp>
          <p:nvSpPr>
            <p:cNvPr id="385" name=""/>
            <p:cNvSpPr/>
            <p:nvPr/>
          </p:nvSpPr>
          <p:spPr>
            <a:xfrm>
              <a:off x="3657600" y="3759120"/>
              <a:ext cx="456840" cy="1600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9880" y="2286000"/>
              <a:ext cx="1409400" cy="1778040"/>
            </a:xfrm>
            <a:custGeom>
              <a:avLst/>
              <a:gdLst/>
              <a:ahLst/>
              <a:rect l="l" t="t" r="r" b="b"/>
              <a:pathLst>
                <a:path w="888" h="1120">
                  <a:moveTo>
                    <a:pt x="192" y="1120"/>
                  </a:moveTo>
                  <a:cubicBezTo>
                    <a:pt x="516" y="972"/>
                    <a:pt x="840" y="824"/>
                    <a:pt x="864" y="640"/>
                  </a:cubicBezTo>
                  <a:cubicBezTo>
                    <a:pt x="888" y="456"/>
                    <a:pt x="480" y="0"/>
                    <a:pt x="336" y="16"/>
                  </a:cubicBezTo>
                  <a:cubicBezTo>
                    <a:pt x="192" y="32"/>
                    <a:pt x="56" y="616"/>
                    <a:pt x="0" y="73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5257800" y="20574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Todas las ventas de este período se las lleva la marca que hace la 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remental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 los switchers</a:t>
            </a: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 aumento de consu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5800" y="3428640"/>
            <a:ext cx="5334120" cy="1219680"/>
            <a:chOff x="685800" y="3428640"/>
            <a:chExt cx="5334120" cy="1219680"/>
          </a:xfrm>
        </p:grpSpPr>
        <p:sp>
          <p:nvSpPr>
            <p:cNvPr id="395" name=""/>
            <p:cNvSpPr/>
            <p:nvPr/>
          </p:nvSpPr>
          <p:spPr>
            <a:xfrm>
              <a:off x="685800" y="4191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200400" y="3428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00400" y="3429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2120" y="4191120"/>
              <a:ext cx="2438280" cy="457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00400" y="3429000"/>
              <a:ext cx="533520" cy="121932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33920" y="4191120"/>
              <a:ext cx="2286000" cy="4572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2120" y="3809880"/>
              <a:ext cx="2438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33920" y="3809880"/>
              <a:ext cx="228600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257800" y="2057400"/>
            <a:ext cx="33526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Todas las ventas de este período se las lleva la marca que hace la 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733920" y="2514600"/>
            <a:ext cx="144756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066680" y="3505320"/>
            <a:ext cx="5334120" cy="1218960"/>
            <a:chOff x="1066680" y="3505320"/>
            <a:chExt cx="5334120" cy="1218960"/>
          </a:xfrm>
        </p:grpSpPr>
        <p:sp>
          <p:nvSpPr>
            <p:cNvPr id="407" name=""/>
            <p:cNvSpPr/>
            <p:nvPr/>
          </p:nvSpPr>
          <p:spPr>
            <a:xfrm>
              <a:off x="1066680" y="42670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581280" y="3505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8128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1371240" y="472428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43000" y="4267080"/>
              <a:ext cx="2438280" cy="456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81280" y="3505320"/>
              <a:ext cx="533520" cy="12189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14800" y="4267080"/>
              <a:ext cx="2286000" cy="45684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43000" y="3885840"/>
              <a:ext cx="243828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14800" y="3885840"/>
              <a:ext cx="228600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066680" y="1066680"/>
            <a:ext cx="5791320" cy="1828800"/>
            <a:chOff x="1066680" y="1066680"/>
            <a:chExt cx="5791320" cy="1828800"/>
          </a:xfrm>
        </p:grpSpPr>
        <p:sp>
          <p:nvSpPr>
            <p:cNvPr id="417" name=""/>
            <p:cNvSpPr/>
            <p:nvPr/>
          </p:nvSpPr>
          <p:spPr>
            <a:xfrm>
              <a:off x="1066680" y="23623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581280" y="15998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81280" y="1600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1371240" y="28195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43000" y="2362320"/>
              <a:ext cx="2438280" cy="457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81280" y="1066680"/>
              <a:ext cx="533520" cy="175284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0" y="2362320"/>
              <a:ext cx="2286000" cy="5331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3000" y="1981080"/>
              <a:ext cx="2438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2000" y="1981080"/>
              <a:ext cx="228600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914400" y="525780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ótese que en ambos casos las ventas aumentan, y que , porcentualmente, si la promoción la hace el más chico, es el que más gana. !!Se lleva las ventas del Grande en el período de la promoción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162920" y="21337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n aumento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86600" y="39625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 aumento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jemplo..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990720" y="1752480"/>
            <a:ext cx="71625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incremental está determin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El límite de compra (¿es inventariab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 Por la distribución de los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son 50-50, u otra proporción). Nuevamente el más beneficiado es el con menor particip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do esto suponiendo que no hay aumento de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2209680"/>
            <a:ext cx="79246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dremos dos marcas A y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50% son leales 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20% son leales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30% son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emás supondremos que hay una voluntad a pagar de $5 por cada consumidor por sobre el costo, el que es igual para ambos fabrica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jemplo...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18288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2635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436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3048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41911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14400" y="5334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8108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,25    1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434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,2     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8108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,5       2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4340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,4      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63640" y="17002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MARCA 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124080"/>
            <a:ext cx="76212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3032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65%  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91120" y="3032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80%  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1337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50%  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911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65% 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00000" y="5805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(El valor indica el ingreso multiplicado por M, en que M es el tamaño del merc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2209680"/>
            <a:ext cx="8077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los productores se pusieran de acuerdo, no habrían promo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está compuesta fundamentalmente por leales lo que interesa saber es si el mayor stock aumenta o no el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de la categoría es fuerte debido a los switchers, el de menor participación tiene incentivos claros para promo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efini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4382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la componente de Marketing Mix que usa MATERIALES Y TECNICAS diseñadas para acelerar las funciones de VENTA y COMPRA a lo largo de la Cadena, con los dos objetivos 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752480" y="2590920"/>
            <a:ext cx="5105520" cy="3352680"/>
            <a:chOff x="1752480" y="2590920"/>
            <a:chExt cx="5105520" cy="3352680"/>
          </a:xfrm>
        </p:grpSpPr>
        <p:sp>
          <p:nvSpPr>
            <p:cNvPr id="459" name=""/>
            <p:cNvSpPr/>
            <p:nvPr/>
          </p:nvSpPr>
          <p:spPr>
            <a:xfrm>
              <a:off x="3276360" y="259092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76560" y="259092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58000" y="259092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52480" y="3429000"/>
              <a:ext cx="51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52480" y="4724280"/>
              <a:ext cx="51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52480" y="38862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Sin aumento de Consu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52480" y="480060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on aumento de Consu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360" y="26668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lta Lealt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05160" y="26668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Baja Lealt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29000" y="3657600"/>
              <a:ext cx="1218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</a:rPr>
                <a:t>Nadie gana. Poca promo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29000" y="4800600"/>
              <a:ext cx="1218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Cada uno Promociona hacia sus cl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81480" y="3733920"/>
              <a:ext cx="152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Marca no líder con claros Incentiv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29200" y="5029200"/>
              <a:ext cx="1752480" cy="80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Todos tienen incentivos.Much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Promo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52480" y="5943600"/>
              <a:ext cx="51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52480" y="2590920"/>
              <a:ext cx="51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752480" y="259092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28800" y="27432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MERC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Otras consideracion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estudios demuestran que el grueso del efecto de las Promociones es en la Demanda secundaria. (brand switching) y mucho menos en la primaria (stock, aumento de consumo, cambio de categor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495288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upta (1988)        84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ll et al (1999)    75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Efecto de la Frecuencia de las Promociones en una Mar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2438280"/>
            <a:ext cx="76201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baja , los consumidores tienden a acumular stock. (Krishna 1994), p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, aumenta la notoriedad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 parte importante de las ventas tenderá a realizarse en períodos de promociones. (Mela, gupta  y Lehmann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71280" y="2923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ás que Rebajas de Pre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79280" y="79200"/>
            <a:ext cx="8785440" cy="6669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7280" y="622440"/>
            <a:ext cx="1714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OBSERV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87640" y="507960"/>
            <a:ext cx="91440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92640" y="393840"/>
            <a:ext cx="91440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49760" y="507960"/>
            <a:ext cx="91440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6920" y="1557360"/>
            <a:ext cx="7751880" cy="4248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43800" y="602928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12160" y="602928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78720" y="60213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26120" y="60483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93040" y="6048360"/>
            <a:ext cx="49500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76880" y="60483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18160" y="604512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99120" y="60483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91240" y="6032520"/>
            <a:ext cx="49500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10040" y="602928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7760" y="60357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44960" y="6035760"/>
            <a:ext cx="49500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60357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51000" y="604368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17560" y="60357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7240" y="601992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50920" y="601992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4160" y="6021360"/>
            <a:ext cx="49500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80000" y="1879560"/>
            <a:ext cx="1828800" cy="7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Tahoma"/>
              </a:rPr>
              <a:t>EVALU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Tahoma"/>
              </a:rPr>
              <a:t>GLOB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22480" y="3220920"/>
            <a:ext cx="186696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UTILIT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80080" y="3243240"/>
            <a:ext cx="186840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HEDO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87280" y="4965840"/>
            <a:ext cx="8002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AHOR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03360" y="4965840"/>
            <a:ext cx="8002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CAL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35280" y="4965840"/>
            <a:ext cx="8002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CONVE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NIENC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48360" y="4965840"/>
            <a:ext cx="79992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ENTRE-TENC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72360" y="4965840"/>
            <a:ext cx="79992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VA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96360" y="4941720"/>
            <a:ext cx="7999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EXPLO-RAC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612960" y="1276200"/>
            <a:ext cx="6858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9320" y="1216080"/>
            <a:ext cx="14040" cy="647640"/>
          </a:xfrm>
          <a:custGeom>
            <a:avLst/>
            <a:gdLst/>
            <a:ahLst/>
            <a:rect l="l" t="t" r="r" b="b"/>
            <a:pathLst>
              <a:path w="22" h="1021">
                <a:moveTo>
                  <a:pt x="0" y="1021"/>
                </a:moveTo>
                <a:lnTo>
                  <a:pt x="2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221440" y="1292040"/>
            <a:ext cx="57132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11320" y="2682720"/>
            <a:ext cx="1339920" cy="533520"/>
          </a:xfrm>
          <a:custGeom>
            <a:avLst/>
            <a:gdLst/>
            <a:ahLst/>
            <a:rect l="l" t="t" r="r" b="b"/>
            <a:pathLst>
              <a:path w="844" h="336">
                <a:moveTo>
                  <a:pt x="844" y="0"/>
                </a:move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05520" y="2666880"/>
            <a:ext cx="1660320" cy="563760"/>
          </a:xfrm>
          <a:custGeom>
            <a:avLst/>
            <a:gdLst/>
            <a:ahLst/>
            <a:rect l="l" t="t" r="r" b="b"/>
            <a:pathLst>
              <a:path w="1046" h="355">
                <a:moveTo>
                  <a:pt x="0" y="0"/>
                </a:moveTo>
                <a:lnTo>
                  <a:pt x="1046" y="35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569960" y="4022640"/>
            <a:ext cx="852480" cy="946080"/>
          </a:xfrm>
          <a:custGeom>
            <a:avLst/>
            <a:gdLst/>
            <a:ahLst/>
            <a:rect l="l" t="t" r="r" b="b"/>
            <a:pathLst>
              <a:path w="537" h="596">
                <a:moveTo>
                  <a:pt x="537" y="0"/>
                </a:moveTo>
                <a:lnTo>
                  <a:pt x="0" y="5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27440" y="4051440"/>
            <a:ext cx="12600" cy="901440"/>
          </a:xfrm>
          <a:custGeom>
            <a:avLst/>
            <a:gdLst/>
            <a:ahLst/>
            <a:rect l="l" t="t" r="r" b="b"/>
            <a:pathLst>
              <a:path w="20" h="1420">
                <a:moveTo>
                  <a:pt x="0" y="0"/>
                </a:moveTo>
                <a:lnTo>
                  <a:pt x="20" y="142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82920" y="4008600"/>
            <a:ext cx="747720" cy="944280"/>
          </a:xfrm>
          <a:custGeom>
            <a:avLst/>
            <a:gdLst/>
            <a:ahLst/>
            <a:rect l="l" t="t" r="r" b="b"/>
            <a:pathLst>
              <a:path w="471" h="595">
                <a:moveTo>
                  <a:pt x="0" y="0"/>
                </a:moveTo>
                <a:lnTo>
                  <a:pt x="471" y="59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562720" y="4068720"/>
            <a:ext cx="625320" cy="884160"/>
          </a:xfrm>
          <a:custGeom>
            <a:avLst/>
            <a:gdLst/>
            <a:ahLst/>
            <a:rect l="l" t="t" r="r" b="b"/>
            <a:pathLst>
              <a:path w="394" h="557">
                <a:moveTo>
                  <a:pt x="394" y="0"/>
                </a:moveTo>
                <a:lnTo>
                  <a:pt x="0" y="55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65840" y="4038480"/>
            <a:ext cx="3240" cy="914400"/>
          </a:xfrm>
          <a:custGeom>
            <a:avLst/>
            <a:gdLst/>
            <a:ahLst/>
            <a:rect l="l" t="t" r="r" b="b"/>
            <a:pathLst>
              <a:path w="2" h="576">
                <a:moveTo>
                  <a:pt x="0" y="0"/>
                </a:moveTo>
                <a:lnTo>
                  <a:pt x="2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84960" y="4068720"/>
            <a:ext cx="838440" cy="868320"/>
          </a:xfrm>
          <a:custGeom>
            <a:avLst/>
            <a:gdLst/>
            <a:ahLst/>
            <a:rect l="l" t="t" r="r" b="b"/>
            <a:pathLst>
              <a:path w="528" h="547">
                <a:moveTo>
                  <a:pt x="0" y="0"/>
                </a:moveTo>
                <a:lnTo>
                  <a:pt x="528" y="54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3040" y="5532480"/>
            <a:ext cx="882720" cy="487440"/>
          </a:xfrm>
          <a:custGeom>
            <a:avLst/>
            <a:gdLst/>
            <a:ahLst/>
            <a:rect l="l" t="t" r="r" b="b"/>
            <a:pathLst>
              <a:path w="556" h="307">
                <a:moveTo>
                  <a:pt x="556" y="0"/>
                </a:moveTo>
                <a:lnTo>
                  <a:pt x="0" y="30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5532480"/>
            <a:ext cx="625320" cy="503280"/>
          </a:xfrm>
          <a:custGeom>
            <a:avLst/>
            <a:gdLst/>
            <a:ahLst/>
            <a:rect l="l" t="t" r="r" b="b"/>
            <a:pathLst>
              <a:path w="394" h="317">
                <a:moveTo>
                  <a:pt x="394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1840" y="5532480"/>
            <a:ext cx="334800" cy="503280"/>
          </a:xfrm>
          <a:custGeom>
            <a:avLst/>
            <a:gdLst/>
            <a:ahLst/>
            <a:rect l="l" t="t" r="r" b="b"/>
            <a:pathLst>
              <a:path w="211" h="317">
                <a:moveTo>
                  <a:pt x="211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65240" y="5532480"/>
            <a:ext cx="655560" cy="503280"/>
          </a:xfrm>
          <a:custGeom>
            <a:avLst/>
            <a:gdLst/>
            <a:ahLst/>
            <a:rect l="l" t="t" r="r" b="b"/>
            <a:pathLst>
              <a:path w="413" h="317">
                <a:moveTo>
                  <a:pt x="413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92200" y="5546880"/>
            <a:ext cx="411480" cy="488880"/>
          </a:xfrm>
          <a:custGeom>
            <a:avLst/>
            <a:gdLst/>
            <a:ahLst/>
            <a:rect l="l" t="t" r="r" b="b"/>
            <a:pathLst>
              <a:path w="259" h="308">
                <a:moveTo>
                  <a:pt x="259" y="0"/>
                </a:moveTo>
                <a:lnTo>
                  <a:pt x="0" y="3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35360" y="5546880"/>
            <a:ext cx="196920" cy="473040"/>
          </a:xfrm>
          <a:custGeom>
            <a:avLst/>
            <a:gdLst/>
            <a:ahLst/>
            <a:rect l="l" t="t" r="r" b="b"/>
            <a:pathLst>
              <a:path w="124" h="298">
                <a:moveTo>
                  <a:pt x="124" y="0"/>
                </a:moveTo>
                <a:lnTo>
                  <a:pt x="0" y="29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13160" y="5546880"/>
            <a:ext cx="426960" cy="488880"/>
          </a:xfrm>
          <a:custGeom>
            <a:avLst/>
            <a:gdLst/>
            <a:ahLst/>
            <a:rect l="l" t="t" r="r" b="b"/>
            <a:pathLst>
              <a:path w="269" h="308">
                <a:moveTo>
                  <a:pt x="269" y="0"/>
                </a:moveTo>
                <a:lnTo>
                  <a:pt x="0" y="3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55960" y="5532480"/>
            <a:ext cx="212760" cy="487440"/>
          </a:xfrm>
          <a:custGeom>
            <a:avLst/>
            <a:gdLst/>
            <a:ahLst/>
            <a:rect l="l" t="t" r="r" b="b"/>
            <a:pathLst>
              <a:path w="134" h="307">
                <a:moveTo>
                  <a:pt x="134" y="0"/>
                </a:moveTo>
                <a:lnTo>
                  <a:pt x="0" y="30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67080" y="5546880"/>
            <a:ext cx="15840" cy="473040"/>
          </a:xfrm>
          <a:custGeom>
            <a:avLst/>
            <a:gdLst/>
            <a:ahLst/>
            <a:rect l="l" t="t" r="r" b="b"/>
            <a:pathLst>
              <a:path w="10" h="298">
                <a:moveTo>
                  <a:pt x="10" y="0"/>
                </a:moveTo>
                <a:lnTo>
                  <a:pt x="0" y="29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45040" y="5562720"/>
            <a:ext cx="289080" cy="487080"/>
          </a:xfrm>
          <a:custGeom>
            <a:avLst/>
            <a:gdLst/>
            <a:ahLst/>
            <a:rect l="l" t="t" r="r" b="b"/>
            <a:pathLst>
              <a:path w="182" h="307">
                <a:moveTo>
                  <a:pt x="182" y="0"/>
                </a:moveTo>
                <a:lnTo>
                  <a:pt x="0" y="30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5562720"/>
            <a:ext cx="122400" cy="473040"/>
          </a:xfrm>
          <a:custGeom>
            <a:avLst/>
            <a:gdLst/>
            <a:ahLst/>
            <a:rect l="l" t="t" r="r" b="b"/>
            <a:pathLst>
              <a:path w="77" h="298">
                <a:moveTo>
                  <a:pt x="77" y="0"/>
                </a:moveTo>
                <a:lnTo>
                  <a:pt x="0" y="29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37400" y="5546880"/>
            <a:ext cx="45720" cy="502920"/>
          </a:xfrm>
          <a:custGeom>
            <a:avLst/>
            <a:gdLst/>
            <a:ahLst/>
            <a:rect l="l" t="t" r="r" b="b"/>
            <a:pathLst>
              <a:path w="29" h="317">
                <a:moveTo>
                  <a:pt x="0" y="0"/>
                </a:moveTo>
                <a:lnTo>
                  <a:pt x="29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46880" y="5532480"/>
            <a:ext cx="166680" cy="50328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105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97520" y="5546880"/>
            <a:ext cx="60480" cy="502920"/>
          </a:xfrm>
          <a:custGeom>
            <a:avLst/>
            <a:gdLst/>
            <a:ahLst/>
            <a:rect l="l" t="t" r="r" b="b"/>
            <a:pathLst>
              <a:path w="38" h="317">
                <a:moveTo>
                  <a:pt x="0" y="0"/>
                </a:moveTo>
                <a:lnTo>
                  <a:pt x="38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10280" y="5532480"/>
            <a:ext cx="274680" cy="533520"/>
          </a:xfrm>
          <a:custGeom>
            <a:avLst/>
            <a:gdLst/>
            <a:ahLst/>
            <a:rect l="l" t="t" r="r" b="b"/>
            <a:pathLst>
              <a:path w="173" h="336">
                <a:moveTo>
                  <a:pt x="0" y="0"/>
                </a:moveTo>
                <a:lnTo>
                  <a:pt x="173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818480" y="5516640"/>
            <a:ext cx="14400" cy="503280"/>
          </a:xfrm>
          <a:custGeom>
            <a:avLst/>
            <a:gdLst/>
            <a:ahLst/>
            <a:rect l="l" t="t" r="r" b="b"/>
            <a:pathLst>
              <a:path w="9" h="317">
                <a:moveTo>
                  <a:pt x="9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047080" y="5516640"/>
            <a:ext cx="228600" cy="519120"/>
          </a:xfrm>
          <a:custGeom>
            <a:avLst/>
            <a:gdLst/>
            <a:ahLst/>
            <a:rect l="l" t="t" r="r" b="b"/>
            <a:pathLst>
              <a:path w="144" h="327">
                <a:moveTo>
                  <a:pt x="0" y="0"/>
                </a:moveTo>
                <a:lnTo>
                  <a:pt x="144" y="32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29600" y="5516640"/>
            <a:ext cx="473040" cy="549360"/>
          </a:xfrm>
          <a:custGeom>
            <a:avLst/>
            <a:gdLst/>
            <a:ahLst/>
            <a:rect l="l" t="t" r="r" b="b"/>
            <a:pathLst>
              <a:path w="298" h="346">
                <a:moveTo>
                  <a:pt x="0" y="0"/>
                </a:moveTo>
                <a:lnTo>
                  <a:pt x="298" y="34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68280" y="1816200"/>
            <a:ext cx="171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LA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11280" y="2349360"/>
            <a:ext cx="82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47640" y="404640"/>
          <a:ext cx="7848720" cy="5580000"/>
        </p:xfrm>
        <a:graphic>
          <a:graphicData uri="http://schemas.openxmlformats.org/drawingml/2006/table">
            <a:tbl>
              <a:tblPr/>
              <a:tblGrid>
                <a:gridCol w="434880"/>
                <a:gridCol w="6299280"/>
                <a:gridCol w="1114560"/>
              </a:tblGrid>
              <a:tr h="40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I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efi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me permite ahorrar din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or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cias a esta promoción gasto me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ndo esta promoción el producto me sale más económ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 esta promoción accedo a una marca de mejor calidad al mismo pre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me permite comprar una marca de mayor prestig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cias a esta promoción puedo comprar un producto mejor a lo habit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encontrara esta promoción mientras compro, recordaría si necesito o no el produc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nie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 esta promoción me ayuda a recordar que debo comprar el produc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esta promoción estuviera señalada, me acordaría más fácilmente de llevar el produc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r esta promoción me haría sentir más astuto que los que no la usa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resión de val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aprovechara esta promoción, me sentiría satisfecho por haber hecho una mejor comp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 sentiría ingenioso si aprovechara esta ofer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una marca que no consumo tuviera esta promoción, la compra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lo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me incentiva a probar nuevas mar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me hace más fácil adquirir y conocer marcas que no u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es entreten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reten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es diver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 paso bien participando de esta promo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jalá hubieran más promociones como é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. Glob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sta es una buena promo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vale la p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990360" y="2400120"/>
            <a:ext cx="7201080" cy="4056480"/>
            <a:chOff x="990360" y="2400120"/>
            <a:chExt cx="7201080" cy="4056480"/>
          </a:xfrm>
        </p:grpSpPr>
        <p:sp>
          <p:nvSpPr>
            <p:cNvPr id="548" name=""/>
            <p:cNvSpPr/>
            <p:nvPr/>
          </p:nvSpPr>
          <p:spPr>
            <a:xfrm>
              <a:off x="7848720" y="568656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53360" y="58291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67520" y="56959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6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29400" y="57150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43760" y="58291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77000" y="567684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6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86400" y="57150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14720" y="58291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09800" y="56959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48000" y="57150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05120" y="583884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19280" y="567684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6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09600" y="573408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14240" y="581976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28760" y="573408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90640" y="573408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95280" y="581040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09440" y="57150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2944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6732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1492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7172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8592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8600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09920" y="26478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8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43400" y="26287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7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00360" y="26287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7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52520" y="2400120"/>
              <a:ext cx="612000" cy="25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71880" y="2400120"/>
              <a:ext cx="6127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00600" y="2400120"/>
              <a:ext cx="61200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24200" y="3047760"/>
              <a:ext cx="1142640" cy="57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488040" y="2648520"/>
              <a:ext cx="419040" cy="466560"/>
            </a:xfrm>
            <a:custGeom>
              <a:avLst/>
              <a:gdLst/>
              <a:ahLst/>
              <a:rect l="l" t="t" r="r" b="b"/>
              <a:pathLst>
                <a:path w="660" h="735">
                  <a:moveTo>
                    <a:pt x="660" y="73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87960" y="2639160"/>
              <a:ext cx="360" cy="399960"/>
            </a:xfrm>
            <a:custGeom>
              <a:avLst/>
              <a:gdLst/>
              <a:ahLst/>
              <a:rect l="l" t="t" r="r" b="b"/>
              <a:pathLst>
                <a:path w="1" h="630">
                  <a:moveTo>
                    <a:pt x="0" y="63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54880" y="2648520"/>
              <a:ext cx="361800" cy="495000"/>
            </a:xfrm>
            <a:custGeom>
              <a:avLst/>
              <a:gdLst/>
              <a:ahLst/>
              <a:rect l="l" t="t" r="r" b="b"/>
              <a:pathLst>
                <a:path w="570" h="780">
                  <a:moveTo>
                    <a:pt x="0" y="780"/>
                  </a:moveTo>
                  <a:lnTo>
                    <a:pt x="5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09560" y="3429720"/>
              <a:ext cx="2143080" cy="1942920"/>
            </a:xfrm>
            <a:custGeom>
              <a:avLst/>
              <a:gdLst/>
              <a:ahLst/>
              <a:rect l="l" t="t" r="r" b="b"/>
              <a:pathLst>
                <a:path w="3375" h="3060">
                  <a:moveTo>
                    <a:pt x="3375" y="0"/>
                  </a:moveTo>
                  <a:lnTo>
                    <a:pt x="0" y="30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00080" y="3553560"/>
              <a:ext cx="1142640" cy="1842480"/>
            </a:xfrm>
            <a:custGeom>
              <a:avLst/>
              <a:gdLst/>
              <a:ahLst/>
              <a:rect l="l" t="t" r="r" b="b"/>
              <a:pathLst>
                <a:path w="1800" h="2902">
                  <a:moveTo>
                    <a:pt x="1800" y="0"/>
                  </a:moveTo>
                  <a:lnTo>
                    <a:pt x="0" y="29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81240" y="3629520"/>
              <a:ext cx="237960" cy="1756800"/>
            </a:xfrm>
            <a:custGeom>
              <a:avLst/>
              <a:gdLst/>
              <a:ahLst/>
              <a:rect l="l" t="t" r="r" b="b"/>
              <a:pathLst>
                <a:path w="375" h="2767">
                  <a:moveTo>
                    <a:pt x="375" y="0"/>
                  </a:moveTo>
                  <a:lnTo>
                    <a:pt x="0" y="276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67240" y="3620160"/>
              <a:ext cx="685800" cy="1756800"/>
            </a:xfrm>
            <a:custGeom>
              <a:avLst/>
              <a:gdLst/>
              <a:ahLst/>
              <a:rect l="l" t="t" r="r" b="b"/>
              <a:pathLst>
                <a:path w="1080" h="2767">
                  <a:moveTo>
                    <a:pt x="0" y="0"/>
                  </a:moveTo>
                  <a:lnTo>
                    <a:pt x="1080" y="276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86120" y="3543120"/>
              <a:ext cx="1685880" cy="1814760"/>
            </a:xfrm>
            <a:custGeom>
              <a:avLst/>
              <a:gdLst/>
              <a:ahLst/>
              <a:rect l="l" t="t" r="r" b="b"/>
              <a:pathLst>
                <a:path w="2655" h="2858">
                  <a:moveTo>
                    <a:pt x="0" y="0"/>
                  </a:moveTo>
                  <a:lnTo>
                    <a:pt x="2655" y="28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38760" y="3429720"/>
              <a:ext cx="2733480" cy="1928160"/>
            </a:xfrm>
            <a:custGeom>
              <a:avLst/>
              <a:gdLst/>
              <a:ahLst/>
              <a:rect l="l" t="t" r="r" b="b"/>
              <a:pathLst>
                <a:path w="4305" h="3037">
                  <a:moveTo>
                    <a:pt x="0" y="0"/>
                  </a:moveTo>
                  <a:lnTo>
                    <a:pt x="4305" y="30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57120" y="5381640"/>
              <a:ext cx="70200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ho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57360" y="5400720"/>
              <a:ext cx="70200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l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38520" y="5391000"/>
              <a:ext cx="702360" cy="36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v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57480" y="5371920"/>
              <a:ext cx="70200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tr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57720" y="5371920"/>
              <a:ext cx="70236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al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60480" y="5371920"/>
              <a:ext cx="70236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pl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61720" y="5700960"/>
              <a:ext cx="218880" cy="428400"/>
            </a:xfrm>
            <a:custGeom>
              <a:avLst/>
              <a:gdLst/>
              <a:ahLst/>
              <a:rect l="l" t="t" r="r" b="b"/>
              <a:pathLst>
                <a:path w="345" h="675">
                  <a:moveTo>
                    <a:pt x="345" y="0"/>
                  </a:moveTo>
                  <a:lnTo>
                    <a:pt x="0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2320" y="5739120"/>
              <a:ext cx="19080" cy="380880"/>
            </a:xfrm>
            <a:custGeom>
              <a:avLst/>
              <a:gdLst/>
              <a:ahLst/>
              <a:rect l="l" t="t" r="r" b="b"/>
              <a:pathLst>
                <a:path w="30" h="600">
                  <a:moveTo>
                    <a:pt x="30" y="0"/>
                  </a:moveTo>
                  <a:lnTo>
                    <a:pt x="0" y="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80920" y="5729760"/>
              <a:ext cx="123840" cy="399960"/>
            </a:xfrm>
            <a:custGeom>
              <a:avLst/>
              <a:gdLst/>
              <a:ahLst/>
              <a:rect l="l" t="t" r="r" b="b"/>
              <a:pathLst>
                <a:path w="195" h="630">
                  <a:moveTo>
                    <a:pt x="0" y="0"/>
                  </a:moveTo>
                  <a:lnTo>
                    <a:pt x="195" y="6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9036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61880" y="612432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33400" y="6124320"/>
              <a:ext cx="3452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38120" y="612432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99920" y="612432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61360" y="612432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47720" y="6134040"/>
              <a:ext cx="3560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D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09880" y="6134040"/>
              <a:ext cx="3560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D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72040" y="6134040"/>
              <a:ext cx="3560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D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6704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H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2920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H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28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H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8636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48160" y="614376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1032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05680" y="614376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6748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2964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09840" y="5729760"/>
              <a:ext cx="199800" cy="390240"/>
            </a:xfrm>
            <a:custGeom>
              <a:avLst/>
              <a:gdLst/>
              <a:ahLst/>
              <a:rect l="l" t="t" r="r" b="b"/>
              <a:pathLst>
                <a:path w="315" h="615">
                  <a:moveTo>
                    <a:pt x="315" y="0"/>
                  </a:moveTo>
                  <a:lnTo>
                    <a:pt x="0" y="6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71640" y="5758200"/>
              <a:ext cx="360" cy="361800"/>
            </a:xfrm>
            <a:custGeom>
              <a:avLst/>
              <a:gdLst/>
              <a:ahLst/>
              <a:rect l="l" t="t" r="r" b="b"/>
              <a:pathLst>
                <a:path w="1" h="570">
                  <a:moveTo>
                    <a:pt x="0" y="0"/>
                  </a:moveTo>
                  <a:lnTo>
                    <a:pt x="0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71440" y="5739120"/>
              <a:ext cx="171360" cy="390240"/>
            </a:xfrm>
            <a:custGeom>
              <a:avLst/>
              <a:gdLst/>
              <a:ahLst/>
              <a:rect l="l" t="t" r="r" b="b"/>
              <a:pathLst>
                <a:path w="270" h="615">
                  <a:moveTo>
                    <a:pt x="0" y="0"/>
                  </a:moveTo>
                  <a:lnTo>
                    <a:pt x="270" y="6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619440" y="5710320"/>
              <a:ext cx="152280" cy="419040"/>
            </a:xfrm>
            <a:custGeom>
              <a:avLst/>
              <a:gdLst/>
              <a:ahLst/>
              <a:rect l="l" t="t" r="r" b="b"/>
              <a:pathLst>
                <a:path w="240" h="660">
                  <a:moveTo>
                    <a:pt x="240" y="0"/>
                  </a:moveTo>
                  <a:lnTo>
                    <a:pt x="0" y="6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90960" y="5748480"/>
              <a:ext cx="360" cy="380880"/>
            </a:xfrm>
            <a:custGeom>
              <a:avLst/>
              <a:gdLst/>
              <a:ahLst/>
              <a:rect l="l" t="t" r="r" b="b"/>
              <a:pathLst>
                <a:path w="1" h="600">
                  <a:moveTo>
                    <a:pt x="0" y="0"/>
                  </a:moveTo>
                  <a:lnTo>
                    <a:pt x="0" y="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28920" y="5715000"/>
              <a:ext cx="142920" cy="414720"/>
            </a:xfrm>
            <a:custGeom>
              <a:avLst/>
              <a:gdLst/>
              <a:ahLst/>
              <a:rect l="l" t="t" r="r" b="b"/>
              <a:pathLst>
                <a:path w="225" h="653">
                  <a:moveTo>
                    <a:pt x="0" y="0"/>
                  </a:moveTo>
                  <a:lnTo>
                    <a:pt x="225" y="6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838760" y="5691600"/>
              <a:ext cx="142560" cy="428400"/>
            </a:xfrm>
            <a:custGeom>
              <a:avLst/>
              <a:gdLst/>
              <a:ahLst/>
              <a:rect l="l" t="t" r="r" b="b"/>
              <a:pathLst>
                <a:path w="225" h="675">
                  <a:moveTo>
                    <a:pt x="225" y="0"/>
                  </a:moveTo>
                  <a:lnTo>
                    <a:pt x="0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00560" y="5720040"/>
              <a:ext cx="9360" cy="409680"/>
            </a:xfrm>
            <a:custGeom>
              <a:avLst/>
              <a:gdLst/>
              <a:ahLst/>
              <a:rect l="l" t="t" r="r" b="b"/>
              <a:pathLst>
                <a:path w="15" h="645">
                  <a:moveTo>
                    <a:pt x="0" y="0"/>
                  </a:moveTo>
                  <a:lnTo>
                    <a:pt x="15" y="6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9800" y="5710320"/>
              <a:ext cx="161640" cy="428400"/>
            </a:xfrm>
            <a:custGeom>
              <a:avLst/>
              <a:gdLst/>
              <a:ahLst/>
              <a:rect l="l" t="t" r="r" b="b"/>
              <a:pathLst>
                <a:path w="255" h="675">
                  <a:moveTo>
                    <a:pt x="0" y="0"/>
                  </a:moveTo>
                  <a:lnTo>
                    <a:pt x="255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67440" y="5700960"/>
              <a:ext cx="152280" cy="419040"/>
            </a:xfrm>
            <a:custGeom>
              <a:avLst/>
              <a:gdLst/>
              <a:ahLst/>
              <a:rect l="l" t="t" r="r" b="b"/>
              <a:pathLst>
                <a:path w="240" h="660">
                  <a:moveTo>
                    <a:pt x="240" y="0"/>
                  </a:moveTo>
                  <a:lnTo>
                    <a:pt x="0" y="6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410160" y="5720040"/>
              <a:ext cx="9360" cy="409680"/>
            </a:xfrm>
            <a:custGeom>
              <a:avLst/>
              <a:gdLst/>
              <a:ahLst/>
              <a:rect l="l" t="t" r="r" b="b"/>
              <a:pathLst>
                <a:path w="15" h="645">
                  <a:moveTo>
                    <a:pt x="0" y="0"/>
                  </a:moveTo>
                  <a:lnTo>
                    <a:pt x="15" y="6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9400" y="5715000"/>
              <a:ext cx="162000" cy="414720"/>
            </a:xfrm>
            <a:custGeom>
              <a:avLst/>
              <a:gdLst/>
              <a:ahLst/>
              <a:rect l="l" t="t" r="r" b="b"/>
              <a:pathLst>
                <a:path w="255" h="653">
                  <a:moveTo>
                    <a:pt x="0" y="0"/>
                  </a:moveTo>
                  <a:lnTo>
                    <a:pt x="255" y="6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77040" y="5715000"/>
              <a:ext cx="152280" cy="433440"/>
            </a:xfrm>
            <a:custGeom>
              <a:avLst/>
              <a:gdLst/>
              <a:ahLst/>
              <a:rect l="l" t="t" r="r" b="b"/>
              <a:pathLst>
                <a:path w="240" h="683">
                  <a:moveTo>
                    <a:pt x="240" y="0"/>
                  </a:moveTo>
                  <a:lnTo>
                    <a:pt x="0" y="68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39200" y="5739120"/>
              <a:ext cx="360" cy="380880"/>
            </a:xfrm>
            <a:custGeom>
              <a:avLst/>
              <a:gdLst/>
              <a:ahLst/>
              <a:rect l="l" t="t" r="r" b="b"/>
              <a:pathLst>
                <a:path w="1" h="600">
                  <a:moveTo>
                    <a:pt x="0" y="0"/>
                  </a:moveTo>
                  <a:lnTo>
                    <a:pt x="0" y="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58080" y="5691600"/>
              <a:ext cx="161640" cy="428400"/>
            </a:xfrm>
            <a:custGeom>
              <a:avLst/>
              <a:gdLst/>
              <a:ahLst/>
              <a:rect l="l" t="t" r="r" b="b"/>
              <a:pathLst>
                <a:path w="255" h="675">
                  <a:moveTo>
                    <a:pt x="0" y="0"/>
                  </a:moveTo>
                  <a:lnTo>
                    <a:pt x="255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valuación.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1523880" y="312408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ecesitamos herrami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erramientas de tipo Econ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Única forma de “eficientizar” las promo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a Línea 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914400" y="25909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define la Línea Base (LB) como las ventas que hubiera tenido la Marca en el período afectado por la Promoción , si la Promoción no se hubiese realizado, pero todo lo demás sí. (todo lo demás: otras promociones, promociones de la competenci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ínea base.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533520" y="19051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estima la LB en base ventas semanales durante un período largo de tiempo, (¿2 años?), a nivel de s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71680" y="2895480"/>
            <a:ext cx="800100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trabaja la data de modo de eliminar los efe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ventos Especiales (Navidad, “18”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end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ta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fectos Promocionales, propios o de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Quiebres de Stock en ítemes baja R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actores Especiales de Mercado (Eventos de otras Tiendas, Lluvias, y simila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as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4360" y="1557360"/>
            <a:ext cx="8820000" cy="3600000"/>
            <a:chOff x="144360" y="1557360"/>
            <a:chExt cx="8820000" cy="3600000"/>
          </a:xfrm>
        </p:grpSpPr>
        <p:cxnSp>
          <p:nvCxnSpPr>
            <p:cNvPr id="230" name="_s524310"/>
            <p:cNvCxnSpPr>
              <a:stCxn id="231" idx="0"/>
              <a:endCxn id="232" idx="2"/>
            </p:cNvCxnSpPr>
            <p:nvPr/>
          </p:nvCxnSpPr>
          <p:spPr>
            <a:xfrm flipV="1" rot="16200000">
              <a:off x="7506000" y="3577680"/>
              <a:ext cx="450720" cy="90900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524308"/>
            <p:cNvCxnSpPr>
              <a:stCxn id="234" idx="0"/>
              <a:endCxn id="232" idx="2"/>
            </p:cNvCxnSpPr>
            <p:nvPr/>
          </p:nvCxnSpPr>
          <p:spPr>
            <a:xfrm flipH="1" flipV="1" rot="5400000">
              <a:off x="6597720" y="3578040"/>
              <a:ext cx="450720" cy="90864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524306"/>
            <p:cNvCxnSpPr>
              <a:stCxn id="236" idx="0"/>
              <a:endCxn id="237" idx="2"/>
            </p:cNvCxnSpPr>
            <p:nvPr/>
          </p:nvCxnSpPr>
          <p:spPr>
            <a:xfrm flipV="1" rot="16200000">
              <a:off x="3422520" y="3123360"/>
              <a:ext cx="450720" cy="181728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524304"/>
            <p:cNvCxnSpPr>
              <a:stCxn id="239" idx="0"/>
              <a:endCxn id="237" idx="2"/>
            </p:cNvCxnSpPr>
            <p:nvPr/>
          </p:nvCxnSpPr>
          <p:spPr>
            <a:xfrm flipV="1" rot="16200000">
              <a:off x="2514960" y="4030920"/>
              <a:ext cx="450720" cy="216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524302"/>
            <p:cNvCxnSpPr>
              <a:stCxn id="241" idx="0"/>
              <a:endCxn id="237" idx="2"/>
            </p:cNvCxnSpPr>
            <p:nvPr/>
          </p:nvCxnSpPr>
          <p:spPr>
            <a:xfrm flipH="1" flipV="1" rot="5400000">
              <a:off x="1605600" y="3123720"/>
              <a:ext cx="450720" cy="181728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524299"/>
            <p:cNvCxnSpPr>
              <a:stCxn id="232" idx="0"/>
              <a:endCxn id="243" idx="2"/>
            </p:cNvCxnSpPr>
            <p:nvPr/>
          </p:nvCxnSpPr>
          <p:spPr>
            <a:xfrm flipV="1" rot="16200000">
              <a:off x="5916240" y="1546560"/>
              <a:ext cx="450720" cy="227124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524298"/>
            <p:cNvCxnSpPr>
              <a:stCxn id="237" idx="0"/>
              <a:endCxn id="243" idx="2"/>
            </p:cNvCxnSpPr>
            <p:nvPr/>
          </p:nvCxnSpPr>
          <p:spPr>
            <a:xfrm flipH="1" flipV="1" rot="5400000">
              <a:off x="3647520" y="1548360"/>
              <a:ext cx="450720" cy="226764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524294"/>
            <p:cNvSpPr/>
            <p:nvPr/>
          </p:nvSpPr>
          <p:spPr>
            <a:xfrm>
              <a:off x="4227840" y="155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Verdana"/>
                </a:rPr>
                <a:t>Promocion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_s524295"/>
            <p:cNvSpPr/>
            <p:nvPr/>
          </p:nvSpPr>
          <p:spPr>
            <a:xfrm>
              <a:off x="1958760" y="290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Por tip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_s524296"/>
            <p:cNvSpPr/>
            <p:nvPr/>
          </p:nvSpPr>
          <p:spPr>
            <a:xfrm>
              <a:off x="6498720" y="290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Por característic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_s524301"/>
            <p:cNvSpPr/>
            <p:nvPr/>
          </p:nvSpPr>
          <p:spPr>
            <a:xfrm>
              <a:off x="144360" y="425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Al can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_s524303"/>
            <p:cNvSpPr/>
            <p:nvPr/>
          </p:nvSpPr>
          <p:spPr>
            <a:xfrm>
              <a:off x="1960920" y="425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Directas al consumid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_s524305"/>
            <p:cNvSpPr/>
            <p:nvPr/>
          </p:nvSpPr>
          <p:spPr>
            <a:xfrm>
              <a:off x="3777480" y="4257360"/>
              <a:ext cx="155484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Del retail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524307"/>
            <p:cNvSpPr/>
            <p:nvPr/>
          </p:nvSpPr>
          <p:spPr>
            <a:xfrm>
              <a:off x="5592240" y="4257360"/>
              <a:ext cx="15552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De incentiv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_s524309"/>
            <p:cNvSpPr/>
            <p:nvPr/>
          </p:nvSpPr>
          <p:spPr>
            <a:xfrm>
              <a:off x="7407360" y="425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Comunicacional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álculo del Efec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914400" y="2666880"/>
            <a:ext cx="7543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cálculo del Efecto es relativamente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uánto aumentó la venta durante la promoción respecto a la 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lmente el período afectado se define como el período de la promoción, más una semana antes y una despu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fecto (de Corto Plazo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838080" y="2590920"/>
            <a:ext cx="7925040" cy="2438280"/>
            <a:chOff x="838080" y="2590920"/>
            <a:chExt cx="7925040" cy="2438280"/>
          </a:xfrm>
        </p:grpSpPr>
        <p:sp>
          <p:nvSpPr>
            <p:cNvPr id="641" name=""/>
            <p:cNvSpPr/>
            <p:nvPr/>
          </p:nvSpPr>
          <p:spPr>
            <a:xfrm>
              <a:off x="838080" y="502920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00000" y="3789360"/>
              <a:ext cx="7150320" cy="422280"/>
            </a:xfrm>
            <a:custGeom>
              <a:avLst/>
              <a:gdLst/>
              <a:ahLst/>
              <a:rect l="l" t="t" r="r" b="b"/>
              <a:pathLst>
                <a:path w="4504" h="266">
                  <a:moveTo>
                    <a:pt x="0" y="231"/>
                  </a:moveTo>
                  <a:cubicBezTo>
                    <a:pt x="67" y="208"/>
                    <a:pt x="140" y="217"/>
                    <a:pt x="210" y="205"/>
                  </a:cubicBezTo>
                  <a:cubicBezTo>
                    <a:pt x="253" y="177"/>
                    <a:pt x="301" y="161"/>
                    <a:pt x="349" y="144"/>
                  </a:cubicBezTo>
                  <a:cubicBezTo>
                    <a:pt x="365" y="154"/>
                    <a:pt x="376" y="172"/>
                    <a:pt x="393" y="179"/>
                  </a:cubicBezTo>
                  <a:cubicBezTo>
                    <a:pt x="448" y="200"/>
                    <a:pt x="510" y="192"/>
                    <a:pt x="568" y="196"/>
                  </a:cubicBezTo>
                  <a:cubicBezTo>
                    <a:pt x="610" y="240"/>
                    <a:pt x="557" y="190"/>
                    <a:pt x="611" y="222"/>
                  </a:cubicBezTo>
                  <a:cubicBezTo>
                    <a:pt x="637" y="237"/>
                    <a:pt x="651" y="255"/>
                    <a:pt x="681" y="266"/>
                  </a:cubicBezTo>
                  <a:cubicBezTo>
                    <a:pt x="745" y="263"/>
                    <a:pt x="809" y="265"/>
                    <a:pt x="873" y="257"/>
                  </a:cubicBezTo>
                  <a:cubicBezTo>
                    <a:pt x="898" y="254"/>
                    <a:pt x="920" y="215"/>
                    <a:pt x="943" y="205"/>
                  </a:cubicBezTo>
                  <a:cubicBezTo>
                    <a:pt x="1010" y="177"/>
                    <a:pt x="947" y="219"/>
                    <a:pt x="1013" y="179"/>
                  </a:cubicBezTo>
                  <a:cubicBezTo>
                    <a:pt x="1031" y="168"/>
                    <a:pt x="1065" y="144"/>
                    <a:pt x="1065" y="144"/>
                  </a:cubicBezTo>
                  <a:cubicBezTo>
                    <a:pt x="1110" y="153"/>
                    <a:pt x="1135" y="150"/>
                    <a:pt x="1178" y="135"/>
                  </a:cubicBezTo>
                  <a:cubicBezTo>
                    <a:pt x="1184" y="126"/>
                    <a:pt x="1191" y="118"/>
                    <a:pt x="1196" y="109"/>
                  </a:cubicBezTo>
                  <a:cubicBezTo>
                    <a:pt x="1200" y="101"/>
                    <a:pt x="1198" y="88"/>
                    <a:pt x="1205" y="83"/>
                  </a:cubicBezTo>
                  <a:cubicBezTo>
                    <a:pt x="1220" y="72"/>
                    <a:pt x="1257" y="65"/>
                    <a:pt x="1257" y="65"/>
                  </a:cubicBezTo>
                  <a:cubicBezTo>
                    <a:pt x="1269" y="83"/>
                    <a:pt x="1272" y="112"/>
                    <a:pt x="1292" y="118"/>
                  </a:cubicBezTo>
                  <a:cubicBezTo>
                    <a:pt x="1333" y="130"/>
                    <a:pt x="1374" y="139"/>
                    <a:pt x="1414" y="153"/>
                  </a:cubicBezTo>
                  <a:cubicBezTo>
                    <a:pt x="1435" y="172"/>
                    <a:pt x="1451" y="189"/>
                    <a:pt x="1475" y="205"/>
                  </a:cubicBezTo>
                  <a:cubicBezTo>
                    <a:pt x="1583" y="177"/>
                    <a:pt x="1384" y="226"/>
                    <a:pt x="1615" y="188"/>
                  </a:cubicBezTo>
                  <a:cubicBezTo>
                    <a:pt x="1685" y="176"/>
                    <a:pt x="1710" y="160"/>
                    <a:pt x="1789" y="153"/>
                  </a:cubicBezTo>
                  <a:cubicBezTo>
                    <a:pt x="1848" y="170"/>
                    <a:pt x="1838" y="221"/>
                    <a:pt x="1894" y="240"/>
                  </a:cubicBezTo>
                  <a:cubicBezTo>
                    <a:pt x="1976" y="228"/>
                    <a:pt x="2016" y="223"/>
                    <a:pt x="2104" y="231"/>
                  </a:cubicBezTo>
                  <a:cubicBezTo>
                    <a:pt x="2166" y="252"/>
                    <a:pt x="2141" y="239"/>
                    <a:pt x="2182" y="266"/>
                  </a:cubicBezTo>
                  <a:cubicBezTo>
                    <a:pt x="2283" y="165"/>
                    <a:pt x="2383" y="146"/>
                    <a:pt x="2522" y="126"/>
                  </a:cubicBezTo>
                  <a:cubicBezTo>
                    <a:pt x="2540" y="73"/>
                    <a:pt x="2589" y="64"/>
                    <a:pt x="2636" y="48"/>
                  </a:cubicBezTo>
                  <a:cubicBezTo>
                    <a:pt x="2662" y="53"/>
                    <a:pt x="2687" y="65"/>
                    <a:pt x="2714" y="65"/>
                  </a:cubicBezTo>
                  <a:cubicBezTo>
                    <a:pt x="2736" y="65"/>
                    <a:pt x="2757" y="45"/>
                    <a:pt x="2776" y="39"/>
                  </a:cubicBezTo>
                  <a:cubicBezTo>
                    <a:pt x="2793" y="34"/>
                    <a:pt x="2811" y="33"/>
                    <a:pt x="2828" y="30"/>
                  </a:cubicBezTo>
                  <a:cubicBezTo>
                    <a:pt x="2881" y="36"/>
                    <a:pt x="2951" y="44"/>
                    <a:pt x="3002" y="65"/>
                  </a:cubicBezTo>
                  <a:cubicBezTo>
                    <a:pt x="3039" y="80"/>
                    <a:pt x="3068" y="99"/>
                    <a:pt x="3107" y="109"/>
                  </a:cubicBezTo>
                  <a:cubicBezTo>
                    <a:pt x="3154" y="153"/>
                    <a:pt x="3109" y="118"/>
                    <a:pt x="3238" y="135"/>
                  </a:cubicBezTo>
                  <a:cubicBezTo>
                    <a:pt x="3247" y="136"/>
                    <a:pt x="3256" y="140"/>
                    <a:pt x="3264" y="144"/>
                  </a:cubicBezTo>
                  <a:cubicBezTo>
                    <a:pt x="3273" y="149"/>
                    <a:pt x="3280" y="160"/>
                    <a:pt x="3290" y="161"/>
                  </a:cubicBezTo>
                  <a:cubicBezTo>
                    <a:pt x="3342" y="168"/>
                    <a:pt x="3395" y="167"/>
                    <a:pt x="3448" y="170"/>
                  </a:cubicBezTo>
                  <a:cubicBezTo>
                    <a:pt x="3509" y="191"/>
                    <a:pt x="3483" y="194"/>
                    <a:pt x="3526" y="179"/>
                  </a:cubicBezTo>
                  <a:cubicBezTo>
                    <a:pt x="3639" y="190"/>
                    <a:pt x="3767" y="221"/>
                    <a:pt x="3875" y="188"/>
                  </a:cubicBezTo>
                  <a:cubicBezTo>
                    <a:pt x="3914" y="161"/>
                    <a:pt x="3953" y="150"/>
                    <a:pt x="3997" y="135"/>
                  </a:cubicBezTo>
                  <a:cubicBezTo>
                    <a:pt x="4026" y="107"/>
                    <a:pt x="4009" y="97"/>
                    <a:pt x="4050" y="83"/>
                  </a:cubicBezTo>
                  <a:cubicBezTo>
                    <a:pt x="4080" y="51"/>
                    <a:pt x="4130" y="43"/>
                    <a:pt x="4172" y="30"/>
                  </a:cubicBezTo>
                  <a:cubicBezTo>
                    <a:pt x="4198" y="22"/>
                    <a:pt x="4250" y="4"/>
                    <a:pt x="4250" y="4"/>
                  </a:cubicBezTo>
                  <a:cubicBezTo>
                    <a:pt x="4268" y="7"/>
                    <a:pt x="4286" y="8"/>
                    <a:pt x="4303" y="13"/>
                  </a:cubicBezTo>
                  <a:cubicBezTo>
                    <a:pt x="4315" y="17"/>
                    <a:pt x="4325" y="28"/>
                    <a:pt x="4338" y="30"/>
                  </a:cubicBezTo>
                  <a:cubicBezTo>
                    <a:pt x="4365" y="33"/>
                    <a:pt x="4392" y="7"/>
                    <a:pt x="4416" y="4"/>
                  </a:cubicBezTo>
                  <a:cubicBezTo>
                    <a:pt x="4445" y="0"/>
                    <a:pt x="4475" y="4"/>
                    <a:pt x="4504" y="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2590920"/>
              <a:ext cx="5445000" cy="2008080"/>
            </a:xfrm>
            <a:custGeom>
              <a:avLst/>
              <a:gdLst/>
              <a:ahLst/>
              <a:rect l="l" t="t" r="r" b="b"/>
              <a:pathLst>
                <a:path w="3430" h="1256">
                  <a:moveTo>
                    <a:pt x="0" y="934"/>
                  </a:moveTo>
                  <a:cubicBezTo>
                    <a:pt x="9" y="931"/>
                    <a:pt x="18" y="930"/>
                    <a:pt x="26" y="925"/>
                  </a:cubicBezTo>
                  <a:cubicBezTo>
                    <a:pt x="33" y="921"/>
                    <a:pt x="36" y="909"/>
                    <a:pt x="44" y="907"/>
                  </a:cubicBezTo>
                  <a:cubicBezTo>
                    <a:pt x="69" y="900"/>
                    <a:pt x="96" y="902"/>
                    <a:pt x="122" y="899"/>
                  </a:cubicBezTo>
                  <a:cubicBezTo>
                    <a:pt x="247" y="857"/>
                    <a:pt x="388" y="868"/>
                    <a:pt x="515" y="864"/>
                  </a:cubicBezTo>
                  <a:cubicBezTo>
                    <a:pt x="555" y="854"/>
                    <a:pt x="598" y="852"/>
                    <a:pt x="637" y="838"/>
                  </a:cubicBezTo>
                  <a:cubicBezTo>
                    <a:pt x="666" y="828"/>
                    <a:pt x="687" y="812"/>
                    <a:pt x="716" y="803"/>
                  </a:cubicBezTo>
                  <a:cubicBezTo>
                    <a:pt x="763" y="753"/>
                    <a:pt x="787" y="690"/>
                    <a:pt x="829" y="637"/>
                  </a:cubicBezTo>
                  <a:cubicBezTo>
                    <a:pt x="850" y="610"/>
                    <a:pt x="888" y="585"/>
                    <a:pt x="917" y="567"/>
                  </a:cubicBezTo>
                  <a:cubicBezTo>
                    <a:pt x="944" y="526"/>
                    <a:pt x="982" y="507"/>
                    <a:pt x="1013" y="471"/>
                  </a:cubicBezTo>
                  <a:cubicBezTo>
                    <a:pt x="1043" y="436"/>
                    <a:pt x="1064" y="395"/>
                    <a:pt x="1091" y="358"/>
                  </a:cubicBezTo>
                  <a:cubicBezTo>
                    <a:pt x="1100" y="346"/>
                    <a:pt x="1107" y="334"/>
                    <a:pt x="1117" y="323"/>
                  </a:cubicBezTo>
                  <a:cubicBezTo>
                    <a:pt x="1134" y="304"/>
                    <a:pt x="1170" y="270"/>
                    <a:pt x="1170" y="270"/>
                  </a:cubicBezTo>
                  <a:cubicBezTo>
                    <a:pt x="1179" y="230"/>
                    <a:pt x="1197" y="221"/>
                    <a:pt x="1213" y="183"/>
                  </a:cubicBezTo>
                  <a:cubicBezTo>
                    <a:pt x="1244" y="111"/>
                    <a:pt x="1303" y="43"/>
                    <a:pt x="1379" y="17"/>
                  </a:cubicBezTo>
                  <a:cubicBezTo>
                    <a:pt x="1502" y="26"/>
                    <a:pt x="1498" y="23"/>
                    <a:pt x="1597" y="0"/>
                  </a:cubicBezTo>
                  <a:cubicBezTo>
                    <a:pt x="1620" y="3"/>
                    <a:pt x="1645" y="0"/>
                    <a:pt x="1667" y="8"/>
                  </a:cubicBezTo>
                  <a:cubicBezTo>
                    <a:pt x="1687" y="15"/>
                    <a:pt x="1719" y="43"/>
                    <a:pt x="1719" y="43"/>
                  </a:cubicBezTo>
                  <a:cubicBezTo>
                    <a:pt x="1748" y="99"/>
                    <a:pt x="1759" y="96"/>
                    <a:pt x="1807" y="131"/>
                  </a:cubicBezTo>
                  <a:cubicBezTo>
                    <a:pt x="1833" y="150"/>
                    <a:pt x="1845" y="179"/>
                    <a:pt x="1868" y="200"/>
                  </a:cubicBezTo>
                  <a:cubicBezTo>
                    <a:pt x="1879" y="233"/>
                    <a:pt x="1896" y="262"/>
                    <a:pt x="1920" y="288"/>
                  </a:cubicBezTo>
                  <a:cubicBezTo>
                    <a:pt x="1937" y="306"/>
                    <a:pt x="1973" y="340"/>
                    <a:pt x="1973" y="340"/>
                  </a:cubicBezTo>
                  <a:cubicBezTo>
                    <a:pt x="1987" y="386"/>
                    <a:pt x="2004" y="416"/>
                    <a:pt x="2034" y="454"/>
                  </a:cubicBezTo>
                  <a:cubicBezTo>
                    <a:pt x="2042" y="486"/>
                    <a:pt x="2067" y="549"/>
                    <a:pt x="2086" y="576"/>
                  </a:cubicBezTo>
                  <a:cubicBezTo>
                    <a:pt x="2111" y="611"/>
                    <a:pt x="2109" y="594"/>
                    <a:pt x="2138" y="619"/>
                  </a:cubicBezTo>
                  <a:cubicBezTo>
                    <a:pt x="2163" y="641"/>
                    <a:pt x="2185" y="666"/>
                    <a:pt x="2208" y="689"/>
                  </a:cubicBezTo>
                  <a:cubicBezTo>
                    <a:pt x="2214" y="695"/>
                    <a:pt x="2226" y="707"/>
                    <a:pt x="2226" y="707"/>
                  </a:cubicBezTo>
                  <a:cubicBezTo>
                    <a:pt x="2236" y="740"/>
                    <a:pt x="2254" y="764"/>
                    <a:pt x="2269" y="794"/>
                  </a:cubicBezTo>
                  <a:cubicBezTo>
                    <a:pt x="2279" y="815"/>
                    <a:pt x="2273" y="825"/>
                    <a:pt x="2295" y="838"/>
                  </a:cubicBezTo>
                  <a:cubicBezTo>
                    <a:pt x="2303" y="843"/>
                    <a:pt x="2313" y="843"/>
                    <a:pt x="2322" y="846"/>
                  </a:cubicBezTo>
                  <a:cubicBezTo>
                    <a:pt x="2332" y="880"/>
                    <a:pt x="2344" y="888"/>
                    <a:pt x="2374" y="907"/>
                  </a:cubicBezTo>
                  <a:cubicBezTo>
                    <a:pt x="2410" y="961"/>
                    <a:pt x="2439" y="1023"/>
                    <a:pt x="2505" y="1038"/>
                  </a:cubicBezTo>
                  <a:cubicBezTo>
                    <a:pt x="2530" y="1056"/>
                    <a:pt x="2546" y="1072"/>
                    <a:pt x="2575" y="1082"/>
                  </a:cubicBezTo>
                  <a:cubicBezTo>
                    <a:pt x="2601" y="1121"/>
                    <a:pt x="2633" y="1152"/>
                    <a:pt x="2671" y="1178"/>
                  </a:cubicBezTo>
                  <a:cubicBezTo>
                    <a:pt x="2693" y="1211"/>
                    <a:pt x="2725" y="1234"/>
                    <a:pt x="2758" y="1256"/>
                  </a:cubicBezTo>
                  <a:cubicBezTo>
                    <a:pt x="2830" y="1250"/>
                    <a:pt x="2882" y="1238"/>
                    <a:pt x="2950" y="1222"/>
                  </a:cubicBezTo>
                  <a:cubicBezTo>
                    <a:pt x="2983" y="1199"/>
                    <a:pt x="3016" y="1196"/>
                    <a:pt x="3055" y="1187"/>
                  </a:cubicBezTo>
                  <a:cubicBezTo>
                    <a:pt x="3083" y="1168"/>
                    <a:pt x="3101" y="1145"/>
                    <a:pt x="3133" y="1134"/>
                  </a:cubicBezTo>
                  <a:cubicBezTo>
                    <a:pt x="3145" y="1123"/>
                    <a:pt x="3153" y="1105"/>
                    <a:pt x="3168" y="1099"/>
                  </a:cubicBezTo>
                  <a:cubicBezTo>
                    <a:pt x="3182" y="1093"/>
                    <a:pt x="3198" y="1095"/>
                    <a:pt x="3212" y="1091"/>
                  </a:cubicBezTo>
                  <a:cubicBezTo>
                    <a:pt x="3262" y="1078"/>
                    <a:pt x="3256" y="1079"/>
                    <a:pt x="3290" y="1056"/>
                  </a:cubicBezTo>
                  <a:cubicBezTo>
                    <a:pt x="3320" y="1009"/>
                    <a:pt x="3358" y="925"/>
                    <a:pt x="3413" y="907"/>
                  </a:cubicBezTo>
                  <a:cubicBezTo>
                    <a:pt x="3419" y="898"/>
                    <a:pt x="3430" y="881"/>
                    <a:pt x="3430" y="88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2520" y="3200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722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53280" y="3505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L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52880" y="25909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Ventas Efec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987640" y="1052640"/>
            <a:ext cx="280836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87640" y="4654440"/>
            <a:ext cx="2808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87640" y="2852640"/>
            <a:ext cx="2808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ta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40360" y="2060640"/>
            <a:ext cx="502920" cy="720720"/>
          </a:xfrm>
          <a:prstGeom prst="downArrow">
            <a:avLst>
              <a:gd name="adj1" fmla="val 50000"/>
              <a:gd name="adj2" fmla="val 3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40360" y="3860640"/>
            <a:ext cx="502920" cy="720720"/>
          </a:xfrm>
          <a:prstGeom prst="downArrow">
            <a:avLst>
              <a:gd name="adj1" fmla="val 50000"/>
              <a:gd name="adj2" fmla="val 3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6" idx="3"/>
          </p:cNvCxnSpPr>
          <p:nvPr/>
        </p:nvCxnSpPr>
        <p:spPr>
          <a:xfrm>
            <a:off x="5796000" y="1520640"/>
            <a:ext cx="2160" cy="3602520"/>
          </a:xfrm>
          <a:prstGeom prst="bentConnector3">
            <a:avLst>
              <a:gd name="adj1" fmla="val 27500000"/>
            </a:avLst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6156360" y="2924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ociones al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87280" y="402912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mociones del ret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215568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mociones a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mociones Directas al Consumid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1773360"/>
            <a:ext cx="79246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Conciencia (Prueba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Volumen (Compre 2, lleve 1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bajas en el precio, reembol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mios, 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lugar o el Merchandising (Displ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rigidas al Ca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220968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s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cciones de Precios tempo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Compartida (Catálo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Nivel de Ventas (Bonos e incen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yuda en la exhibición y publicidad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bicación en gónd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mociones del Ret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2362320"/>
            <a:ext cx="6781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cuentos del r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plays, potenciando algún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s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79280" y="2319480"/>
          <a:ext cx="8785440" cy="3254400"/>
        </p:xfrm>
        <a:graphic>
          <a:graphicData uri="http://schemas.openxmlformats.org/drawingml/2006/table">
            <a:tbl>
              <a:tblPr/>
              <a:tblGrid>
                <a:gridCol w="1440000"/>
                <a:gridCol w="2268360"/>
                <a:gridCol w="1540080"/>
                <a:gridCol w="2058840"/>
                <a:gridCol w="14781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de promo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ipalmente de incen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ipalmente comunic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pre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pre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tiv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 c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uentos al c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venios, exclus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hibición, publicidad compart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in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 retai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pones, descuentos al cl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os, club de so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tálogos, exhibición en gónd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egos, entrete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 consumi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pones desde el proveedor, reembol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os, club de so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estras gra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egos, entrete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5:33:59Z</dcterms:created>
  <dc:creator>Dii</dc:creator>
  <dc:description/>
  <dc:language>en-US</dc:language>
  <cp:lastModifiedBy>Paola Nahum</cp:lastModifiedBy>
  <cp:lastPrinted>2001-09-21T22:44:24Z</cp:lastPrinted>
  <dcterms:modified xsi:type="dcterms:W3CDTF">2007-11-08T19:13:33Z</dcterms:modified>
  <cp:revision>129</cp:revision>
  <dc:subject/>
  <dc:title>PRICING</dc:title>
</cp:coreProperties>
</file>