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2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F4FF-87E2-443C-86D6-2D0B75D4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27C4-70C9-4C06-8886-D0FA1AB6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DE89-F233-4E55-A42F-2C6C278A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B12A-B0EA-4193-AD4D-8B8119E2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BF45-A01D-446E-97E3-78EAF291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3992-7CCC-4383-9831-1A4F98DE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2A80-7B5F-414C-B6B3-F2E16579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DB16-F6E0-4938-BD40-79E4DFA8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5A30-6E10-497B-8E35-E7D331AC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8BE1-C340-4AD6-8B24-180BBCE9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8589-BC2F-4D75-8A64-F9E85C64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BA57-956A-4CC5-ACF5-2794E87A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2680-ACFB-4AA6-883F-BE6F9F138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erdo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dinero4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5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5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6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6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6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7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7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9" name="DINERO4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80" name="opera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5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8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dardos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7" name=""/>
          <p:cNvGraphicFramePr/>
          <p:nvPr/>
        </p:nvGraphicFramePr>
        <p:xfrm>
          <a:off x="609480" y="1346040"/>
          <a:ext cx="3810240" cy="158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46040"/>
                    <a:ext cx="3810240" cy="15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609480" y="3733920"/>
          <a:ext cx="3886200" cy="1508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733920"/>
                    <a:ext cx="388620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4724280" y="1346040"/>
          <a:ext cx="3843360" cy="1603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1346040"/>
                    <a:ext cx="384336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4648320" y="3733920"/>
          <a:ext cx="3995640" cy="15238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733920"/>
                    <a:ext cx="39956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"/>
          <p:cNvSpPr/>
          <p:nvPr/>
        </p:nvSpPr>
        <p:spPr>
          <a:xfrm>
            <a:off x="533520" y="6094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osición por Fi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"/>
          <p:cNvGraphicFramePr/>
          <p:nvPr/>
        </p:nvGraphicFramePr>
        <p:xfrm>
          <a:off x="1143000" y="762120"/>
          <a:ext cx="373392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37339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5486400" y="1371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osición por Cur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68793E-006 L -0.00781 -0.28063 E">
                                      <p:cBhvr>
                                        <p:cTn id="70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28063 L 0.06753 -0.34142 E">
                                      <p:cBhvr>
                                        <p:cTn id="74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gente1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47" name="gente1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34136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44429E-006 L 0.10833 -0.07328 E">
                                      <p:cBhvr>
                                        <p:cTn id="8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r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8835E-007 L -0.10434 0.11535 E">
                                      <p:cBhvr>
                                        <p:cTn id="96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43643E-006 L -0.10799 0.10911 E">
                                      <p:cBhvr>
                                        <p:cTn id="9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1914E-007 L 0.16337 -2.21914E-007 E">
                                      <p:cBhvr>
                                        <p:cTn id="110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7.58206E-007 L 0.18038 -0.05733 E">
                                      <p:cBhvr>
                                        <p:cTn id="114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14378E-007 L 0.1776 -0.04901 E">
                                      <p:cBhvr>
                                        <p:cTn id="116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dii</cp:lastModifiedBy>
  <cp:lastPrinted>2000-03-10T16:13:12Z</cp:lastPrinted>
  <dcterms:modified xsi:type="dcterms:W3CDTF">2005-05-11T19:34:57Z</dcterms:modified>
  <cp:revision>28</cp:revision>
  <dc:subject/>
  <dc:title>Sin título de diapositiva</dc:title>
</cp:coreProperties>
</file>