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AEF-5D99-401D-9E41-BE2DF5D1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8F3-DD56-4F94-B922-A5F3F40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EB5-091F-4FBE-BF5D-161AE47F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237-15AE-4EB3-8228-F6505C61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1E2-C68B-48C4-8607-1E52ED99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DDE-50EC-47AA-96AD-642F611F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A68-65ED-4EF2-9C3C-5273C71B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844-0863-466B-A09F-A7377977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43C-368B-450A-8AA9-2139013E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A19-DF6F-44C8-B97E-A3EE27C2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6AF-8471-4403-8AAA-A51492FA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2C1-FAD9-4063-85B8-5759100D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0529-958B-4E94-AA32-11F5115F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baInd”y”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: odiomarkstrat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baInd5.dz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8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ben deszipearl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0000</cp:lastModifiedBy>
  <dcterms:modified xsi:type="dcterms:W3CDTF">2006-09-14T22:04:10Z</dcterms:modified>
  <cp:revision>14</cp:revision>
  <dc:subject/>
  <dc:title>Diapositiva 1</dc:title>
</cp:coreProperties>
</file>