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3E1-244B-4B48-AB2F-44F7B143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D91-94FD-4FFD-90F9-83968B75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538-1179-46EB-97C4-0E27BFB5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0EE-4464-4490-8654-4E5EC775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491-6491-4644-9989-74882288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F39-BB79-43FE-B0EA-D6CEB4E0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FBB-46EE-43E1-BDBB-A9A54D28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8D6-7CE2-4315-8449-93C1E57F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A8D5-A6AA-4608-BE53-8FE6C210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4BC-5FC4-4E11-94D2-39FD5708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623-EF8A-4FDD-A25E-B9F3F102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CFF-2B4D-4F8E-AEEE-D6E80C3D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7AC8-5E83-4EE1-B151-4DF8C4CA8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baInd”y”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: odiomarkstrat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baInd5.dz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77080" y="2924280"/>
            <a:ext cx="2087640" cy="285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eben deszipearl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0000</cp:lastModifiedBy>
  <dcterms:modified xsi:type="dcterms:W3CDTF">2006-09-14T22:04:10Z</dcterms:modified>
  <cp:revision>14</cp:revision>
  <dc:subject/>
  <dc:title>Diapositiva 1</dc:title>
</cp:coreProperties>
</file>