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4A25-F5E9-445E-B5D2-F23EC903EB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9E77-E9B7-46B0-923F-0F73716CE4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D812-901F-42E3-A6F0-A21713FFB5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F627-C828-4AA6-AA6C-187494289C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6935-C022-4AD3-8012-0DC40DBBA1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368-00F1-4B6A-959C-CBE46F42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785-DFF4-4756-9321-A091153C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404-AE2B-4552-BFAB-54F62E59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ECE-4E7F-4AD5-8D2F-BCFA489C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5574-133E-4C4F-8897-A3C7E1F7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EFA1-01E4-4D1A-B4B9-C4791496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2DE4-CAB9-4D8B-82CE-F2453F6F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FA4A-6E21-44ED-8DFB-CB23478E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14BA-3EED-4C67-A910-3BBA78C9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EC07-B428-4231-BA3F-385CDBB8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5ED7-D6E5-4F45-8B7B-0BC9A671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CC7-A1C7-4FED-89B7-76485BE6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9DCD-D939-4086-9CD1-2D64DF40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821A-F726-43B7-9FB7-0C21981F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9886-2613-4CDD-A2BA-FE256165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5CEF-B976-43C3-9989-B005C800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3299-08F9-42A6-B116-3262282D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777-64D3-4297-9B0F-02A01A93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918-82D1-4107-9478-59D09E47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969-4793-49E3-B5ED-807A14F2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206-6E04-47A7-8B70-508F932D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806-F5A6-4744-B7BA-35D9DDD0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C82-20D0-4BD0-AC75-4A7924FC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3A4-6559-4C7C-8BF5-110227BB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359E-A87E-448D-A3AC-15B78EACFE0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5B29-0069-4C39-A435-B5D85EF9488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ueba de Conceptos con Análisis Conju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340000" y="3716280"/>
            <a:ext cx="6095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xiliar: Paola Nahum 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Basado en “Adventures in Conjoint Analysis”, Wharton School, Paul Green y Abba Krieger, Marzo 200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puntes M. Bosc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XILIAR 2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0066"/>
                </a:solidFill>
                <a:latin typeface="Tahoma"/>
              </a:rPr>
              <a:t>¿Cómo funciona AC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 varían las características del producto (variables independientes) para construir muchos (usualmente 12 o más) conceptos de productos (productos hipotéticos) .</a:t>
            </a:r>
            <a:br>
              <a:rPr sz="24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os encuestados le ponen nota o rankean esos concep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on las evaluaciones de los sujetos estimamos cual es el “valor parcial ” (utilidad) de cada atribu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(Esto se logra “regresionando” la variable dependiente (input del sujeto) contra la descripción en atributos del perfil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atributo de mayor importancia : el pre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valor se modela como una función matemática multiatributada.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f (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...........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n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orma más usada es la llamad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1" lang="es-ES_tradnl" sz="4000" spc="-1" strike="noStrike">
                <a:solidFill>
                  <a:srgbClr val="40458c"/>
                </a:solidFill>
                <a:latin typeface="Symbol"/>
                <a:ea typeface="Symbol"/>
              </a:rPr>
              <a:t>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jk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jk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 en q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jk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 si el atributo j está presente al nivel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k en el producto 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0 en caso contrari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jk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portancia relativa del nivel k del atributo 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alor del producto i para el consumid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5734080"/>
            <a:ext cx="86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287280" cy="136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n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hev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2871720"/>
            <a:ext cx="282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666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429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32004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15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18000" y="525780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 Producto = 1 nivel de cada atribu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5120" y="2666880"/>
            <a:ext cx="1904760" cy="3429000"/>
            <a:chOff x="1905120" y="2666880"/>
            <a:chExt cx="1904760" cy="3429000"/>
          </a:xfrm>
        </p:grpSpPr>
        <p:sp>
          <p:nvSpPr>
            <p:cNvPr id="269" name=""/>
            <p:cNvSpPr/>
            <p:nvPr/>
          </p:nvSpPr>
          <p:spPr>
            <a:xfrm>
              <a:off x="1905120" y="2666880"/>
              <a:ext cx="1904760" cy="342900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05120" y="41148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5120" y="50292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276720" y="3428640"/>
              <a:ext cx="53316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352680" y="4266720"/>
              <a:ext cx="457200" cy="838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5740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 ci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gunas cosas básic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gunta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é prefiere usted?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. . 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210 Hp           o         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 140 Hp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7 MPG                                    28 MP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escoge el de la izq., prefiere potencia.  Si elige el de la derecha, sus preferencias van por el ahorro de combusti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esta forma de preguntarlo es mej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2438280"/>
            <a:ext cx="6858000" cy="19814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LANES TELEFÓN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979640" y="1773360"/>
          <a:ext cx="5335560" cy="1606320"/>
        </p:xfrm>
        <a:graphic>
          <a:graphicData uri="http://schemas.openxmlformats.org/drawingml/2006/table">
            <a:tbl>
              <a:tblPr/>
              <a:tblGrid>
                <a:gridCol w="674640"/>
                <a:gridCol w="2181240"/>
                <a:gridCol w="1434960"/>
                <a:gridCol w="1044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Red fija y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468360" y="386064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 perfiles posibl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4653000"/>
          <a:ext cx="8528040" cy="819000"/>
        </p:xfrm>
        <a:graphic>
          <a:graphicData uri="http://schemas.openxmlformats.org/drawingml/2006/table">
            <a:tbl>
              <a:tblPr/>
              <a:tblGrid>
                <a:gridCol w="312084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31212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179280" y="5516640"/>
            <a:ext cx="896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recomendable que al comparar perfiles, uno de estos no supere en todos los atributos al otro, para no producir una respuesta obvia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Diseño del Estudio a realiz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¿Qué atributos selecciona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lo más importante para realizar un buen análisis posterio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n del objetivo del estud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=&gt; Incluyo sólo los atributos sobre los cuales voy a actu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recio y marca =&gt; Incluir esos atributos (Pero deben ser independient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un Concepto o Perfil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769608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descripción de un producto o servicio como un conjunto de característic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etapa anterior al “prototipo” usual en el diseño de producto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Generalmente una descripción multiatributad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Cuántos atributo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 de ciertos factor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bjetivos del estud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iempo disponible para entrevis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orma de AC que se utiliza para recolectar la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CA (Software de entrevista)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Interacción entre atributo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udios asumen la no existencia de interacción entr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xcepción import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ecio y Mar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Solución: Atributo compues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Qué nivele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 deben ser exclusiv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producto debe estar asociado a niveles ún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N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se puede aplicar dos niveles de un atributo a un mismo produ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posible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interpola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tre niveles, pero no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extrapol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TODO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los escenarios posi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Número de Niveles por atributo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spectos a tener en cuent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entrevista más exten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medición más detalla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enos niveles =&gt; Lo contr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d882"/>
                </a:solidFill>
                <a:latin typeface="Tahoma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Implementación del Estudio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Tamaño de la muestra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dividual (Ej.: Preferencias para casa nuev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gmento de merc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rcado 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segmentos: Muestra se estabiliza con un Nº superior a 30-5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múltiples segmentos: Entre 200 y 40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Modalidad de recopilación de datos: Entrevista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Hay 3 principales modalidad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.- Ranking de trade-offs por pares de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.- Comparación de tarje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3.- Análisis conjunto adaptativ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ide al entrevistado llenar una matriz con preferencias por pares d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emplo de las pelotas de Golf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cance, duración, precio =&gt; 3 combinaciones a pregunt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Duración (Precio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Precio (Duración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uración - Precio (Alcance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5715000" cy="1371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H="1">
            <a:off x="5943240" y="5867280"/>
            <a:ext cx="762120" cy="0"/>
          </a:xfrm>
          <a:prstGeom prst="line">
            <a:avLst/>
          </a:prstGeom>
          <a:ln w="4428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5257800"/>
            <a:ext cx="2057400" cy="1295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Matriz a llenar con preferenci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ecanismos de análisis matemático de matrices permiten obtener  “utilidades relativa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dimientos iterativos de ajuste con medidas de error que se deben minimiza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delo asume que atributos son independient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4952880"/>
            <a:ext cx="121932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4952880"/>
            <a:ext cx="1219320" cy="60984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4648320"/>
            <a:ext cx="2514600" cy="533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No redundan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5520" y="5257800"/>
            <a:ext cx="251460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Sin interac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57913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tra-ejemplo: Rojo - Negro vs. Limousine y Convert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2.- Comparación de tarjetas: Mecanismo de Ordena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mecanismo realis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Genera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erfile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o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roductos tip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do hace ranking de esos per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057400"/>
            <a:ext cx="73911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técnica de estimación de funciones de preferenci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asume que las preferencias por un producto se descompone en las preferencias por las distintas características 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desarrolla sobre perfi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Nºde tarjetas Min = NºNiveles - NºAtributos +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23623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Modelamiento por Elección Discreta (DCM)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pregunta al entrevistado, para cada escenario, qué producto elegiría, y con que nivel de preferencia según una esca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 Cadenas de hotel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elige de entre un paquete de opcio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un proceso iterativo, con diferentes escenari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4952880"/>
          </a:xfrm>
          <a:prstGeom prst="rect">
            <a:avLst/>
          </a:prstGeom>
          <a:ln w="9360">
            <a:solidFill>
              <a:srgbClr val="ecd8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3.- Análisis conjunto adapt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concepto muestra perfiles de no más de 5 atributos (Casi siempre, son 2 ó 3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Éstos son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perfiles parci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 es sobre perfiles más releva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n incluir hasta 30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fácilmente realizable en un software, aunque no hay much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Análisis de los Datos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terpretación de las Util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0 = Menos preferi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=/=&gt; Utilidad = 0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El número en sí NO tiene significa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GAPS sí representan ganancias al cambiar niveles de atributo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Utilidades sólo son válidas relativas a otra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relativa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de segmentar resultados, ejemp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1371600"/>
            <a:ext cx="2743200" cy="12193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Se puede descubrir información importante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2743200"/>
            <a:ext cx="236232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Notar diferencia en preferencia de atributo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39440" y="4076640"/>
            <a:ext cx="1066680" cy="838440"/>
          </a:xfrm>
          <a:prstGeom prst="rightArrow">
            <a:avLst>
              <a:gd name="adj1" fmla="val 50000"/>
              <a:gd name="adj2" fmla="val 31805"/>
            </a:avLst>
          </a:prstGeom>
          <a:solidFill>
            <a:srgbClr val="00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920" y="5105520"/>
            <a:ext cx="2666880" cy="15238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916360" y="1628640"/>
          <a:ext cx="6095880" cy="4943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Tod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tribut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Nive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5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ncho de cort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Garantí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 añ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 añ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reci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1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0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Disponibilidad a pagar por atribu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Una forma de estimar la disponibilidad a pagar por pasar de un nivel de un atributo, a otro que proporciona mayor utilidad al individuo, se muestra en el siguiente ejemp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3276720" y="1341360"/>
          <a:ext cx="2423880" cy="5024520"/>
        </p:xfrm>
        <a:graphic>
          <a:graphicData uri="http://schemas.openxmlformats.org/drawingml/2006/table">
            <a:tbl>
              <a:tblPr/>
              <a:tblGrid>
                <a:gridCol w="1438200"/>
                <a:gridCol w="985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recio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imes New Roman"/>
              </a:rPr>
              <a:t>Ejemplo Hoteles: atributos y niveles considerados relevantes en este ejemplo son los siguient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044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43200" y="1447920"/>
            <a:ext cx="90079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La primera comparación podría se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1.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xprese preferecias entre pares de produc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(hoteles- cuar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125 cuartos, 2 piso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600 cuartos, 12 pis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lobby pequeño,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gran  lobby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salas de reunione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varias salas de reunion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iscina al aire libre, pequeña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Pisci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moderno, atractivo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antiguo señorial, atractiv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80 doble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110 dob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4------3------2------1------0------1------2------3------4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Prefiere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Indiferente                                                 Prefie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Fuertemente 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    Fuertem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2997360"/>
            <a:ext cx="381636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6000" y="2997360"/>
            <a:ext cx="417672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660066"/>
                </a:solidFill>
                <a:latin typeface="Tahoma"/>
              </a:rPr>
              <a:t>Ejemplo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de </a:t>
            </a:r>
            <a:r>
              <a:rPr b="0" lang="es-ES" sz="3200" spc="-1" strike="noStrike">
                <a:solidFill>
                  <a:srgbClr val="660066"/>
                </a:solidFill>
                <a:latin typeface="Tahoma"/>
              </a:rPr>
              <a:t>Productos y sus Característica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Tarjeta de Crédito:</a:t>
            </a:r>
            <a:br>
              <a:rPr sz="2800"/>
            </a:br>
            <a:br>
              <a:rPr sz="28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Tasa de Interés + Cargo Anual + Límite de créd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 de Sal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Nivel de Reembolso en Hospitalización+ en Ambulatorio+ Exámenes Médicos +Límites+ Limitaciones a la libre el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46280"/>
            <a:ext cx="86868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2. Luego de analizar las respuestas del los individuos en las diversas comparaciones, el  Modelo infiere las preferencias (“utilidades”) para varios atribut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03280" y="2225520"/>
          <a:ext cx="6416640" cy="4399200"/>
        </p:xfrm>
        <a:graphic>
          <a:graphicData uri="http://schemas.openxmlformats.org/drawingml/2006/table">
            <a:tbl>
              <a:tblPr/>
              <a:tblGrid>
                <a:gridCol w="108288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es de los encuestad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ancia relativ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o total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044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343080" y="609480"/>
            <a:ext cx="845820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jemplo: Hotel para cliente 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3. Desarrolle una escala para cada cliente en función de sus preferencias y relativicelas respecto al preci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Diferencia en Precio/Diferencia en Utilidad = Precio/Indice de Utilida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40360" y="2997360"/>
            <a:ext cx="302436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La diferencia en Precio es 30 US$ y en Utilidad es .50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30/.5=6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Con esto quiere decir que para el individuo Z, el util vale US$ 60, de esta forma se hacen comparativos los atributos y se puede determinar cuanto está dispuesto a pagar Z por pasar de un nivel de un atributo, a otro nivel (independientemente del nivel en que se encuentren los otros atributos)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692360" y="2708280"/>
          <a:ext cx="3959280" cy="3881520"/>
        </p:xfrm>
        <a:graphic>
          <a:graphicData uri="http://schemas.openxmlformats.org/drawingml/2006/table">
            <a:tbl>
              <a:tblPr/>
              <a:tblGrid>
                <a:gridCol w="1082880"/>
                <a:gridCol w="762120"/>
                <a:gridCol w="1020600"/>
                <a:gridCol w="10936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de 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UM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3*60 = 25.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*60 =    3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*60 =    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*60 =    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*60 =   8.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*60 = 13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*60 =     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1371600" y="1770120"/>
          <a:ext cx="6477120" cy="38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70120"/>
                    <a:ext cx="64771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8120" y="754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440" bIns="46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NÁLISIS CONJUNT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660066"/>
                </a:solidFill>
                <a:latin typeface="Tahoma"/>
              </a:rPr>
              <a:t>Descomposición del Problema y Diseñ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0458c"/>
                </a:solidFill>
                <a:latin typeface="Tahoma"/>
              </a:rPr>
              <a:t>Si aprendemos como los consumidores valoran las características de un producto, estamos más capacitados para diseñar mejores produc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ternativas simples a AC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r preguntas directas: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Marca Prefiere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a tasa de interés alta (baja)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 cargo anual alto para usted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Cuás es un límite de crédito bueno/regular/malo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puestas simples y triviales. Poco aprendizaj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ume independencia entre los atributos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es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tra Alternativa a C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guntas directas sobre importancia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mportancias Declarad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Ratings de Importancia tienen poca capacidad discrimina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3880" y="2590920"/>
          <a:ext cx="609768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59092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écnica de IM desarrollada en los 70`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de como los consumidores evalúan los productos, a través de la evaluación (CONJUNTA) de sus atributo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23:28:52Z</dcterms:created>
  <dc:creator> </dc:creator>
  <dc:description/>
  <dc:language>en-US</dc:language>
  <cp:lastModifiedBy>Paola Nahum</cp:lastModifiedBy>
  <dcterms:modified xsi:type="dcterms:W3CDTF">2007-09-01T21:21:50Z</dcterms:modified>
  <cp:revision>57</cp:revision>
  <dc:subject/>
  <dc:title>Prueba de Conceptos con Análisis Conjunto</dc:title>
</cp:coreProperties>
</file>