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5AE3-C190-4A06-AA53-A34CEFECE8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AEDC-7A4A-47CD-A766-CD6B4E1817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881A-32A9-46C0-85FC-9F15B75E5E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37FF-0AE2-4907-89C7-2FA2F2B40E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5D52-8475-47F4-A03F-C377918984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D39-2F94-4E4B-A85A-381A462C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DBB-AD08-473F-8FFC-C1C284C5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175-1984-4454-A5A4-3F781736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026-DED0-4B59-92EA-427FC7B1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B872-8E98-4AA0-9F16-D5A9E43B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3CD4-5E45-43C8-9417-9B77D4AB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2608-074D-4973-8F20-B24A8BE7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D5E7-DE4A-444E-B629-EAC5CDC8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6105-5534-43EB-9ED8-B20E1758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F827-0994-41D8-B0E3-C3D0CFE0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8631-BECF-4D55-8F6E-C232419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41A-3AC7-492F-93EC-23EC7D7A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5ED1-0B79-4EE5-8E43-67B903C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8F81-926F-4FC3-A439-74B70DED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4F9D-4E98-43D8-AA52-BFE0F229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9E0C-00FF-4ABA-8CDF-60386D3E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6C20-2147-4694-93E3-6122FC75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0D5-7022-4BC9-806A-FB13604C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77B-2344-4E52-850C-B6780787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613-5DAA-435C-86EC-96C84DA0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2CA-65A7-412C-92C4-93F56680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770-B0DE-4B58-A511-E02AE8A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F0A-9808-45FA-8B78-C05F4D9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EF1-0D44-4DD3-9F6E-FFAD572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9C6-7FBC-4AEC-A7E8-F88F74F1A71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9ABE-8282-48D1-8AEC-23AE1AF3AA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ueba de Conceptos con Análisis Conju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716280"/>
            <a:ext cx="6095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xiliar: Paola Nahum 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ado en “Adventures in Conjoint Analysis”, Wharton School, Paul Green y Abba Krieger, Marzo 200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puntes M. Bos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XILIAR 2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0066"/>
                </a:solidFill>
                <a:latin typeface="Tahoma"/>
              </a:rPr>
              <a:t>¿Cómo funciona AC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 varían las características del producto (variables independientes) para construir muchos (usualmente 12 o más) conceptos de productos (productos hipotéticos) .</a:t>
            </a:r>
            <a:br>
              <a:rPr sz="24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os encuestados le ponen nota o rankean esos concep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n las evaluaciones de los sujetos estimamos cual es el “valor parcial ” (utilidad) de cada atribu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Esto se logra “regresionando” la variable dependiente (input del sujeto) contra la descripción en atributos del perfil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atributo de mayor importancia : el pre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se modela como una función matemática multiatributada.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f (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...........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orma más usada es la llama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ES_tradnl" sz="4000" spc="-1" strike="noStrike">
                <a:solidFill>
                  <a:srgbClr val="40458c"/>
                </a:solidFill>
                <a:latin typeface="Symbol"/>
                <a:ea typeface="Symbol"/>
              </a:rPr>
              <a:t>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jk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jk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 en 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jk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 si el atributo j está presente al nivel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k en el producto 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0 en caso contrari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jk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portancia relativa del nivel k del atributo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alor del producto i para e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73408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hev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2871720"/>
            <a:ext cx="28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15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18000" y="52578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 Producto = 1 nivel de cada atribu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5120" y="2666880"/>
            <a:ext cx="1904760" cy="3429000"/>
            <a:chOff x="1905120" y="2666880"/>
            <a:chExt cx="1904760" cy="3429000"/>
          </a:xfrm>
        </p:grpSpPr>
        <p:sp>
          <p:nvSpPr>
            <p:cNvPr id="269" name=""/>
            <p:cNvSpPr/>
            <p:nvPr/>
          </p:nvSpPr>
          <p:spPr>
            <a:xfrm>
              <a:off x="1905120" y="2666880"/>
              <a:ext cx="1904760" cy="342900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41148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50292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76720" y="3428640"/>
              <a:ext cx="53316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52680" y="4266720"/>
              <a:ext cx="45720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74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ci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gunas cosas bás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gunt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é prefiere usted?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210 Hp           o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140 Hp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7 MPG                                    28 MP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escoge el de la izq., prefiere potencia.  Si elige el de la derecha, sus preferencias van por el ahorro de combust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esta forma de preguntarlo es mej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438280"/>
            <a:ext cx="6858000" cy="1981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LANES TELEFÓN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979640" y="1773360"/>
          <a:ext cx="5335560" cy="1606320"/>
        </p:xfrm>
        <a:graphic>
          <a:graphicData uri="http://schemas.openxmlformats.org/drawingml/2006/table">
            <a:tbl>
              <a:tblPr/>
              <a:tblGrid>
                <a:gridCol w="674640"/>
                <a:gridCol w="2181240"/>
                <a:gridCol w="1434960"/>
                <a:gridCol w="10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ed fija y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468360" y="3860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 perfiles posibl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4653000"/>
          <a:ext cx="8528040" cy="819000"/>
        </p:xfrm>
        <a:graphic>
          <a:graphicData uri="http://schemas.openxmlformats.org/drawingml/2006/table">
            <a:tbl>
              <a:tblPr/>
              <a:tblGrid>
                <a:gridCol w="312084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3121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79280" y="5516640"/>
            <a:ext cx="89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recomendable que al comparar perfiles, uno de estos no supere en todos los atributos al otro, para no producir una respuesta obv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Diseño del Estudio a realiz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¿Qué atributos seleccion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lo más importante para realizar un buen análisis posteri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n del objetivo del estud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=&gt; Incluyo sólo los atributos sobre los cuales voy a actu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ecio y marca =&gt; Incluir esos atributos (Pero deben ser independie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un Concepto o Perf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9608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descripción de un producto o servicio como un conjunto de característ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etapa anterior al “prototipo” usual en el diseño de product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eneralmente una descripción multiatributad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Cuántos atributo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 de ciertos factor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jetivos del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iempo disponible para entrevi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orma de AC que se utiliza para recolectar la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A (Software de entrevista)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Interacción entre atributo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udios asumen la no existencia de interacción entr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cepción import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cio y Mar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Solución: Atributo compue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Qué nivele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 deben ser exclus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producto debe estar asociado a niveles ún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N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se puede aplicar dos niveles de un atributo a un mismo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osible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interpo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tre niveles, pero no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extrapo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TO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los escenarios posi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Número de Niveles por atributo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spectos a tener en cuent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entrevista más exten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medición más detall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enos niveles =&gt; Lo contr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d882"/>
                </a:solidFill>
                <a:latin typeface="Tahoma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Implementación del Estudio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Tamaño de la muestra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dividual (Ej.: Preferencias para casa nue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gmento de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rcado 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segmentos: Muestra se estabiliza con un Nº superior a 30-5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múltiples segmentos: Entre 200 y 40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Modalidad de recopilación de datos: Entrevista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Hay 3 principales modalidad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.- Ranking de trade-offs por pares de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.- Comparación de tarj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3.- Análisis conjunto adapt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ide al entrevistado llenar una matriz con preferencias por pares d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emplo de las pelotas de Gol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cance, duración, precio =&gt; 3 combinaciones a pregun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Duración (Precio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Precio (Duración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uración - Precio (Alcance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5943240" y="5867280"/>
            <a:ext cx="762120" cy="0"/>
          </a:xfrm>
          <a:prstGeom prst="line">
            <a:avLst/>
          </a:prstGeom>
          <a:ln w="442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5257800"/>
            <a:ext cx="2057400" cy="1295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Matriz a llenar con prefer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ecanismos de análisis matemático de matrices permiten obtener  “utilidades relativa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dimientos iterativos de ajuste con medidas de error que se deben minimiza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 asume que atributos son independient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952880"/>
            <a:ext cx="1219320" cy="60984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648320"/>
            <a:ext cx="2514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No redunda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257800"/>
            <a:ext cx="25146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Sin interac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791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tra-ejemplo: Rojo - Negro vs. Limousine y Convert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2.- Comparación de tarjetas: Mecanismo de Orden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mecanismo realis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Genera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erfil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o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roductos ti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do hace ranking de esos per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057400"/>
            <a:ext cx="7391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técnica de estimación de funciones de preferenci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asume que las preferencias por un producto se descompone en las preferencias por las distintas características 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desarrolla sobre perfi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Nºde tarjetas Min = NºNiveles - NºAtributos +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362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Modelamiento por Elección Discreta (DCM)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pregunta al entrevistado, para cada escenario, qué producto elegiría, y con que nivel de preferencia según una esca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 Cadenas de hote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lige de entre un paquete de opcio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un proceso iterativo, con diferentes e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5288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3.- Análisis conjunto adapt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Éstos son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perfiles parci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 es sobre perfiles más relev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n incluir hasta 30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fácilmente realizable en un software, aunque no hay much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Análisis de los Datos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terpretación de las Util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0 = Menos preferi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=/=&gt; Utilidad = 0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El número en sí NO tiene significa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GAPS sí representan ganancias al cambiar niveles de atribut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Utilidades sólo son válidas relativas a otra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relativa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de segmentar resultados,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1371600"/>
            <a:ext cx="274320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Se puede descubrir información importan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743200"/>
            <a:ext cx="236232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Notar diferencia en preferencia de atributo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39440" y="4076640"/>
            <a:ext cx="1066680" cy="838440"/>
          </a:xfrm>
          <a:prstGeom prst="rightArrow">
            <a:avLst>
              <a:gd name="adj1" fmla="val 50000"/>
              <a:gd name="adj2" fmla="val 31805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920" y="5105520"/>
            <a:ext cx="2666880" cy="15238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16360" y="1628640"/>
          <a:ext cx="6095880" cy="494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tribut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ive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5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ncho de cor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antí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añ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añ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reci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isponibilidad a pagar por atribu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a forma de estimar la disponibilidad a pagar por pasar de un nivel de un atributo, a otro que proporciona mayor utilidad al individuo, se muestra en el siguiente ejemp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276720" y="1341360"/>
          <a:ext cx="2423880" cy="5024520"/>
        </p:xfrm>
        <a:graphic>
          <a:graphicData uri="http://schemas.openxmlformats.org/drawingml/2006/table">
            <a:tbl>
              <a:tblPr/>
              <a:tblGrid>
                <a:gridCol w="1438200"/>
                <a:gridCol w="985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recio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jemplo Hoteles: atributos y niveles considerados relevantes en este ejemplo son los siguient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43200" y="1447920"/>
            <a:ext cx="9007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La primera comparación podría se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xprese preferecias entre pares de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(hoteles- cuar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25 cuartos, 2 piso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600 cuartos, 12 pis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lobby pequeño,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gran  lobb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salas de reunione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varias salas de reun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iscina al aire libre, pequeña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Pisci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moderno, atractivo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antiguo señorial, atra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80 doble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110 do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4------3------2------1------0------1------2------3------4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Prefiere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Indiferente                                                 Prefi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Fuertemente 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    Fuertem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997360"/>
            <a:ext cx="381636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2997360"/>
            <a:ext cx="417672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660066"/>
                </a:solidFill>
                <a:latin typeface="Tahoma"/>
              </a:rPr>
              <a:t>Ejemplo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de </a:t>
            </a: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Productos y sus Característic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Tarjeta de Crédito:</a:t>
            </a:r>
            <a:br>
              <a:rPr sz="2800"/>
            </a:br>
            <a:br>
              <a:rPr sz="28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Tasa de Interés + Cargo Anual + Límite de créd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 de Sal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Nivel de Reembolso en Hospitalización+ en Ambulatorio+ Exámenes Médicos +Límites+ Limitaciones a la libre el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46280"/>
            <a:ext cx="86868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2. Luego de analizar las respuestas del los individuos en las diversas comparaciones, el  Modelo infiere las preferencias (“utilidades”) para varios atribut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03280" y="2225520"/>
          <a:ext cx="6416640" cy="4399200"/>
        </p:xfrm>
        <a:graphic>
          <a:graphicData uri="http://schemas.openxmlformats.org/drawingml/2006/table">
            <a:tbl>
              <a:tblPr/>
              <a:tblGrid>
                <a:gridCol w="1082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es de los encuestad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cia relativ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total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43080" y="609480"/>
            <a:ext cx="8458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jemplo: Hotel para cliente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3. Desarrolle una escala para cada cliente en función de sus preferencias y relativicelas respecto al prec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2997360"/>
            <a:ext cx="302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La diferencia en Precio es 30 US$ y en Utilidad es .50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30/.5=6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Con esto quiere decir que para el individuo Z, el util vale US$ 60, de esta forma se hacen comparativos los atributos y se puede determinar cuanto está dispuesto a pagar Z por pasar de un nivel de un atributo, a otro nivel (independientemente del nivel en que se encuentren los otros atributos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92360" y="2708280"/>
          <a:ext cx="3959280" cy="3881520"/>
        </p:xfrm>
        <a:graphic>
          <a:graphicData uri="http://schemas.openxmlformats.org/drawingml/2006/table">
            <a:tbl>
              <a:tblPr/>
              <a:tblGrid>
                <a:gridCol w="1082880"/>
                <a:gridCol w="762120"/>
                <a:gridCol w="1020600"/>
                <a:gridCol w="10936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de 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3*60 = 25.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*60 =    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*60 =    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*60 =    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*60 =   8.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*60 = 13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*60 =     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371600" y="1770120"/>
          <a:ext cx="64771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0120"/>
                    <a:ext cx="64771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NÁLISIS CONJUN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660066"/>
                </a:solidFill>
                <a:latin typeface="Tahoma"/>
              </a:rPr>
              <a:t>Descomposición del Problema y Diseñ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0458c"/>
                </a:solidFill>
                <a:latin typeface="Tahoma"/>
              </a:rPr>
              <a:t>Si aprendemos como los consumidores valoran las características de un producto, estamos más capacitados para diseñar mejores produ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ternativas simples a AC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r preguntas directas: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Marca Prefier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a tasa de interés alta (baja)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 cargo anual alto para us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Cuás es un límite de crédito bueno/regular/malo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puestas simples y triviales. Poco aprendiza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ume independencia entre los atributo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s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 Alternativa a C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guntas directas sobre importancia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ortancias Decla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atings de Importancia tienen poca capacidad discrimina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59092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écnica de IM desarrollada en los 70`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de como los consumidores evalúan los productos, a través de la evaluación (CONJUNTA) de sus atributo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28:52Z</dcterms:created>
  <dc:creator> </dc:creator>
  <dc:description/>
  <dc:language>en-US</dc:language>
  <cp:lastModifiedBy>Paola Nahum</cp:lastModifiedBy>
  <dcterms:modified xsi:type="dcterms:W3CDTF">2007-09-01T21:21:50Z</dcterms:modified>
  <cp:revision>57</cp:revision>
  <dc:subject/>
  <dc:title>Prueba de Conceptos con Análisis Conjunto</dc:title>
</cp:coreProperties>
</file>