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28.wmf" ContentType="image/x-wmf"/>
  <Override PartName="/ppt/media/image27.wmf" ContentType="image/x-wmf"/>
  <Override PartName="/ppt/media/image10.wmf" ContentType="image/x-wmf"/>
  <Override PartName="/ppt/media/image2.png" ContentType="image/png"/>
  <Override PartName="/ppt/media/image5.png" ContentType="image/png"/>
  <Override PartName="/ppt/media/image13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30.wmf" ContentType="image/x-wmf"/>
  <Override PartName="/ppt/media/image6.png" ContentType="image/png"/>
  <Override PartName="/ppt/media/image29.png" ContentType="image/pn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89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0240" y="667800"/>
            <a:ext cx="4457520" cy="33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E593-88B0-4994-BA6D-F88506D55E1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5BEC-C093-4FE8-807F-2A2EAE3E826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C246-4441-428E-BE62-7E01666286E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0145-BC14-4442-A8B6-850B1174CB3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D09F-4B53-4732-899E-45FCE246A84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9631-5F2A-4FA1-BBDA-44DB2C65377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0A4C-16F3-4997-ABD6-24BD4091B7B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827C-3920-4708-B4E0-68A5CDF9129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1859-DAC8-4A30-9EE4-7AEA9B5DE26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682A-3F9C-478E-886A-978269F9020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CEBA-7238-4D1E-B68E-B59D7C2987D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A4B3-3136-4732-9CAC-94CE3426615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3DA8-6458-4F81-BCE3-B0126CA838D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6F33-A117-4EFF-9075-4E0AF475FEF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omportamiento del Consumidor: Percep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or: Máximo Bosch 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OÑO 200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58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907920"/>
            <a:ext cx="784836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 formación de Percepciones depende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contex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formación Compleme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formación Existente a nivel Conoci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periencia Prev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pacidad de Relacionar con otras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peri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Objetivo de los Estudios de percepciones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Las empresas quieren estudiar como son percibidas sus marcas y las de la competencia en un cierto mercado objet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Las empresas quieren saber cómo modificar o reforzar esas percepciones a través de sus productos y comunicaci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Atribut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Representamos las percepciones a través de descripciones en base a atribut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Describir un objeto es una actividad de descomposición. Para hacerlo se describen propiedades del objeto en distintas facetas (atributo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Estudio de las Percep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uando estudiamos percepciones quere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Conocer los atributos que usa un mercado objetivo para formar sus percepciones respecto a un objeto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Conocer el posicionamiento relativo de distintos objetos en estos atributos (como son percibidos los objetos en estas dimensiones perceptuales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otiva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tos atributos requerimos para describir un modelo de aut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Al momento de comprar evaluamos efectivamente todos los atributo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tas variables podemos manejar en nuestras mentes para evaluar una decisión de compr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Dimensiones perceptual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uando evaluamos una marca, en general manejamos un conjunto reducido de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factore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para caracterizarl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os factores de decisión no siempre son observables directamente, pero se manifiestan en elementos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observable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n este caso decimos que un factor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atente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gatilla el comportamiento sobre variables observab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838080"/>
            <a:ext cx="7696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ERCEP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cibimos en Base a Concep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o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típ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o/B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ácil de u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685800"/>
            <a:ext cx="76960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O DE PERCEP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PERCEP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DE 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83808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666880" y="4267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380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3505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ERCEPCIONES y su MEDI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228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838080"/>
            <a:ext cx="74674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ercepciones existen en el mercado de los Jóvenes sobre distintas marcas de Jea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Cuáles son los Atribu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Qué posición tiene cada marca en cada atribu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atributo interesa sólo si permite discriminar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FOCUS GROUP  (Estudio Cualitativo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de Personas: Seis ( 3 hombres y 3 mujere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ades: Entre 20 y 25 añ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ión: Estudiantes o en busca de trabajo por primera vez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usar Jeans yo me fijo si voy a salir o trabaja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van con un estándar de vida, con tu edad. Son para la gente jove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compraba Jeans de 4000 y después me di cuenta que no me duraba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interesa que conserven el color y la form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guío más por el model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uso Jeans porque son más cómod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on harto tiempo de uso, cuando ya son mis regalon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porque no es necesario plancharl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poco se nota cuando los Jeans están suci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son para toda edad.” “Dependiendo de la edad es cómo se usan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arreteados, desteñid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mente uso con cierre, me gustaría probar uno con botones” “Me gustan a la cadera porque me hacen ver más grande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 más ricos los Jeans con tela liviana, no tiesa ni grues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ando compro me fijo que estén bien hechos, buen cort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o cualquiera sin fijarme la marc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acostumbré a una marca y modelo y no busco otr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me interesan los colores de moda, yo siempre uso azu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Jean se va acomodando a tu cuerpo. Uno se acostumbra a é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 que me queden larg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yoría tiene poca variedad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suav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los Jeans que me gustan son caros y no tengo dinero me aguant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de marca tienen mejores colores.” “Hay de varios colores: blancos, celestes, azules, negros, rojos, etc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 importante es como se ajustan al cuerp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rcas Nombrad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is, Wrangler, Ellus, Calvin Klein, Parada 111, Mossimo, Umbrale, Ricciardi, Barbados, Lee, Cheldiz, Americanino, Diesel, Soviet, Yes, Benetton, Van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NCUEST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rtir de los juicios encontrados se confeccionó una encuesta. (Fue aplicada a un total de 56 jóvenes de entre 20 y 30 año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1: Eda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2: Sex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3: ¿ A que te dedicas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4: ¿Cuántos Jeans has comprado en el último año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5: ¿Tu compras tus jeans o lo hace alguien por tí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6: ¿Que marcas conoces? (Nombra 4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380880"/>
            <a:ext cx="8229600" cy="55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 7: “Los Jeans de esta marca son cómo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 8: “Siempre encuentro mi talla en esta marc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 9: “Los Jeans de esta marca se desgastan rápi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0: “Estos Jeans son para Jóven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1: “Estos Jeans son car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2: “Tienen diversos model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3: “Se arrugan fácilmente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4: “Son aperra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5: “Tienen modelos clásic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6: “Esta marca tiene poca variedad de color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7: “Me los pongo para toda ocasión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8: “Se ajustan a mi cuer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9: “Se destiñen poc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0: “Siempre tienen modelos a la mod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1: “La tela es buen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2: “Conservan su forma con el tiem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3: “Estos jeans son livian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4: “Me veo bien con estos Jean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Los Jeans de esta marca son cómodos”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89856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1752480"/>
          <a:ext cx="868680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Introduc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Las Percepciones es un elemento fundamental en toda Teoría de Comportamien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Existe consenso en que la información que recibimos a través de los sentidos es Procesada y “vista” por el cerebro junto a otros estímulos paralelos y a la información existente que el cerebro en alguna forma estima relevan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Recordar que el cerebro “NO VE”, el ojo transforma la visión en señales que llegan al cerebro a través del nervio óptic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9144000" cy="618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380880"/>
          <a:ext cx="91440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600200" y="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PERFIL SEMAN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ÉTODO DE PROCESAMIENTO Y ANÁLISIS DE LA INFORMA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método seleccionado es el análisis de factor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da en el software estadístico SP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ción obtenida rotada para simplificar la interpretación de la matriz de “factor loading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304920"/>
            <a:ext cx="84582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.F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permite una explicación más simple de una descripción multi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o, por ejempl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sando sólo dimensiones ortog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n menos dim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bvi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explicaciones reducidas son menos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pletas pero más si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cc"/>
                </a:solidFill>
                <a:latin typeface="Comic Sans MS"/>
              </a:rPr>
              <a:t>Ejes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1447920"/>
          <a:ext cx="434340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4343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 flipH="1">
            <a:off x="990360" y="1828800"/>
            <a:ext cx="342900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514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.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 A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200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It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410080" y="4267080"/>
          <a:ext cx="3048120" cy="146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267080"/>
                    <a:ext cx="30481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62120" y="396252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     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523880"/>
            <a:ext cx="304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105160" y="274320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cc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059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28195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st.Central   DII         P.Armas   P.Ita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3880" y="1447920"/>
            <a:ext cx="609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Nótese que un plano es una reducción para las distancias en algunas ciu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39152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90720" y="152280"/>
            <a:ext cx="655308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temáticamente, se trat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on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antiguo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lano de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plano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uevo de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e llaman FACTOR LOADINGS, y corresponden a la correlación entre la pregunta y el F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255760" y="685800"/>
                <a:ext cx="4907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211400" y="2362320"/>
                <a:ext cx="10839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211400" y="3352680"/>
                <a:ext cx="10839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981080" y="5181480"/>
                <a:ext cx="6397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267080" y="2666880"/>
                <a:ext cx="206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72000" y="3962520"/>
                <a:ext cx="301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173320" y="1219320"/>
                <a:ext cx="34257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65320" y="2362320"/>
                <a:ext cx="11746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166760" y="3352680"/>
                <a:ext cx="1171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68040" y="117360"/>
            <a:ext cx="68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emos “reducir” promediando para todos l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0880" y="251460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ta promedio de la marca j en ele juicio 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20160" y="331776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sición Promedio de la Marca j en la dimensió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04840" y="1066680"/>
            <a:ext cx="693432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pregunta que se hace el investigador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¿cuántos factores retene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norma usual es  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igen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Éste está muy relacionado con 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“PORCENTAJE DE VARIANZA EXPLICAD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867280" y="2666880"/>
                <a:ext cx="9144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Ejempl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227664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ahoma"/>
              </a:rPr>
              <a:t>Percepción de Ol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57200" y="609480"/>
          <a:ext cx="83818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81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914400" y="762120"/>
          <a:ext cx="716292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716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0"/>
          <a:ext cx="85345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5345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A partir de estos atributos nombramos las dimensiones de la siguiente forma: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4: Me veo bien con estos Je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8: Siempre encuentro mi ta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7: Jeans Cómo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8: Se ajustan a mi cuer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4495680"/>
            <a:ext cx="6400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1: Estos Jeans son ca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0 Siempre tienen modelos a la mo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0: Estos Jeans son para Jóven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82880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QUILL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2971800"/>
            <a:ext cx="830592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5: Tienen modelos cl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4: Son aper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1: La tela es bu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7: Me los pongo para toda oca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4876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 13: Se arrugan fácil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 9: Se desgastan ráp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 22: Conservan su forma con el ti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905120"/>
            <a:ext cx="8610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895480"/>
            <a:ext cx="8534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6: Tienen poca variedad de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3809880"/>
            <a:ext cx="8077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49528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Se excluyeron las preguntas 12, 19 y 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PA PERCEPTUAL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base a las dimensiones encontradas, y empleando los “factor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cor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, se determina el posicionamiento de las marcas más mencionadas en las distintas dimensiones, para proceder luego a representarlos gráfica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611280" y="298440"/>
          <a:ext cx="6553080" cy="50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98440"/>
                    <a:ext cx="655308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0" y="2286000"/>
          <a:ext cx="9144000" cy="243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38080" y="6094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romedio de las marcas en cada pregu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609480" y="2057400"/>
          <a:ext cx="708660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70866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838080" y="45720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ordenadas de las marcas en dos dim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2205000"/>
          <a:ext cx="914400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5000"/>
                    <a:ext cx="91440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042920" y="4149720"/>
            <a:ext cx="1368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1440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7432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3886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1981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6272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3429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52280"/>
          <a:ext cx="82296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8229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2743200" y="3352680"/>
            <a:ext cx="12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82320" y="4076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4080" y="36957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42840" y="1790640"/>
            <a:ext cx="6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53040" y="27050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00960" y="201924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15360" y="1028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228600"/>
          <a:ext cx="85345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5345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819520" y="609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3344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274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10080" y="3200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41911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99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ulti </a:t>
            </a: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imensional </a:t>
            </a: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a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1890720"/>
          <a:ext cx="8915400" cy="24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720"/>
                    <a:ext cx="891540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905120" y="7621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tancia en un Mapa entre ciudades de Sud América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46680" y="95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das con reg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219320" y="0"/>
          <a:ext cx="6400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0"/>
                    <a:ext cx="6400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 flipV="1">
            <a:off x="2819520" y="4800600"/>
            <a:ext cx="8380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657600" y="419076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952880" y="2666880"/>
            <a:ext cx="4572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428640" y="1447920"/>
            <a:ext cx="19810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819520" y="46479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819520" y="3581280"/>
            <a:ext cx="759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514600" y="304776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438280" y="20574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2819520" y="13712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1371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286000"/>
          <a:ext cx="9144000" cy="203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752480" y="9144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ias subjetivas  entre ciudade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5410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das en una escala de 1 a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 flipV="1">
            <a:off x="4038480" y="41148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248520" y="2895480"/>
            <a:ext cx="609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029200" y="19810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114800" y="18284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733920" y="1828800"/>
            <a:ext cx="3808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276720" y="3048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657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352680" y="365760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44197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2924280"/>
          <a:ext cx="914400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24280"/>
                    <a:ext cx="914400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DS (1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486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pongamos que conocemos el numer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dimensiones que permiten explicar las percepcion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siderem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stancia psicológica entre cada par de objeto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osición del objet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la dimens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unción de tensión (stress) por ubicar los objetos en determinadas posiciones 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uscamos minimizar la función de Stre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900000" y="4797360"/>
          <a:ext cx="6129360" cy="13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797360"/>
                    <a:ext cx="612936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DS (2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65400"/>
            <a:ext cx="7772400" cy="43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specto al número de dimensione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fuera variable de decisión, el numero de dimensiones sería igual al numero de objetos y el stress nul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Una dimensión mayor entrega mejores ajustes de las distancias a los datos de entrada, pero menos parsimonia (trade off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comendaciones genera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Numero de objetos ≥ 4K+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robar para varios valores de K y analizar el stres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=0.1 suele ser un valor razon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da uno de los mapas puede rotado y reflejado arbitrariamente para facilitar la interpretación de los resultados y darle significado a las dimensiones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DS (3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istancia en el hiperplano puede ser Euclida, pero tambien city block o cualquier otr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escala de las distancias de entrada puede ser de Intervalos, de razón u  ordinal. Los algoritmos son distinto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de los mapas puede ser  rotado y reflejado arbitrariamente para facilitar la interpretación de los resultados y darle significado a las dimensi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SUPERMERC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ercepciones de dueñas de casa en un        sector de Vitac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écnica: Análisis Multidiscrimina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9080" y="0"/>
            <a:ext cx="9124920" cy="5943600"/>
            <a:chOff x="19080" y="0"/>
            <a:chExt cx="9124920" cy="5943600"/>
          </a:xfrm>
        </p:grpSpPr>
        <p:sp>
          <p:nvSpPr>
            <p:cNvPr id="264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06280" y="201240"/>
              <a:ext cx="4578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mic Sans MS"/>
                </a:rPr>
                <a:t>Funciones discriminantes canóni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76560" y="55558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7676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288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812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7672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287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811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290520" y="5172480"/>
              <a:ext cx="36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47600" y="650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47600" y="1690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47600" y="2746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71640" y="38012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1640" y="47628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1680" y="310356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19840" y="35694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19840" y="3987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19840" y="4407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19840" y="48265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86640" y="2622240"/>
              <a:ext cx="217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SUPERMERC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68240" y="3071520"/>
              <a:ext cx="183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entroides de gru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66440" y="3506400"/>
              <a:ext cx="57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66440" y="392544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68600" y="434520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67520" y="476280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22"/>
                  </a:lnTo>
                  <a:lnTo>
                    <a:pt x="36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3300" y="3060"/>
                  </a:moveTo>
                  <a:lnTo>
                    <a:pt x="0" y="0"/>
                  </a:lnTo>
                  <a:lnTo>
                    <a:pt x="0" y="3060"/>
                  </a:lnTo>
                  <a:lnTo>
                    <a:pt x="3300" y="3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0" y="0"/>
                  </a:moveTo>
                  <a:lnTo>
                    <a:pt x="3300" y="0"/>
                  </a:lnTo>
                  <a:lnTo>
                    <a:pt x="3300" y="30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5280" y="759960"/>
              <a:ext cx="5239080" cy="4221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57560" y="25146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81480" y="246744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90840" y="28872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38760" y="3366720"/>
              <a:ext cx="15228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43360" y="217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90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006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6712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33880" y="2669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09920" y="1861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95680" y="15667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1948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48040" y="20016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76960" y="170748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292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8128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33880" y="262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33880" y="29325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1944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48360" y="29019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1964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7668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24400" y="24523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48280" y="20800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91120" y="27464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705560" y="26067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0064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62480" y="277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48040" y="2498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624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7600" y="2559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29240" y="27630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29280" y="30261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3920" y="288720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91120" y="23587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00600" y="2266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67360" y="2420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67400" y="16758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43360" y="22964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7228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95920" y="28702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67080" y="8218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10360" y="28249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0548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95920" y="2715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38680" y="15213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15080" y="15984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19960" y="249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86480" y="22964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19640" y="3073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5440" y="33987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9132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05520" y="2373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76920" y="25293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2760" y="27777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1964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38760" y="2591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00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86480" y="299448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38720" y="2373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48240" y="28400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5292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57880" y="2094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10080" y="3336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00560" y="2358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05520" y="204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57680" y="259164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28960" y="31971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0044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8128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6228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24080" y="23904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14840" y="3011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576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14880" y="280836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48040" y="2963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33880" y="3274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86200" y="3165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67120" y="37242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95720" y="34909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71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10000" y="30412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09920" y="2436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24320" y="2467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14880" y="35380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6712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00640" y="1737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766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57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14560" y="37710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19760" y="276300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62520" y="18151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43400" y="1645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3364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6688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7676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09920" y="2125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90840" y="3366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29200" y="31352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00560" y="40662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6276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7692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76920" y="2824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6244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6960" y="3180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4828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81560" y="3118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00560" y="29793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62480" y="36151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34160" y="36622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81800" y="3615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1972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38720" y="3693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76840" y="35380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15080" y="28551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62720" y="32745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53200" y="30880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19680" y="391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19680" y="26067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43440" y="30412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53200" y="3522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052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0160" y="31035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38760" y="29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38800" y="24206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95760" y="47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43640" y="3972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62480" y="45626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2924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3872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95280" y="4980960"/>
              <a:ext cx="5239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1295280" y="759600"/>
              <a:ext cx="1800" cy="422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48040" y="2279880"/>
              <a:ext cx="61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72320" y="223452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48840" y="2669040"/>
              <a:ext cx="90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48680" y="3133800"/>
              <a:ext cx="66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809880" y="53341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E R V I C I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1066680"/>
            <a:ext cx="5335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"/>
          <p:cNvGraphicFramePr/>
          <p:nvPr/>
        </p:nvGraphicFramePr>
        <p:xfrm>
          <a:off x="304920" y="-304920"/>
          <a:ext cx="85341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-304920"/>
                    <a:ext cx="85341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4267080" y="4952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4792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5780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14600" y="1600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91320" y="5638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1295280"/>
            <a:ext cx="60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Las Percepciones dependen del contexto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50760" y="2165400"/>
            <a:ext cx="6435720" cy="3193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58920" y="609300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ugelski and Alampay (1961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81200" y="2147760"/>
            <a:ext cx="5506920" cy="34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1096920"/>
            <a:ext cx="72723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academico</cp:lastModifiedBy>
  <cp:lastPrinted>2000-09-11T22:03:08Z</cp:lastPrinted>
  <dcterms:modified xsi:type="dcterms:W3CDTF">2007-08-07T15:31:53Z</dcterms:modified>
  <cp:revision>171</cp:revision>
  <dc:subject/>
  <dc:title>Sin título de diapositiva</dc:title>
</cp:coreProperties>
</file>