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D52B-BEAD-4B22-B231-C51E75FEB9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5FA9-CC42-4BD4-A520-E5B6B5490D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CFED-25AF-4D09-A679-BD21F04DB4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591F-A86A-402C-AC29-D5BB60AB5C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F115-2B90-4879-BFA0-FB34C95C93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C3BD-6C2B-4CBF-9A79-E9A0F7C25A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1237-22A2-4899-8A85-27030C94B4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87D2-133B-4B32-99B5-6748CB0669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7163-6DCC-49F8-BEE4-4E2F900458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DE36-6E8A-42FB-8B68-FCB258E970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847F-16DB-4E15-BA42-1E694A228A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E169-7F85-48BE-8774-99D0439223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6088-606C-4336-9DAA-E318F3706F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3644-1B57-42C9-8DC1-3D17422B0F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FAD2-A0E6-45A6-9A78-2C15036864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AE9E-BB80-4FAC-BF22-1DAD34884C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6D47-0C0A-452F-85C2-E3674A00D9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F7D8-7226-4FD6-B086-7BA7DED783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DEC1-20DC-42FC-905B-9CF0E8740C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A4F3-36FC-4C95-9B3C-F282732127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1E47-F5AA-4B04-B390-79BE9D7CF8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44CF6-F03F-4BAD-A9A2-93E208F8D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9F87-1002-47C1-A90A-9A381C36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EE471-0A11-48A6-AA6B-AB7AAB18A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83073-1770-473E-AED9-87FD476AF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82807-4E1F-45BF-BE54-CAC6985D98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7F7E8-E60F-4781-B7DD-9B8CBE42D0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D413C7-64EC-4FFF-B0D8-09FC233707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75856-51BA-43E2-BDBE-C853C6FA58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2043D-5601-459E-BC7F-9E932C74D1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DC21B-6A29-43F2-B559-E769BB484F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370B8-E77B-41F6-A3A9-5ECEB65CD0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F271F-54E7-4D3E-9DB7-50BABA9E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DBDF4-7C37-468F-9C3B-C24E333A4F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27EEA-D1DC-40D0-B5BC-B58537F98D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CB742-275F-4567-B6DC-6965A647CD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71731F-2FFE-483B-BC9F-4E2C7E94B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24675B-F1F1-4B4A-8BA1-564E50C76B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C63E-998F-47FD-B891-904377BC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5222-9755-4B2C-A2AC-B8AF7B12F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633C-7028-4A31-82EF-7CBCC2EF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DC1C-D63D-42D2-ACCB-CF5F361E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62DB-D9BC-4366-9C5A-031DDE67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6321-FDF0-478B-9C14-1A60DF9A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EC35-FC9C-4F6D-AEE4-2ECE2342C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E54D-7B38-482C-AC1C-335B171D7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C7F2-DBA6-49F5-A7EB-D26240C2B455}"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8B22FA3-8981-4AC7-8503-5EA5983EEE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8C4DB97-0F8D-4E2B-B73F-C6D45A046D0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3A87D94-47F5-4FFC-8CD4-8BACD9B04BF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DCAA8237-9A88-433E-9920-E8A87A4776E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159D216-95F0-4F8B-B569-5060FC2A718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FF7FCC4E-5D8C-4545-8A1F-2EFB20EDC48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14AB7F6-FC49-4E98-8604-FA15D785A3B0}"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9559604-FAAE-499E-A72D-B2688D03E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1C47ED3-B773-4B89-8AFF-929B60CFAA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68354B6-78C8-4626-8A02-47A5F5EFF114}"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B2FC65-3AB5-4D48-8FB3-360C79749781}"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11124D2B-7048-4B88-9015-13BCCC0F9C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C7B1782-5896-4311-904D-BCD7E841D7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E85AFBF3-0F01-4B50-8A58-05B0F2564DE3}"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14329D05-90E7-4254-A330-A6F0A8CB06EB}"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F5EF29B9-3546-4686-A5B1-F5863995B639}"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91F069F5-6EEC-4DC7-9BF0-EB789829B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C47E2BE6-F2BA-43C2-AE08-24DCFA74B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BF0EAFC-4E6C-42DB-B167-46019E4DF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D479F2D-D3CF-48CE-8E31-65F97E72D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9DB7822-DCEF-4F35-B81D-7E862BEE8B51}"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5BD4779-EEC4-45B8-8C62-1D374CF4E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F4DBF31-9AE1-41CC-8256-AD4E0754F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BBBFF23-9F75-403C-B0F5-BB9C45EA99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27BF2B-6C6D-4950-B36F-6A5C1978E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9311C22-6159-48E9-AB7E-143D16626417}"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40BBD55-2523-4244-84B6-41077C21FCB3}"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F52699AD-2544-407B-94C3-6061014F15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1627118-6A9A-4934-BEB4-4B5448D1EBF9}"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2A35403-102C-4CAB-A3D7-F423B537DDE8}"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287BDBF-6CF2-49A6-BF0A-DB2348361772}"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C275D35-D8F3-4563-A23D-7396F13D8AC7}"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187BA9A-4A0B-4868-BA1E-F18321AC1D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BCE8583-094A-4DCB-96B0-453D437E841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A0EF2A6-E4C8-41F3-B57B-677964A1D8A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9068F00-D797-4153-B18B-981DAD52E79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40A3109-800D-40CF-A021-CBC753DB08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3328B69-3C8C-4728-BB49-8A3C940BBB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B6864A-CC38-4F61-9767-B8EEA94C855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DCA8EB4E-E65D-48E9-B88C-A28792DB0B4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FA4D95-EFB1-4BC1-AFC8-AD967A25E18A}"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BDA4B30-5117-419D-B3D0-8BDCBBD6E38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3D90A3-65B8-4114-9348-899463931392}"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424C4328-3575-4EF3-ADD8-2EC61FB2AAC9}"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5FEC64A-2C94-4927-9606-9E168609C7E5}"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D1F9BDF-43E8-4E6A-9D5C-A504ED0508AC}"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797FC98-8A63-4CA4-9270-E1D2A946A3D8}"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7745B34-621B-4AFB-B1A5-A1494E787B3C}"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2E26319-0B51-424D-9368-419CB0C0270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5EFDA4-FF65-4CB9-85F4-9863650F9847}"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B5210F4-2007-4BDA-A81A-AE02951D0E2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7F1B7E7-D4FF-4BE6-919B-FC8055F635E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4BF0922-FBCC-4BE3-A2A0-68CF4BD8A6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A4D9B39-4A9A-4284-9C75-A944EB7D6B6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42D0760-46D4-4614-B01C-705FECBFF473}"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0738A6A-D8A3-4E9C-A1E0-4B4988570C94}"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34A61E3-04B7-46A2-9342-031FFC285C2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46A3728-1E23-4B63-B460-47D0A1BC084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47319BF-522B-4455-B3C3-1AE6603EDB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F529236A-3FCC-4919-B3BB-6BEC2E8AFC4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38ED8F3-E664-4868-A921-2827843B84FB}"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0207C6-31C5-4D23-9B3E-171C0A52482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A4E953-4089-408E-BCF8-995D9DA7325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B14AEA-0CEF-4DB5-94CC-2ACCF0BB3D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E2921D-4D0D-4B7C-8462-13F919F290FC}"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8C0D56-913D-43B7-9791-4886D42778E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03B0651-CFC6-47DF-AEFA-FE8F4EC9853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6243E293-53BA-41BF-B975-645E370A2006}"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995EB7F-07CC-4E04-8085-6558E38050C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3B1CCCE4-CC95-4E9D-9DC8-A25524141E9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A3A6E07-F39D-44DA-BB67-05F386C2D8D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C69FB21-6530-4945-8FA5-758CE8EE374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9E35DB6-56B6-4539-A8D1-5646D97959B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2FACED7-18BE-4B4E-931F-9AD8F477D39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0837DAE-02C5-4D09-97FD-F562CC4782B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193B4DB-7EC1-4245-A1CD-30E6B50716B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F807828-EC7C-49B6-A0BC-B9AAA977BA4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892C3E8-5EC7-4B7A-86C9-17EA79593EF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0807B20-FDDA-4D28-9EB3-593196320AC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D472057-6983-4B7E-98F8-F53452DDD83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C7AC252-929C-4F31-8136-F226AB1899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24D6415-571B-4443-9520-79C36DBD3D0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088EAEA-ABDA-4840-8CE6-A2501CC20C8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B325A79-6B84-4A91-B9EF-EE38BEBED5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Acudir a las fuentes más cercanas (amigos, compañeros, familiares, etc.) o a especialistas e indagar: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52A0680D-F82A-4E5D-B31A-461B3066F2C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6C79BD7-4DDD-4606-961F-BB5091A5F5E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E5AD4A5-BC58-48C3-A4CA-D475334689E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F4C4B24-E13D-4A0B-B3C0-8DF8AB1553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4FE6906-F6F6-4C2C-B786-EF24791E3DB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79AEDD7-A0C5-4909-BD60-39B901CDCEB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43E9DF3-90CE-46B9-BF97-A5112BD4F2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9AB7F8A5-6EB5-408A-AF49-79AEC375160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561306-387D-4644-9BAB-9135808DB419}"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E11EE3D-39A5-4B80-8F98-BB66C0CD738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508DAC-CC0E-49B2-A89C-BB9B0D736885}"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7388020-CA31-4B85-861F-6DABB11C76A6}"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C087529-DE50-46EB-B3A2-0040DB07B489}"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0B12DE-EA3C-49B8-92DD-BC195B587752}"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EC9A8E-AC83-4B99-9E29-8706B9A34F1E}"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C78309-4357-4C86-A44B-C59382BED9E5}"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AF3119-CFEA-40D8-A6DF-63AC1E175D20}"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215F49AD-60BA-437F-9D93-C6BB7898D60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E7F767CC-CDBA-46C5-8620-505B6749F63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F1DC04C-8657-4350-9B17-6CA0068D3C3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9-26T04:14:32Z</dcterms:modified>
  <cp:revision>310</cp:revision>
  <dc:subject/>
  <dc:title>IN627</dc:title>
</cp:coreProperties>
</file>