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F538C-184B-448A-B510-6B7F8F772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4556-6ACD-4A6E-9CB7-B0FBE470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CE01-7DA8-4656-8CD0-FA75F9E3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6E659-897E-4409-AFA6-7ABA0BA32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31124F-2CF8-4F2E-92C2-36DD98ECDF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3E6776-76D8-45F2-ABE2-E6D4A37DB1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E31AC-2D09-42BF-BC55-42CAB3AB31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C7A33-D64D-4946-9F18-C068C5F48E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801825-C4AC-44DA-8F3F-DD48B76A3D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1213B-87B5-4262-B956-74FEA038CE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1685F-9668-4F4C-96EB-FB3F4A3DDB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540C-AFC1-41EF-965C-A68A5B38D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DEDAB-77A6-41F8-B78A-A447C7F3C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53694-23C0-4D99-8C75-54FDBFD50D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F25AE-4846-4E9B-866B-6A498DF46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77EA2E-5369-4AEC-9F47-542AC45301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E2550B-42C6-4204-BBBD-8198570DA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95B30-8877-4A1E-8189-5244D1F2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6FF2-C698-4CB8-AAAB-49063407C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E574C-9D8C-484D-B636-61B052C7C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0F42-9FB6-4A0A-BC41-571EE996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FC2E-E843-442D-8A9E-4C271FEC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A5D3-B76A-401C-8ABE-B7EFF528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2B364-43E2-4E2C-AEC8-06A764E6A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3667-AE2B-429A-A409-01DBA7E577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8AA2-EDBE-4531-8B3D-E5B5970733DB}"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A545B8E4-DCC9-4672-860E-2ACA2C8C2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CCFCEFE-0264-49CC-A2BC-8D840F3C2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E9AB716-EB41-4C1B-8A2F-2ED846F3D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3AE8BDD-B4E3-4918-BE89-C8AFF3737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C2CCA19-5B2D-41C6-BC81-21546C46F0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E553CF1-FBC2-4EE1-8ADB-1068325110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F9E5837E-81BA-4C28-9442-EEA2BD0357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C403E3F0-CCC8-46C2-B93F-44D5FFC90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8476E71-686F-4D9F-BA4D-8370FF6D0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25457C98-0FBC-4DDF-8F8A-020B8CFC4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D1C5A767-2F0B-49E8-81C2-D18E9B3F2A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6DE3EEDE-FCC0-4056-A3F8-D452E4B163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4B5DD501-900A-4D8F-954B-6C434D2901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7BD352BE-30F2-4EFA-82EE-5E6315FC0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0EC827-7360-40C4-8191-26C76ED57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7A486EB7-5E29-44E9-BB5B-40F1C27D8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62E44DF8-ACD1-417E-A0E2-072508AC6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E10CD85-D441-4620-8AAC-0357C85E97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DA5050F-7177-40C0-8BDA-E77C2C0C6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7006409-D81E-4CB8-B4E1-D0DE857F5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20D2051-5F9F-4112-8B34-40C548845F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B9C8C39-5C54-4253-BE02-21A48C9B4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E99C7C-DD70-4A6C-8DC7-3D8FD74DDA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194B441-937E-4A8E-8FBE-C5F6E79D4C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74A2DC2-EBF8-4EE3-A77D-160B651178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0570F2A-2A18-46A6-81A9-75440D10EA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29DCDF2-C20E-402A-8980-45FC24A8B2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CAFD3FE-C6B6-4B61-9C9D-0B6226C136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2CE0267-FBA4-4A2A-9B94-6183EF89C50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A269435-74E6-4CFA-8761-7CF206A62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3F788BF-1C62-4592-B57F-B593F32A8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14727E2-6CC3-4477-A798-4DF8E0433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145081C-D7E2-47AE-9C69-511BBB4A9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57AAC07-8F0D-460C-B2FC-D5C053A0D5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DAE877B-FE99-413E-8CD5-70D96F6CE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11-15T03:01:32Z</dcterms:modified>
  <cp:revision>582</cp:revision>
  <dc:subject/>
  <dc:title>IN627</dc:title>
</cp:coreProperties>
</file>