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2.jpeg" ContentType="image/jpeg"/>
  <Override PartName="/ppt/media/image39.png" ContentType="image/png"/>
  <Override PartName="/ppt/media/image12.wmf" ContentType="image/x-wmf"/>
  <Override PartName="/ppt/media/image28.png" ContentType="image/png"/>
  <Override PartName="/ppt/media/image30.png" ContentType="image/png"/>
  <Override PartName="/ppt/media/image35.jpeg" ContentType="image/jpeg"/>
  <Override PartName="/ppt/media/image13.wmf" ContentType="image/x-wmf"/>
  <Override PartName="/ppt/media/image9.wmf" ContentType="image/x-wmf"/>
  <Override PartName="/ppt/media/image34.png" ContentType="image/png"/>
  <Override PartName="/ppt/media/image11.wmf" ContentType="image/x-wmf"/>
  <Override PartName="/ppt/media/image36.png" ContentType="image/png"/>
  <Override PartName="/ppt/media/image7.wmf" ContentType="image/x-wmf"/>
  <Override PartName="/ppt/media/image37.wmf" ContentType="image/x-wmf"/>
  <Override PartName="/ppt/media/image8.wmf" ContentType="image/x-wmf"/>
  <Override PartName="/ppt/media/image38.png" ContentType="image/png"/>
  <Override PartName="/ppt/media/image3.png" ContentType="image/png"/>
  <Override PartName="/ppt/media/image33.png" ContentType="image/png"/>
  <Override PartName="/ppt/media/image6.wmf" ContentType="image/x-wmf"/>
  <Override PartName="/ppt/media/image31.jpeg" ContentType="image/jpe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5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29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C3B-EC8A-43F2-82E5-35C62C88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0560-82D9-4AFE-8831-8EE9D583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8E35-0212-4392-BB03-FA8873F7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9125-DAD1-4CD1-9F49-5A3002F9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00FF8-A5B8-4368-BA6D-381B0708BE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4B954-2B04-4719-9ACB-9B13296978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F149F-D04A-432B-8885-785A207445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DA9A9-FB17-49FD-A50A-1F34BAA473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69DCF-DBDD-4147-B033-48E1E6FEEA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2E7B1-1749-4A55-A0FD-6E93FADCD9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51387-9942-404E-AE2E-A32D484222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83B8-1EFD-4411-ACA4-A9DA0F29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76451-32B2-4458-9E4E-D1A3022DCE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757CC-C516-43C0-AA2C-479A9A845D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7F455-BC10-460D-91F6-40FD556FB2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8271C-9060-4EBF-B001-C3342EC905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9EC57-A811-4741-8770-D51306C9D2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976F-A70B-4C99-9C8F-806EBF86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4F0E-C1A4-4B66-8074-6B0FF242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6038-D7BF-4BA8-BDCA-B4513211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B6DE-55DC-403B-B2B2-D4C2AA91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7792-FA66-44C7-8170-EAC519D4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56F9-D4EE-46E8-B9AC-8C1DD091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A403-7616-46C4-BD2F-26563278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34560"/>
            <a:ext cx="31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ff3300"/>
                </a:solidFill>
                <a:latin typeface="Arial"/>
              </a:rPr>
              <a:t>IN580 Investigación de Merc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C348-844B-4D96-93FB-CAB56B0AA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00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d1100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00992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A489-4F04-431E-815A-9CE570980CD5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Capítulo 5:</a:t>
            </a: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 Objetivos de Marketing Asociados a la Investigación de Mercado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422520"/>
            <a:ext cx="6400800" cy="14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Profesor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milio Poli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Julio Troncos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A254-BE81-4802-986A-8B0EE7CC82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13160" y="4164120"/>
            <a:ext cx="4211640" cy="233820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      </a:t>
            </a: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Encuestas Telefó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Entrevistados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10 a 15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Muestra de población sólo con teléf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a en un cuestionario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633680"/>
            <a:ext cx="4211640" cy="228600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Encuestas en Ho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Entrevistados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20 a 4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Se puede tomar una muestra ale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a en un cuestionario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30680" y="1628640"/>
            <a:ext cx="4211640" cy="228600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Encuestas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Locación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Entrevistados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20 a 3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No es una muestra ale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a en un cuestionario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49600" y="4300560"/>
            <a:ext cx="770040" cy="6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52440" y="1781280"/>
            <a:ext cx="790560" cy="52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800600" y="1781280"/>
            <a:ext cx="893880" cy="541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3560" y="942480"/>
            <a:ext cx="838044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 Evaluación del concepto que desea transmitir con un nuevo tipo jug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5A48-49D7-473B-869C-E5E211E3AC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3142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3920" y="843120"/>
            <a:ext cx="830880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59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Medir grado de acuerdo con respecto a las siguientes afirma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Beber jugo natural es car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Hoy en día, la forma más económica y práctica de refrescar a tu familia es prepararle un jugo en polv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l jugo en polvo es artificial, ya que tiene sólo contiene saborizantes y no contien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Medir agrado con respecto a las siguientes proposi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Una nueva, práctica y económica forma de disfrutar con tu familia de un verdadero néctar d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Un nuevo y práctico envase para compartir y al precio justo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No te quedes en lo artificial y prueba el verdadero sabor a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0A5-0761-4406-A05D-5C5ED8A103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832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3560" y="1042920"/>
            <a:ext cx="86691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Evaluación del concepto de una nueva empresa de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62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telecomunica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2070000"/>
            <a:ext cx="7416720" cy="36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Nota Metod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Tipo de estudio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cuantitativo mediante encuestas autoadministradas vía Intern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Grupo objetivo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hombres y mujeres, de 15 años o más, de niveles socioeconómicos ABC1, C2 y C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Muestra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 569 ca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Fecha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18 al 19 de mayo del 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Ponderación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resultados ponderados según distribución por GSE, sexo y edad de la población en estudio de la Región Metropolit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7CCF-DAF4-44BE-8F4F-C59108E11B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980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753840"/>
            <a:ext cx="86868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884160"/>
            <a:ext cx="741672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Cuestio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04920" y="1400040"/>
          <a:ext cx="6119640" cy="52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1400040"/>
                    <a:ext cx="6119640" cy="52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912C-8882-410C-91B5-A0A5794C22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160812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valuación de concep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Escala de 1 a 7, 1 = No te gustó nada, 7 = Te gustó mu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total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76280" y="3171960"/>
          <a:ext cx="8077320" cy="29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171960"/>
                    <a:ext cx="807732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916360" y="251316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¿Qué vas a ser mañan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20E7-879C-4C81-B94E-4F97E127F5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16509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valuación de concep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Escala de 1 a 7, 1 = No te gustó nada, 7 = Te gustó mu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total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16360" y="251316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El mundo en tu c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76280" y="3110040"/>
          <a:ext cx="807732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110040"/>
                    <a:ext cx="807732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AB8-C42C-4975-A6B0-0714E5C07D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169380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valuación de concep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Escala de 1 a 7, 1 = No te gustó nada, 7 = Te gustó mu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total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16360" y="255600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Donde quieres e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76280" y="3152880"/>
          <a:ext cx="807732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152880"/>
                    <a:ext cx="807732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ED5-B640-4051-ACA4-DC985E220E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12063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Cuál de los tres mensajes te gusta má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Base: total 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70000" y="1644480"/>
          <a:ext cx="6210360" cy="26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644480"/>
                    <a:ext cx="621036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85680" y="3660840"/>
          <a:ext cx="8400960" cy="32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" y="3660840"/>
                    <a:ext cx="840096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442800" y="15732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3920" y="700200"/>
            <a:ext cx="83088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2E05-8327-46B7-BF84-273D8D5C78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1393920"/>
            <a:ext cx="8686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Por qué te gusta má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entre quienes les gusta más ¿</a:t>
            </a:r>
            <a:r>
              <a:rPr b="1" i="1" lang="es-ES" sz="1400" spc="-1" strike="noStrike">
                <a:solidFill>
                  <a:srgbClr val="000000"/>
                </a:solidFill>
                <a:latin typeface="Arial Unicode MS"/>
              </a:rPr>
              <a:t>Qué vas a ser mañana?</a:t>
            </a: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 = 1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47640" y="2347920"/>
          <a:ext cx="453420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347920"/>
                    <a:ext cx="453420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916360" y="195912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¿Qué vas a ser mañan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D178-D16B-4FC7-91DB-538D99722B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1413000"/>
            <a:ext cx="8686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Por qué te gusta má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entre quienes les gusta más </a:t>
            </a:r>
            <a:r>
              <a:rPr b="1" i="1" lang="es-ES" sz="1400" spc="-1" strike="noStrike">
                <a:solidFill>
                  <a:srgbClr val="000000"/>
                </a:solidFill>
                <a:latin typeface="Arial Unicode MS"/>
              </a:rPr>
              <a:t>El mundo en tu casa</a:t>
            </a: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 = 2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681200" y="2395440"/>
          <a:ext cx="453384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0" y="2395440"/>
                    <a:ext cx="453384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916360" y="203508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El mundo en tu c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0D14-A8C2-4A7A-A5D6-F2AF6A2912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Diseño de Producto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C70F-9D45-4BEF-BCA8-07A40DDD6A8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8600" y="14079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Por qué te gusta má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entre quienes les gusta más </a:t>
            </a:r>
            <a:r>
              <a:rPr b="1" i="1" lang="es-ES" sz="1400" spc="-1" strike="noStrike">
                <a:solidFill>
                  <a:srgbClr val="000000"/>
                </a:solidFill>
                <a:latin typeface="Arial Unicode MS"/>
              </a:rPr>
              <a:t>Donde quieres estar</a:t>
            </a: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 = 1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23920" y="2362320"/>
          <a:ext cx="453420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2362320"/>
                    <a:ext cx="453420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2916360" y="203040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Donde quieres e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6087-3B76-4B81-B879-284FA2AFA8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nombres (cualitativo/cuantitativo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eb424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valuar los siguientes aspect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Facilidad de lectura y pronunci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sociaciones espontánea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Originalid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País de orig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Beneficios asociad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decuación al concept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tributos relevant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999120" y="1465200"/>
            <a:ext cx="1944720" cy="63648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5796000" y="2852640"/>
            <a:ext cx="3203640" cy="921960"/>
            <a:chOff x="5796000" y="2852640"/>
            <a:chExt cx="3203640" cy="921960"/>
          </a:xfrm>
        </p:grpSpPr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5796000" y="3361680"/>
              <a:ext cx="3203640" cy="2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5796000" y="3101760"/>
              <a:ext cx="3203640" cy="2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4"/>
            <a:stretch/>
          </p:blipFill>
          <p:spPr>
            <a:xfrm>
              <a:off x="5796000" y="2852640"/>
              <a:ext cx="3203640" cy="2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5"/>
            <a:stretch/>
          </p:blipFill>
          <p:spPr>
            <a:xfrm>
              <a:off x="5796000" y="3589920"/>
              <a:ext cx="3203640" cy="18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6934320" y="2133720"/>
            <a:ext cx="2046240" cy="517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7315200" y="4800600"/>
            <a:ext cx="1344600" cy="1344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5562720" y="3886200"/>
            <a:ext cx="1779480" cy="873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7467480" y="3886200"/>
            <a:ext cx="140508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65FC-2D65-4191-A9F5-2EADFF60ED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934320" y="1752480"/>
            <a:ext cx="1577880" cy="1000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 flipH="1">
            <a:off x="8152920" y="1219320"/>
            <a:ext cx="690840" cy="1581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543800" y="2286000"/>
            <a:ext cx="1166760" cy="1258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7770960" y="3733920"/>
            <a:ext cx="1373040" cy="936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934320" y="4419720"/>
            <a:ext cx="968400" cy="1089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7772400" y="4648320"/>
            <a:ext cx="1173240" cy="12650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6480" y="259920"/>
            <a:ext cx="877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Prueba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de envases / etiquetas (cualitativo /cuantitativo)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1025640"/>
            <a:ext cx="86407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eb424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valuar los siguientes aspect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99"/>
                </a:solidFill>
                <a:latin typeface="Arial"/>
              </a:rPr>
              <a:t>Envas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spectos de agrado y desagrado del empaqu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Form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Materi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Tamañ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Col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valuación general y razones para no evaluar excelent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valuación de aspectos específic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Origin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Diferenciación respecto a otros empaq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Percepción de c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Facilidad de manipular y consumir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DCEC-4B49-4AEA-A3B4-D636258E49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6480" y="259920"/>
            <a:ext cx="877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Prueba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de envases / etiquetas (cualitativo /cuantitativo)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025640"/>
            <a:ext cx="86407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eb424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valuar los siguientes aspect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99"/>
                </a:solidFill>
                <a:latin typeface="Arial"/>
              </a:rPr>
              <a:t>Etiqueta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Aspectos de agrado y desagrad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valuación general y razones para no evaluar excelent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valuación de aspectos específic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Origin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Diferenciación respecto a otras etiqueta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Percepción de c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Usuario proyectad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Calce con el concepto del product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69200" y="5221440"/>
            <a:ext cx="23130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7458120" y="4141800"/>
          <a:ext cx="1352520" cy="103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4141800"/>
                    <a:ext cx="13525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F450-4C78-4027-AA05-30E6BDCBE2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42480"/>
            <a:ext cx="87854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produc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863280"/>
            <a:ext cx="7056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lgunas considera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85760" indent="-18576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l producto que se testea debe ser representativo de aquél que se lanzará al mercad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Variables como: tamaño, forma, color, etc. deben permanecer constante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La evaluación puede ser monádica o comparativa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2880" indent="-177840" algn="just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valuación Monádic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l consumidor prueba y evalúa las características de un sólo producto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l consumidor solo compara contra los demás productos que ha utilizado, especialmente los más recientes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Suele ser más realista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42880" indent="-177840" algn="just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valuación Comparativ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l consumidor prueba dos o más productos y se evalúan las características de todos los productos probados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Se centra en las diferencias percibidas entre productos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79689" t="54171" r="4688" b="37501"/>
          <a:stretch/>
        </p:blipFill>
        <p:spPr>
          <a:xfrm>
            <a:off x="7164360" y="2924280"/>
            <a:ext cx="1198440" cy="479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rcRect l="71095" t="52084" r="6250" b="33337"/>
          <a:stretch/>
        </p:blipFill>
        <p:spPr>
          <a:xfrm>
            <a:off x="7885080" y="3209760"/>
            <a:ext cx="1087560" cy="52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AD29-16E9-4EFC-852A-BB5742193E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productos: prueba a ciegas (blind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02680" y="1153800"/>
            <a:ext cx="6169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Característica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studios generalmente cuantitativ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ntrevistas en locación central o en hogar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No se muestra la marca del produc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Se utilizan cuand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Se quiere evaluar los atributos intrínsecos (forma, sabor, olor, color, tamaño, etc.) del producto aislados del efecto marc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Aún no existe la marc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75400" y="1268280"/>
            <a:ext cx="1217880" cy="1825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020000" y="3651120"/>
            <a:ext cx="2124000" cy="126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3F7A-7003-4151-9CD5-C5C4E07C99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66840" y="333000"/>
            <a:ext cx="8640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productos: </a:t>
            </a: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prueba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con marca (branded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9280" y="1130040"/>
            <a:ext cx="633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Característica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studios generalmente cuantitativ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ntrevistas en locación central o en hogar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Se muestra la marca del produc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Se utilizan cuand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Se quiere evaluar el efecto del nombre o imagen de marca sobre las reacciones frente al product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La marca se identifica con tanta claridad que no tiene sentido una prueba a ciega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588000" y="1268280"/>
            <a:ext cx="1400400" cy="1230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267680" y="2030400"/>
            <a:ext cx="1606320" cy="1538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236000" y="4322880"/>
            <a:ext cx="1584000" cy="14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9B8D-7A2A-4EC8-A8E5-7A88B17E19E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9680" y="560088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Intención de comp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9680" y="81900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Identificación de nece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Hábitos de consumo/comp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04880" y="1916280"/>
            <a:ext cx="417600" cy="457200"/>
          </a:xfrm>
          <a:prstGeom prst="downArrow">
            <a:avLst>
              <a:gd name="adj1" fmla="val 50000"/>
              <a:gd name="adj2" fmla="val 27371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9680" y="240660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valuación de concep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9680" y="400536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rueba y evalu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e produ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865080"/>
            <a:ext cx="52927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Incidencia (% de la población que presenta la necesida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Frecu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Importancia de atributos relev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Productos/ marcas/ empaques consider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Canal/frecuencia visita/ precios percibidos/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ctividad que realiza el consumidor/ frecuencia/ consu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2278080"/>
            <a:ext cx="529272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spectos de agrado/ Aspectos de desa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gen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Relevancia/ atrac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spectos diferencia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Usuario proye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Personalidad de mar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Nomb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51280" y="3976560"/>
            <a:ext cx="475308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mpa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tique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Uso produ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spectos de agrado/Aspectos de desa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en atributos relev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gen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51280" y="5532480"/>
            <a:ext cx="52927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Precio proye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de pre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Incidencia de compradores/consumi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Frecuencia de compra/ consu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Cambio en hábitos de compra/consumo anteriores (fuente de volum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100440" y="260280"/>
            <a:ext cx="9534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Síntesis de la investigación de mercados para nuevos product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19280" y="3500280"/>
            <a:ext cx="417600" cy="457200"/>
          </a:xfrm>
          <a:prstGeom prst="downArrow">
            <a:avLst>
              <a:gd name="adj1" fmla="val 50000"/>
              <a:gd name="adj2" fmla="val 27371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19280" y="5099040"/>
            <a:ext cx="417600" cy="457200"/>
          </a:xfrm>
          <a:prstGeom prst="downArrow">
            <a:avLst>
              <a:gd name="adj1" fmla="val 50000"/>
              <a:gd name="adj2" fmla="val 27371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11640" y="5530680"/>
            <a:ext cx="1368360" cy="419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80000" y="566100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10600" y="5373720"/>
            <a:ext cx="1150920" cy="641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Ver Capítulo: Fijación de Pre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14C7-4907-4DBA-8CC5-ED20C157CE1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77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Introducción de nuevos produc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54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a introducción de nuevos productos, por lo general, incorpora una investigación de mercados en la cual se evalúan las características de este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os estudios de evaluación de nuevos productos tienen asociado una serie de elementos particulares que no aparecen con frecuencia en otros estudios de mercad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est de concept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est de nomb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uebas de envases / etiqueta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est de product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BBE-3B6F-4424-81BE-D3333110A83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7800" y="968400"/>
            <a:ext cx="3773520" cy="973080"/>
          </a:xfrm>
          <a:prstGeom prst="bevel">
            <a:avLst>
              <a:gd name="adj" fmla="val 852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Identificación de Oportun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finición d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Generación de id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finición estrategia de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2481120"/>
            <a:ext cx="4276800" cy="1721160"/>
          </a:xfrm>
          <a:prstGeom prst="bevel">
            <a:avLst>
              <a:gd name="adj" fmla="val 6125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                    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dentificación necesidades específ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l consum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laneación del producto de acuerdo a l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cisiones estratégicas (segmentació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osicionamie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/>
          <p:nvPr/>
        </p:nvCxnSpPr>
        <p:spPr>
          <a:xfrm flipH="1" rot="16200000">
            <a:off x="1912680" y="2217240"/>
            <a:ext cx="583560" cy="8640"/>
          </a:xfrm>
          <a:prstGeom prst="bentConnector3">
            <a:avLst>
              <a:gd name="adj1" fmla="val 49814"/>
            </a:avLst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303120" y="4784760"/>
            <a:ext cx="3808440" cy="1547640"/>
          </a:xfrm>
          <a:prstGeom prst="bevel">
            <a:avLst>
              <a:gd name="adj" fmla="val 6028"/>
            </a:avLst>
          </a:prstGeom>
          <a:solidFill>
            <a:srgbClr val="d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Pru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concep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nom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empaques y etique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9" idx="0"/>
            <a:endCxn id="91" idx="0"/>
          </p:cNvCxnSpPr>
          <p:nvPr/>
        </p:nvCxnSpPr>
        <p:spPr>
          <a:xfrm flipH="1" flipV="1" rot="5400000">
            <a:off x="3882960" y="3395160"/>
            <a:ext cx="1262520" cy="4612320"/>
          </a:xfrm>
          <a:prstGeom prst="bentConnector3">
            <a:avLst>
              <a:gd name="adj1" fmla="val -18083"/>
            </a:avLst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762440" y="4060800"/>
            <a:ext cx="4113360" cy="1009800"/>
          </a:xfrm>
          <a:prstGeom prst="bevel">
            <a:avLst>
              <a:gd name="adj" fmla="val 6019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Lanz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laneación del lanz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Tracking del lanz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1" idx="1"/>
            <a:endCxn id="93" idx="0"/>
          </p:cNvCxnSpPr>
          <p:nvPr/>
        </p:nvCxnSpPr>
        <p:spPr>
          <a:xfrm flipV="1">
            <a:off x="6819480" y="3255480"/>
            <a:ext cx="1080" cy="805680"/>
          </a:xfrm>
          <a:prstGeom prst="bentConnector2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4762440" y="1785960"/>
            <a:ext cx="4113360" cy="1469880"/>
          </a:xfrm>
          <a:prstGeom prst="bevel">
            <a:avLst>
              <a:gd name="adj" fmla="val 6019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Gestión del Ciclo de 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Análisis de la respuesta d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Afinaminiento del marketing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Monitoreo y defensa de la compet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nnovación en la madurez del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  <a:endCxn id="86" idx="0"/>
          </p:cNvCxnSpPr>
          <p:nvPr/>
        </p:nvCxnSpPr>
        <p:spPr>
          <a:xfrm flipV="1" rot="16200000">
            <a:off x="5284800" y="250920"/>
            <a:ext cx="330840" cy="2739240"/>
          </a:xfrm>
          <a:prstGeom prst="bentConnector2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4762440" y="1076400"/>
            <a:ext cx="16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ahoma"/>
              </a:rPr>
              <a:t>Reposicion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oceso de desarrollo de nuevos productos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97" name=""/>
          <p:cNvCxnSpPr>
            <a:endCxn id="89" idx="1"/>
          </p:cNvCxnSpPr>
          <p:nvPr/>
        </p:nvCxnSpPr>
        <p:spPr>
          <a:xfrm rot="5400000">
            <a:off x="1907640" y="4483080"/>
            <a:ext cx="602280" cy="2160"/>
          </a:xfrm>
          <a:prstGeom prst="bentConnector3">
            <a:avLst>
              <a:gd name="adj1" fmla="val 49820"/>
            </a:avLst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9F1-B718-4BE2-9D2E-667EF2CCE9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171440"/>
            <a:ext cx="8137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Un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concepto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es la propuesta que la marca, producto o servicio desea transmitir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umbo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la calidad no cuesta má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Ruta Norte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el pisco que se consume en el carret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uper Cerdo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el experto en cerd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asco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alidad y calidez para el hog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os estudios de concepto permiten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Verificar necesidades insatisfecha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valuar y redefinir ideas preliminares de productos o servicio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roporcionar información para el desarrollo del producto o servicio y su publicidad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C6BB-822B-4B5C-BC04-E93351F6F1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29952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3560" y="971640"/>
            <a:ext cx="7443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3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Objetiv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ntender la necesidad que satisface el producto o servici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Frecuencia, importancia, insatisfacción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Conocer el marco competitiv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Marcas conocidas, probadas, consumidas y rechazada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Atributos relevante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valuación de conceptos (se muestran en una tarjeta o en una pantalla)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Reacciones espontánea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Aspectos de agrado y desagrad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Intención de prueb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Ventajas/desventaja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Credibilid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Principales sustituto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Percepción de precio y atributo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valuación gener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Intención de compr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Ranking de conceptos y razones de preferencia/rechaz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048440" y="1273320"/>
            <a:ext cx="1524240" cy="500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344080" y="471600"/>
            <a:ext cx="72360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113600" y="1816200"/>
            <a:ext cx="1954080" cy="127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69AB-D5C8-41C3-B452-0253B6DFFD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414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6200" y="1285920"/>
            <a:ext cx="838044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7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valuación del concepto que se desea transmitir con la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987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introducción al mercado de un nuevo tipo jug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98748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35240" y="2462040"/>
            <a:ext cx="4498920" cy="273708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Focus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ntidad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6 se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Integrantes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: 10 personas por s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45 a 6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ada sesión se hace con personas homogén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ersonas heterogéneas entre cada s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o en una pauta de conversación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E27F-DA91-4319-B373-FE7A5AC6A5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2800" y="21384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3560" y="843120"/>
            <a:ext cx="838044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566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Hoy en día, si le quieres dar jugo a tu familia tienes 3 alternativas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Primera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preparar jugo natural, pero… debes hacer un gran esfuerzo en exprimir o cortar mucha fruta, y sólo de la estación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Segunda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comprar un jugo de tu sabor favorito, en botella o caja, pero… es caro y difícil de transportar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Tercera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comprar un envase de jugo en polvo de tu sabor preferido, vertirlo en un jarro y agregarle agua, pero… es artificial, ya que tiene sólo saborizantes y no contien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Te presentamos un nuevo concepto de jugo, el cual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Es una nueva, práctica y económica forma de disfrutar con tu familia de un verdadero néctar d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Es muy fácil de utilizar, pues sólo tienes que vaciar el contenido del envase en un jarro y agregarle agua, es económico pues tiene el precio justo, alcanza para toda la familia y tiene verdadero sabor a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DAD-37C0-4F02-BA15-50FF2326D2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414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6480" y="1157040"/>
            <a:ext cx="79484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Algunas conclusiones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65640" y="2216160"/>
            <a:ext cx="2035080" cy="1330200"/>
          </a:xfrm>
          <a:custGeom>
            <a:avLst/>
            <a:gdLst>
              <a:gd name="textAreaLeft" fmla="*/ 0 w 2035080"/>
              <a:gd name="textAreaRight" fmla="*/ 2035440 w 203508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puesta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ducto ge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nter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00560" y="4361040"/>
            <a:ext cx="2035080" cy="1330200"/>
          </a:xfrm>
          <a:custGeom>
            <a:avLst/>
            <a:gdLst>
              <a:gd name="textAreaLeft" fmla="*/ 0 w 2035080"/>
              <a:gd name="textAreaRight" fmla="*/ 2035440 w 203508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Mens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mpa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genera molest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D808-9674-4CC7-A948-BD7E5BC405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14:47:40Z</dcterms:created>
  <dc:creator>BBDO</dc:creator>
  <dc:description/>
  <dc:language>en-US</dc:language>
  <cp:lastModifiedBy>epolit</cp:lastModifiedBy>
  <dcterms:modified xsi:type="dcterms:W3CDTF">2007-10-16T01:04:53Z</dcterms:modified>
  <cp:revision>407</cp:revision>
  <dc:subject/>
  <dc:title>IN627</dc:title>
</cp:coreProperties>
</file>