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B35-0BF2-453B-81F1-25FDB59E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974-3D56-4ED3-99AC-AF916224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CFA-066F-44F6-A30E-1A980258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F45-E79C-4A70-BF13-02000AC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645B-F03B-44C0-AF74-4CFF33FC74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BD18-8449-4758-8B36-F9E90F788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047E-A214-4450-B245-CB749767B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15874-F1A4-4672-B695-FEF7E84F3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01B4-80C0-45BB-9AAD-22D03B3303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9870-1490-4287-B388-08213AF68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28FD-8007-4405-88E5-81D9B37A6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AFF-6D23-4C6E-B426-F02086C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5A5CD-6A7F-40D3-AE02-7B71F872A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F8B96-6B50-4B3E-A116-D2B541F88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32C2-8B44-457C-919D-58EBD49D14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BCA19-906A-4DCC-B225-D14D79339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4C0AD-C72E-44F1-BDD4-4701CDDF8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99A-ADD1-4B6A-95DE-17DE8EA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105-AAA3-40E4-8D60-ADD39A6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015-68E3-4367-A4E3-F28F3C2B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B84-2E9A-4149-A849-90116F0A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B38-708E-4053-808D-462BBD9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71F-E2C2-4CF6-8475-7471D3E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9B8-2B31-4573-8403-4358DE5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148F-6DA3-4036-8CDB-CA7703E9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5EF-D9E7-4D51-B63E-5149E464639C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000-90D7-45D5-94D3-66B5D8A336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005-0E30-4711-A107-825085A427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E0F-8EC5-4D43-A576-0A63763D3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2B4-1E1D-4717-A457-C066B017F8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572-F264-4D67-9088-A2BC7AC8D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7C5-18A3-4B93-91DA-18D266444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6DD-B584-45A2-B58D-D14C32B47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5C0-67C7-4ED9-8E4D-2ADBE48EB4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6DC-D960-45AB-B180-2DBA473C29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DF8-CED6-40C1-8D0B-005F905A5E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D70-ABD0-4FF4-98A1-5F92520FF0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4D2-826D-4ABD-BF39-2C9F28A9EA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C8C-B885-42E4-9DBB-507E0CBB6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572-E98D-45F3-88B0-A99952A70E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B26-B060-4C33-BF31-655232FC6F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E14-E6E4-4232-BE6F-2CD9EBE3F2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C54-73F5-41DF-B59E-28BEDB2950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E29-D49F-4628-A7CE-C8C806F4E6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80D-89F2-4265-8235-62AA1BD1EB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229-D5E6-4178-A1FF-50D42674F2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67D-31B5-4B46-875B-E57BC0B555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6F3-4FA3-45CE-959C-84C7881FD8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939-A346-40BD-81D4-6CC347F59C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9C3-030E-4C8B-A3E3-B7F20A8408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8E5-F3D6-419B-99CE-CCAB6F5CD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4BD-A1F2-4179-B59A-942ECD71B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15-5784-4D80-93A4-97D5AED31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10-16T01:04:53Z</dcterms:modified>
  <cp:revision>407</cp:revision>
  <dc:subject/>
  <dc:title>IN627</dc:title>
</cp:coreProperties>
</file>