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image35.jpeg" ContentType="image/jpeg"/>
  <Override PartName="/ppt/media/image13.wmf" ContentType="image/x-wmf"/>
  <Override PartName="/ppt/media/image9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36B-514B-4A46-B715-62A0EE8C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E6C-91B7-4B41-BE23-2EF5553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FAE-CCA2-429B-BB22-B4ABC42B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2A6-D734-48E6-93A4-81F2A3F8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677AB-123F-40E3-A9C1-70F7C308AD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A2710-0CF4-4E38-850A-755DC97BF4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5B6EA-0DE9-4CD4-8B3A-7D4611AE17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B3DA5-CC39-4963-BEB8-422A745F3D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85973-B7DD-4636-8C0D-23219BE4FB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045EF-C260-4270-9490-A3F36ACD7A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034A9-034F-474D-8BFB-F247636F5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687-6774-4E59-9B94-E5D5385C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66DF4-955F-405E-B57D-7FEB641C63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7FCA9-737A-4125-84C4-0CC251B1C1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41E92-DF79-4843-9291-6A8E35C9D7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A9E74-1F48-40AB-A0D4-21C5A1C040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C7E2E-5F55-4881-89FB-D3A5334C5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20B-DC31-48E2-AA33-51870143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534-D126-440B-967A-C0D7587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D05-59A3-43E1-8F62-3F366A7E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F95-FD38-49D2-B391-5C0EB91A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C0A-9AB3-4A8A-A541-9CE400A2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FCD-577C-4C47-8814-A684613F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BBC-962A-4FD6-95DF-58E6C50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580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3926-BCEA-40BB-BE68-40BF3733B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4BA0-26AE-49B9-8984-4FAC4341E21F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5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Objetivos de Marketing Asociados a la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2520"/>
            <a:ext cx="64008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81A-6496-48F9-A397-073C04079F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3160" y="4164120"/>
            <a:ext cx="4211640" cy="23382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10 a 15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uestra de población sólo con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3368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4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e puede tomar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2864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Locación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 es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49600" y="4300560"/>
            <a:ext cx="77004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2440" y="1781280"/>
            <a:ext cx="79056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00600" y="1781280"/>
            <a:ext cx="893880" cy="54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3560" y="942480"/>
            <a:ext cx="8380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Evaluación del concepto que desea transmitir con un nuevo tipo jug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3EB-190C-44D2-9523-75080D452A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920" y="843120"/>
            <a:ext cx="83088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grado de acuerdo con respecto a las siguientes afirm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Beber jugo natural es car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Hoy en día, la forma más económica y práctica de refrescar a tu familia es prepararle un jugo en pol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l jugo en polvo es artificial, ya que tiene sólo contiene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agrado con respecto a las siguientes proposi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 nuevo y práctico envase para compartir y al precio justo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No te quedes en lo artificial y prueba el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948-B0E4-4304-8B13-ECE8CDEB6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832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3560" y="1042920"/>
            <a:ext cx="8669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Evaluación del concepto de una nueva empresa d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lecomunic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070000"/>
            <a:ext cx="741672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Nota Metod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Tipo de estudi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cuantitativo mediante encuestas autoadministradas vía Inter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Grupo objetiv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hombres y mujeres, de 15 años o más, de niveles socioeconómicos ABC1, C2 y C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Muestr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 569 ca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Fech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18 al 19 de mayo del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Ponderación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resultados ponderados según distribución por GSE, sexo y edad de la población en estudio de la Región Metropolit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824-2F67-4B1F-81E5-69A8BAA265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53840"/>
            <a:ext cx="8686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884160"/>
            <a:ext cx="741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Cuest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04920" y="1400040"/>
          <a:ext cx="6119640" cy="52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400040"/>
                    <a:ext cx="611964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0C2-25B8-4E39-BD42-6BCCA9B45B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60812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6280" y="3171960"/>
          <a:ext cx="807732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71960"/>
                    <a:ext cx="80773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935-6513-4DB4-B98B-1CD04ACD9A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50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6280" y="311004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1004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E26-FCB2-4575-96BD-4986F19C24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69380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5560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315288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5288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F55-62BD-4EE7-B5BB-C4B0D5054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206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Cuál de los tres mensajes te gusta m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Base: total 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644480"/>
          <a:ext cx="62103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44480"/>
                    <a:ext cx="62103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5680" y="3660840"/>
          <a:ext cx="840096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" y="3660840"/>
                    <a:ext cx="84009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2800" y="15732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20" y="700200"/>
            <a:ext cx="830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9E0-B1B3-4D05-976A-772E9D2B42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39392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¿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Qué vas a ser mañana?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23479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479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916360" y="19591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741-BF1E-4DB4-BD9C-810A351370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41300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81200" y="2395440"/>
          <a:ext cx="45338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2395440"/>
                    <a:ext cx="45338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16360" y="203508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E86-E567-4667-9331-20A3B3BE3A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Diseño de Product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EE3-2162-4595-9CFC-07A7346B55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07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23920" y="23623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23623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916360" y="20304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F49-78FD-4F92-9887-EA91E721E3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nombres (cualitativo/cuantitativo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acilidad de lectura y pronunci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ociaciones espontán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aís de orig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Beneficios asociad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decuación al concep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tributos relevan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99120" y="1465200"/>
            <a:ext cx="1944720" cy="6364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5796000" y="2852640"/>
            <a:ext cx="3203640" cy="921960"/>
            <a:chOff x="5796000" y="2852640"/>
            <a:chExt cx="3203640" cy="9219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796000" y="3361680"/>
              <a:ext cx="32036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796000" y="3101760"/>
              <a:ext cx="320364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796000" y="2852640"/>
              <a:ext cx="320364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796000" y="3589920"/>
              <a:ext cx="3203640" cy="18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34320" y="2133720"/>
            <a:ext cx="2046240" cy="517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4800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62720" y="3886200"/>
            <a:ext cx="1779480" cy="87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467480" y="3886200"/>
            <a:ext cx="140508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1A1-97E5-464B-B853-640DC1DB7D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577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8152920" y="1219320"/>
            <a:ext cx="690840" cy="1581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1166760" cy="12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70960" y="3733920"/>
            <a:ext cx="13730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96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772400" y="4648320"/>
            <a:ext cx="1173240" cy="1265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nvas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pectos de agrado y desagrado del empa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orm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Diferenciación respecto a otros empaq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acilidad de manipular y consumi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A27-95B5-42AB-8911-93B48A143C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tiquet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Diferenciación respecto a otras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alce con el concepto del produc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69200" y="5221440"/>
            <a:ext cx="2313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7458120" y="4141800"/>
          <a:ext cx="135252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4141800"/>
                    <a:ext cx="1352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495-9922-4AF2-B0AB-6429DEED0B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8785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6328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gunas consider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l producto que se testea debe ser representativo de aquél que se lanzará al mercad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Variables como: tamaño, forma, color, etc. deben permanecer const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evaluación puede ser monádica o comparativ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Monádic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y evalúa las características de un sólo producto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solo compara contra los demás productos que ha utilizado, especialmente los más reciente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uele ser más realista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Comparativ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dos o más productos y se evalúan las características de todos los productos probad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e centra en las diferencias percibidas entre product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79689" t="54171" r="4688" b="37501"/>
          <a:stretch/>
        </p:blipFill>
        <p:spPr>
          <a:xfrm>
            <a:off x="7164360" y="2924280"/>
            <a:ext cx="1198440" cy="47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71095" t="52084" r="6250" b="33337"/>
          <a:stretch/>
        </p:blipFill>
        <p:spPr>
          <a:xfrm>
            <a:off x="7885080" y="3209760"/>
            <a:ext cx="108756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6C0-27A6-41D2-B3E0-778E7AE91F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prueba a ciegas (blin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2680" y="1153800"/>
            <a:ext cx="616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o 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los atributos intrínsecos (forma, sabor, olor, color, tamaño, etc.) del producto aislados del efecto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ún no existe la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75400" y="1268280"/>
            <a:ext cx="1217880" cy="182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20000" y="3651120"/>
            <a:ext cx="2124000" cy="12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7DF-AE72-4790-A94F-318C7AEEDE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ueb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on marca (brande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130040"/>
            <a:ext cx="63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el efecto del nombre o imagen de marca sobre las reacciones frente al product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marca se identifica con tanta claridad que no tiene sentido una prueba a cieg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4004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67680" y="2030400"/>
            <a:ext cx="160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6000" y="4322880"/>
            <a:ext cx="158400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2B5-B1D1-4975-90F4-A18CD0F173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9680" y="560088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nción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9680" y="8190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dentificación de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Hábitos de consumo/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4880" y="1916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9680" y="24066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valuación de 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80" y="400536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ueba y 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865080"/>
            <a:ext cx="5292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(% de la población que presenta la neces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mportancia de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oductos/ marcas/ empaques consid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nal/frecuencia visita/ precios percibidos/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ctividad que realiza el consumidor/ frecuenci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278080"/>
            <a:ext cx="529272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 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Relevancia/ atr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iferenci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ersonalidad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976560"/>
            <a:ext cx="47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mp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tiqu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o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en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532480"/>
            <a:ext cx="5292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ec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de pre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de compradores/consumi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 de compr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mbio en hábitos de compra/consumo anteriores (fuente de volum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0440" y="260280"/>
            <a:ext cx="9534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íntesis de la investigación de mercados para nuevos product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3500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509904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30680"/>
            <a:ext cx="1368360" cy="41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661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0600" y="5373720"/>
            <a:ext cx="115092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er Capítulo: Fijación de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B7E-E744-4E82-8B0E-CB7C240DE0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roducción de nuevos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introducción de nuevos productos, por lo general, incorpora una investigación de mercados en la cual se evalúan las características de est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s estudios de evaluación de nuevos productos tienen asociado una serie de elementos particulares que no aparecen con frecuencia en otros estudios de mercad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concep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nomb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uebas de envases /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produc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48B-972F-41D3-94DA-702BE4BAA8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800" y="968400"/>
            <a:ext cx="3773520" cy="973080"/>
          </a:xfrm>
          <a:prstGeom prst="bevel">
            <a:avLst>
              <a:gd name="adj" fmla="val 852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dentificación de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ción de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2481120"/>
            <a:ext cx="4276800" cy="1721160"/>
          </a:xfrm>
          <a:prstGeom prst="bevel">
            <a:avLst>
              <a:gd name="adj" fmla="val 6125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dentificación necesidades especí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producto de acuerdo a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cisiones estratégicas (segmentació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osicion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1912680" y="2217240"/>
            <a:ext cx="583560" cy="8640"/>
          </a:xfrm>
          <a:prstGeom prst="bentConnector3">
            <a:avLst>
              <a:gd name="adj1" fmla="val 49814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03120" y="4784760"/>
            <a:ext cx="3808440" cy="1547640"/>
          </a:xfrm>
          <a:prstGeom prst="bevel">
            <a:avLst>
              <a:gd name="adj" fmla="val 6028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concep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n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empaques y etiqu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9" idx="0"/>
            <a:endCxn id="91" idx="0"/>
          </p:cNvCxnSpPr>
          <p:nvPr/>
        </p:nvCxnSpPr>
        <p:spPr>
          <a:xfrm flipH="1" flipV="1" rot="5400000">
            <a:off x="3882960" y="3395160"/>
            <a:ext cx="1262520" cy="4612320"/>
          </a:xfrm>
          <a:prstGeom prst="bentConnector3">
            <a:avLst>
              <a:gd name="adj1" fmla="val -18083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62440" y="4060800"/>
            <a:ext cx="4113360" cy="100980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Tracking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1"/>
            <a:endCxn id="93" idx="0"/>
          </p:cNvCxnSpPr>
          <p:nvPr/>
        </p:nvCxnSpPr>
        <p:spPr>
          <a:xfrm flipV="1">
            <a:off x="6819480" y="3255480"/>
            <a:ext cx="1080" cy="80568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762440" y="1785960"/>
            <a:ext cx="4113360" cy="146988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Gestión del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nálisis de la respuesta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finaminiento del marketing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onitoreo y defensa de la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novación en la madurez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6200000">
            <a:off x="5284800" y="250920"/>
            <a:ext cx="330840" cy="273924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62440" y="1076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Reposi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ceso de desarrollo de nuevos produc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89" idx="1"/>
          </p:cNvCxnSpPr>
          <p:nvPr/>
        </p:nvCxnSpPr>
        <p:spPr>
          <a:xfrm rot="5400000">
            <a:off x="1907640" y="4483080"/>
            <a:ext cx="602280" cy="2160"/>
          </a:xfrm>
          <a:prstGeom prst="bentConnector3">
            <a:avLst>
              <a:gd name="adj1" fmla="val 49820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E6A-6BB1-4E69-8E8C-CBF5E4BCA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171440"/>
            <a:ext cx="8137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cepto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es la propuesta que la marca, producto o servicio desea transmiti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umb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la calidad no cuesta má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uta Norte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pisco que se consume en el carre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uper Cerd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experto en cerd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asc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alidad y calidez para el hog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os estudios de concepto permiten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erificar necesidades insatisfech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valuar y redefinir ideas preliminares de productos o servicio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porcionar información para el desarrollo del producto o servicio y su public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997-6122-4079-B2E9-AD2D0F901A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299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560" y="971640"/>
            <a:ext cx="7443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ntender la necesidad que satisface el producto o servic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recuencia, importancia, insatisfac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ocer el marco competiti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as conocidas, probadas, consumidas y rechazad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tributos relev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valuación de conceptos (se muestran en una tarjeta o en una pantalla)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eacciones espontáne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prueb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Ventajas/desventaj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Credibilid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ncipales sustit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ercepción de precio y atrib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compr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anking de conceptos y razones de preferencia/recha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48440" y="127332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44080" y="471600"/>
            <a:ext cx="7236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13600" y="1816200"/>
            <a:ext cx="1954080" cy="12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DEB-7AC8-4A56-9200-CEEF86F9F4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285920"/>
            <a:ext cx="83804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valuación del concepto que se desea transmitir con l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troducción al mercado de un nuevo tipo jug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5240" y="2462040"/>
            <a:ext cx="4498920" cy="273708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ntidad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6 s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ntegrantes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: 10 personas por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45 a 6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da sesión se hace con personas homogén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ersonas heterogéneas entre cada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o en una pauta de conversación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596-12F7-485E-B795-4D5FED0A3C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138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560" y="843120"/>
            <a:ext cx="83804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56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Hoy en día, si le quieres dar jugo a tu familia tienes 3 alternativa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Prim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preparar jugo natural, pero… debes hacer un gran esfuerzo en exprimir o cortar mucha fruta, y sólo de la est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gund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jugo de tu sabor favorito, en botella o caja, pero… es caro y difícil de transporta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Terc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envase de jugo en polvo de tu sabor preferido, vertirlo en un jarro y agregarle agua, pero… es artificial, ya que tiene sólo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 presentamos un nuevo concepto de jugo, el cual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muy fácil de utilizar, pues sólo tienes que vaciar el contenido del envase en un jarro y agregarle agua, es económico pues tiene el precio justo, alcanza para toda la familia y tiene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D0D-0970-446D-9AD9-41F42763F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1157040"/>
            <a:ext cx="7948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lgunas conclusion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5640" y="221616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puest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ducto ge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ter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6104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 moles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F1E-F191-4A93-8C60-4EE9469BA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epolit</cp:lastModifiedBy>
  <dcterms:modified xsi:type="dcterms:W3CDTF">2007-10-16T01:04:53Z</dcterms:modified>
  <cp:revision>407</cp:revision>
  <dc:subject/>
  <dc:title>IN627</dc:title>
</cp:coreProperties>
</file>