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FFA-0A6B-42AC-BABE-819F3C21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108-1587-40B4-B592-E5CEF71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91C-247E-459A-9AB2-FBF835CD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9BE-B553-4FF8-ACA7-806A8C77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EF7F-65AE-4472-A8BA-88A3F2A055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118BF-0C7C-494D-A9BE-DB3C56DB0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7595-38F4-4192-9AD3-BAA76F9172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BD9B-8481-4CC1-84AD-A34A5BC3D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BEEFC-E4E8-435E-947D-823DD9E85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59CFE-31B5-4F90-AF1E-8111136A6E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FAF93-F82C-46C4-A5E1-E4F44474D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FB8-F94A-49BE-B641-75EFAF1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A0415-4D1F-4396-A938-5B70A56065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E1E29-780C-4FAB-87EA-F9FF39EB8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C0D55-A447-4E04-A61F-A4854AD2D4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9434E-BCC0-4AF2-82EC-7B447DFC37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3F301-154C-4E7A-84CE-0AF529813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928-69A3-4A15-BCEC-2C8661F3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78D-C289-41B8-8513-0C34B57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B5D-3EBD-4806-8144-81D8C533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891-B05E-433F-BC53-E31C0540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597-7D5D-4339-B9E5-80C04D6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B1B-81FB-43DB-8CA2-5A6F8C8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768-D979-4DBA-B332-CFB427C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42C-1356-4147-B7D5-C7D8D009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5423-029C-4198-97F7-1F44D754FE71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4E5-2ACC-4959-B07E-B6E0F5A502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3F0-4593-43AF-ACFD-9ABA55CA7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DC1-7A51-4550-81B9-3B88ECE21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25A-AC51-43AC-B9FE-B04113A1E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367-4432-4831-878F-2E46F9F7D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5F4-748F-4F0C-83DD-5540AAC235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D9E-9EA3-455F-A78C-CF8F78A38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075-1D13-43E0-AA37-5E2B3C4AB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DEA-E889-457A-A22E-B8EE16FC19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84E-6771-48F0-AF32-D3CDC9F6C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56B-1772-4E98-8DA3-2D7767F2A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287-39D4-4CF5-9673-1484630DBD0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069-8A45-4BE0-8F2A-F965156C7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B7D-0A10-4FC0-BE6E-8FF39F3CFB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341-8043-4F4B-85F5-9E494FF371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97B-B9CB-458C-A884-849F273F00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B6A-B9D5-45F5-9331-1B1FE19C28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AED-F26D-4391-8F84-5050704201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536-F3E5-4B34-953A-0CE822E8E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D25-286B-4A73-B3D2-2D606A73BD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D84-3324-4594-9C6A-C9EE54F726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035-DA91-4D00-A24A-A3BF895C1D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507-59DD-468B-8578-70C2845A0D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BB5-4B6C-4246-9E1B-97C8FD4E1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5D6-14B6-4CDB-8569-1B566C38F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9BD-D355-461C-9F80-FC612DFCE1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3D0-BCC3-425C-9BE1-547DC7470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10-16T01:04:53Z</dcterms:modified>
  <cp:revision>407</cp:revision>
  <dc:subject/>
  <dc:title>IN627</dc:title>
</cp:coreProperties>
</file>