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AA7-363A-4FC5-9F27-6CC65CC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4F6-0021-46A3-8DCD-29018C1C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C97-C80B-406B-864A-90C002FA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91A-E812-49EF-8837-C204C51A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ADD2-4DCC-4E88-9EC8-017D7117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D891-0A5B-4368-991D-D761BEB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B8B5-CF3C-4324-A36C-975B44D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1A5-D7CA-4989-ACB2-A8E6D287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6EB6-B8C7-4C1A-BE5F-8974CD0F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7B8F-16ED-4C57-B017-9DDC089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69A-8F8F-4537-887D-A6BCDE9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664-9DBC-4271-A1DB-E8C8C8E4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AD6E-EC20-4AF2-ABA8-6A9E570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E1D-1C1D-4BDF-B95C-AB9F54D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23A-9238-42DC-B53F-3B1A71E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957-A63B-427F-BDAC-E37940D0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6D06-09E1-4BEF-AC47-A580B6A9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CFD-9356-41A7-8928-BDAFF42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D4A-8FFB-44D1-AEA7-FE9E43A1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587-59A4-44D4-9C79-2986EDE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F10-B242-4709-AC38-6EF9BB0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AEA-F320-4F1F-8840-CE892EE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FA1-D57A-44F5-B855-08F6A80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95F-98B2-4934-902A-B535444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2600" y="6237360"/>
            <a:ext cx="9156600" cy="62064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42640" y="6500880"/>
            <a:ext cx="19047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749-7949-4B86-A40A-A38210B6AA49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36160" y="6284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779640" y="6381360"/>
            <a:ext cx="1618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D14-1864-4036-8F3B-62AA915E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40464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40464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0000" y="40464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0320" y="650088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69360" y="6308640"/>
            <a:ext cx="153972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8CC-DA97-48D6-A31B-C3D0F67E308D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0C7-C8FF-4CC8-9364-BC41CC160EB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4160" y="5392800"/>
            <a:ext cx="143820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90040" y="62373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580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790800"/>
            <a:ext cx="6325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66"/>
                </a:solidFill>
                <a:latin typeface="Arial"/>
              </a:rPr>
              <a:t>Auxiliar Nº 5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étodos Multivariados para l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5330880"/>
            <a:ext cx="2340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Auxiliar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Gonzalo Leó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aglomerativos: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Inicialmente cada objeto es un grupo y en cada iteración se juntan los grupos mas similar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lej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cer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divisiv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icialmente se tiene un único grupo y en cada división se separa un grup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boles de Desi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6D2-95C6-4C02-A9E7-03DA27E8C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scret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sólo puede pertenecer a un único grupo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fus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tiene un grado de pertenencia a cada uno de l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zzy C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455-0280-4E64-8C6E-97CDB83457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62800" y="1634760"/>
            <a:ext cx="4694760" cy="4173120"/>
            <a:chOff x="262800" y="1634760"/>
            <a:chExt cx="4694760" cy="4173120"/>
          </a:xfrm>
        </p:grpSpPr>
        <p:sp>
          <p:nvSpPr>
            <p:cNvPr id="305" name=""/>
            <p:cNvSpPr/>
            <p:nvPr/>
          </p:nvSpPr>
          <p:spPr>
            <a:xfrm flipV="1">
              <a:off x="729720" y="1634760"/>
              <a:ext cx="0" cy="376596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1960" y="5401080"/>
              <a:ext cx="42156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3080" y="194364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5800" y="24242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4320" y="25300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6440" y="26874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7840" y="2961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7080" y="2950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192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760" y="31276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79520" y="2919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94680" y="31442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3800" y="3386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2240" y="3517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57680" y="2161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8000" y="2292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2840" y="40896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48600" y="4343040"/>
              <a:ext cx="8964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7408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48787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200" y="32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7000" y="41842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90480" y="35100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388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1800" y="199692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7360" y="44924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07600" y="46609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5440" y="2214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5760" y="23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50600" y="41428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3640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00320" y="48830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25760" y="325080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34000" y="3242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91440" y="50598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5840" y="48513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27560" y="26751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57880" y="2806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27840" y="2539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55320" y="2728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5640" y="2860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2960" y="23259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3280" y="24573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0240" y="54396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800" y="1792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907200" y="2581920"/>
              <a:ext cx="3191040" cy="2187000"/>
            </a:xfrm>
            <a:prstGeom prst="line">
              <a:avLst/>
            </a:prstGeom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91200" y="3493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21520" y="3624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51840" y="37566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62640" y="3335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98200" y="391680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28160" y="40485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31720" y="38304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60160" y="4044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5200" y="42292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640" y="44870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0400" y="4273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0720" y="440496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rcRect l="29957" t="12874" r="9083" b="10480"/>
          <a:stretch/>
        </p:blipFill>
        <p:spPr>
          <a:xfrm>
            <a:off x="6227640" y="1317600"/>
            <a:ext cx="2819520" cy="2471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rcRect l="24708" t="15356" r="3160" b="19295"/>
          <a:stretch/>
        </p:blipFill>
        <p:spPr>
          <a:xfrm>
            <a:off x="5796000" y="3924360"/>
            <a:ext cx="327672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129-4BA7-4F36-90DA-1E1F60477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El </a:t>
            </a: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análisis discriminante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es una técnica para analizar los datos cuando se tiene una variable dependiente categórica y un conjunto de variables independientes (o de predicción) de intervalo o relación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BE4-FA8D-4205-8972-F290488792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rec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todas las variables de predicción se incluyen simultáneament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es apropiado que la clasificación se base en todas l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scre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las variables de predicción entran al modelo de manera secuencial de acuerdo a su capacidad de discriminación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variables discriminan entre los grupos más que otras, las cuales tienen la prioridad de ser incluidas en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7ED-1A93-404E-8B06-5D7EF88069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690560"/>
            <a:ext cx="217476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osicionamiento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22760" y="1692360"/>
            <a:ext cx="16556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magen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9560" y="1708200"/>
            <a:ext cx="16556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alor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56000" y="1978200"/>
            <a:ext cx="11523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78400" y="1979640"/>
            <a:ext cx="1152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278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o capital de marca está íntimamente relacionado con la rentabilidad de largo plazo que la marca entrega a los accionistas de la empresa a la cual pertene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77F-546E-4CFA-9223-54E9A51BA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e7f2c5"/>
              </a:gs>
              <a:gs pos="100000">
                <a:srgbClr val="99cc00"/>
              </a:gs>
            </a:gsLst>
            <a:lin ang="13500000"/>
          </a:gradFill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67080" y="1031760"/>
            <a:ext cx="5726160" cy="4845240"/>
            <a:chOff x="3367080" y="1031760"/>
            <a:chExt cx="5726160" cy="4845240"/>
          </a:xfrm>
        </p:grpSpPr>
        <p:sp>
          <p:nvSpPr>
            <p:cNvPr id="378" name=""/>
            <p:cNvSpPr/>
            <p:nvPr/>
          </p:nvSpPr>
          <p:spPr>
            <a:xfrm>
              <a:off x="8399520" y="3711600"/>
              <a:ext cx="69372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89400" y="5648400"/>
              <a:ext cx="10555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1031760"/>
              <a:ext cx="1066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03840" y="1027080"/>
            <a:ext cx="1440" cy="484992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9160" y="3871800"/>
            <a:ext cx="8643960" cy="180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61640" y="1251000"/>
            <a:ext cx="8591760" cy="4556160"/>
            <a:chOff x="161640" y="1251000"/>
            <a:chExt cx="8591760" cy="4556160"/>
          </a:xfrm>
        </p:grpSpPr>
        <p:sp>
          <p:nvSpPr>
            <p:cNvPr id="385" name=""/>
            <p:cNvSpPr/>
            <p:nvPr/>
          </p:nvSpPr>
          <p:spPr>
            <a:xfrm>
              <a:off x="3079800" y="1251000"/>
              <a:ext cx="103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58960" y="191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480" y="2025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60280" y="3476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7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74640" y="4292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6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1640" y="5092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8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5840" y="5560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9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9200" y="546732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0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7800" y="5533920"/>
              <a:ext cx="42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4400" y="1969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4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6920" y="1330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5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47200" y="55990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26400" y="225576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4160" y="219060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9480" y="230184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120" y="3613320"/>
              <a:ext cx="10620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2760" y="549756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680" y="535932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34" y="0"/>
                  </a:moveTo>
                  <a:lnTo>
                    <a:pt x="68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288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4720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24000" y="441648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5080" y="5608800"/>
              <a:ext cx="10656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19920" y="3186000"/>
            <a:ext cx="3315960" cy="1271880"/>
            <a:chOff x="5119920" y="3186000"/>
            <a:chExt cx="3315960" cy="1271880"/>
          </a:xfrm>
        </p:grpSpPr>
        <p:sp>
          <p:nvSpPr>
            <p:cNvPr id="408" name=""/>
            <p:cNvSpPr/>
            <p:nvPr/>
          </p:nvSpPr>
          <p:spPr>
            <a:xfrm>
              <a:off x="6495480" y="31860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Excelente en servici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00160" y="3503520"/>
              <a:ext cx="154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product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7240" y="360216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stitución que prefier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19920" y="3800520"/>
              <a:ext cx="148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servici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98840" y="4005360"/>
              <a:ext cx="119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magen de Marc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61080" y="3714840"/>
              <a:ext cx="177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anales Atención amistos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96200" y="3970440"/>
              <a:ext cx="158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Conocimiento del cl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90120" y="3900600"/>
              <a:ext cx="13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Tecnología amig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4880" y="407844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Facilidad de comp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50920" y="383688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Flexible, que se adap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90720" y="42116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onven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6960" y="3973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6960" y="393696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4120" y="36878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35800" y="399240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77040" y="32907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35800" y="3954600"/>
              <a:ext cx="65160" cy="554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92960" y="404820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34"/>
                  </a:lnTo>
                  <a:lnTo>
                    <a:pt x="0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83240" y="3641760"/>
              <a:ext cx="6372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6960" y="39830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35800" y="391788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6080" y="378936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98800" y="3348000"/>
            <a:ext cx="2630520" cy="716040"/>
            <a:chOff x="3898800" y="3348000"/>
            <a:chExt cx="2630520" cy="716040"/>
          </a:xfrm>
        </p:grpSpPr>
        <p:sp>
          <p:nvSpPr>
            <p:cNvPr id="431" name=""/>
            <p:cNvSpPr/>
            <p:nvPr/>
          </p:nvSpPr>
          <p:spPr>
            <a:xfrm>
              <a:off x="3916440" y="3892680"/>
              <a:ext cx="2506680" cy="171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05280" y="3348000"/>
              <a:ext cx="2469960" cy="519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98800" y="3674880"/>
              <a:ext cx="2630520" cy="185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02A-08CE-4E6D-8329-FA9BDD74FF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6666"/>
                </a:solidFill>
                <a:latin typeface="Arial"/>
              </a:rPr>
              <a:t>Métodos para análisis de posicionamiento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des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descompone las distancias en un conjunto de atributos que están implícitos en estas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calamiento multidimensional (M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generan distancias entre objetos a partir de la evaluación que reciben en un conjunt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álisis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Correspo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DFC-6FC9-4C4C-A6ED-8CA23CCBC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TERMINACION DE 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riori: con anterioridad cuántos factores desea extraer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osteriori: basado en criterios matemáticos como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mayor qu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la vari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explicada acumulada mayor al 7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DD2-ED34-4123-B888-BAE26C8D0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66"/>
                </a:solidFill>
                <a:latin typeface="Arial"/>
              </a:rPr>
              <a:t>Factor Loadings: Para interpretar los factore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sponden a la correlación entre la pregunta y el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 Coefficient: Para determinar posicionamiento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conocer los Factor S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: Para posicionar la marc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la puntación factorial de la marca en un cierto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404-4419-461F-880F-E06255E91D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Segmentación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criminante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Percepciones y Posicionamient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eño de Productos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Calidad de Servici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665-4A4B-43A3-86C9-932C6577E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66"/>
                </a:solidFill>
                <a:latin typeface="Arial"/>
              </a:rPr>
              <a:t>El objetivo del escalamiento multidimensional es transformar los juicios de similitud de un conjunto de individuos expresados en distancias susceptibles de ser representadas en un espacio multidimensional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DA0-D630-4CED-92FE-A062B4D90A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57720" y="2500200"/>
            <a:ext cx="3594240" cy="1098720"/>
          </a:xfrm>
          <a:prstGeom prst="ellipse">
            <a:avLst/>
          </a:prstGeom>
          <a:noFill/>
          <a:ln w="38160">
            <a:solidFill>
              <a:srgbClr val="b50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4040" y="2333520"/>
            <a:ext cx="1625400" cy="757440"/>
          </a:xfrm>
          <a:prstGeom prst="ellipse">
            <a:avLst/>
          </a:prstGeom>
          <a:noFill/>
          <a:ln w="381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57360" y="3797280"/>
            <a:ext cx="2101680" cy="21319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34880" y="777960"/>
            <a:ext cx="8381880" cy="5638680"/>
            <a:chOff x="434880" y="777960"/>
            <a:chExt cx="8381880" cy="5638680"/>
          </a:xfrm>
        </p:grpSpPr>
        <p:sp>
          <p:nvSpPr>
            <p:cNvPr id="447" name=""/>
            <p:cNvSpPr/>
            <p:nvPr/>
          </p:nvSpPr>
          <p:spPr>
            <a:xfrm>
              <a:off x="2949480" y="777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34880" y="1235160"/>
              <a:ext cx="8381880" cy="5181480"/>
              <a:chOff x="434880" y="1235160"/>
              <a:chExt cx="8381880" cy="5181480"/>
            </a:xfrm>
          </p:grpSpPr>
          <p:sp>
            <p:nvSpPr>
              <p:cNvPr id="449" name=""/>
              <p:cNvSpPr/>
              <p:nvPr/>
            </p:nvSpPr>
            <p:spPr>
              <a:xfrm rot="9676800">
                <a:off x="5941440" y="333972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9676800">
                <a:off x="5748120" y="329688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9676800">
                <a:off x="1877760" y="53766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9676800">
                <a:off x="2226960" y="5607000"/>
                <a:ext cx="5256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9676800">
                <a:off x="4007520" y="2887560"/>
                <a:ext cx="52200" cy="52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9676800">
                <a:off x="7498800" y="2890800"/>
                <a:ext cx="5220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9676800">
                <a:off x="2312640" y="393516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9676800">
                <a:off x="2112480" y="458280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9676800">
                <a:off x="7868880" y="28620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9676800">
                <a:off x="2233080" y="417816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9676800">
                <a:off x="2590560" y="55119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9676800">
                <a:off x="7544520" y="29037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9676800">
                <a:off x="2685240" y="38340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24240" y="1235160"/>
                <a:ext cx="0" cy="518148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880" y="3911760"/>
                <a:ext cx="8381880" cy="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68360" y="5513400"/>
                <a:ext cx="129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6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594800" y="51325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5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13920" y="45831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4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93120" y="415620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3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85280" y="3911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2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91680" y="2660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69960" y="2773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0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084440" y="2643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9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42880" y="32972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7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41120" y="30956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8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92840" y="395460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PRESTIGIO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38280" y="1268640"/>
                <a:ext cx="1348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CALIDAD DE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LA EDUCACIÓN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E4F-B2FA-4078-A29B-54E00BD888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requiere de una definición previa de atribut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Permite comprender cómo los individuos perciben los objetos y qué factores se encuentran detrás de estas percepciones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lvl="1" marL="735480" indent="-282960" algn="just">
              <a:lnSpc>
                <a:spcPct val="14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ores generalmente ocul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necesita explicitar inicialmente un conjunto de atributos a ser evaluad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cuando desea explicar la imagen relativa que perciben los consumidores de un conjunto de marcas que participan en una categoría a la cual conoce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0" algn="just">
              <a:lnSpc>
                <a:spcPct val="14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AE5-3D3C-4F8D-B6AC-5751BE2053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NALISIS DE CORRESPON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scribe las relaciones existentes entre marcas o consumidores y las variables asociadas a éste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Se basa en la generación de tablas de contingencia que crucen la información de las filas y las columnas.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s: habitualmente marcas o perfile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as: habitualmente 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Un algoritmo arroja como resultado dimensiones las cuales explican las posibles relaciones en la tabla de correspondencia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B3F-2B9F-4FC7-AD77-5D9809625D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19400" y="1171440"/>
            <a:ext cx="7542000" cy="4813200"/>
            <a:chOff x="419400" y="1171440"/>
            <a:chExt cx="7542000" cy="48132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532080" y="1171440"/>
              <a:ext cx="742932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88160" y="1171440"/>
              <a:ext cx="1440" cy="48132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2080" y="3197160"/>
              <a:ext cx="742932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73800" y="498636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8"/>
                  </a:lnTo>
                  <a:lnTo>
                    <a:pt x="28" y="57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51880" y="28130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9"/>
                  </a:lnTo>
                  <a:lnTo>
                    <a:pt x="28" y="57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42000" y="294156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0"/>
                  </a:moveTo>
                  <a:lnTo>
                    <a:pt x="58" y="28"/>
                  </a:lnTo>
                  <a:lnTo>
                    <a:pt x="29" y="57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43600" y="348120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0"/>
                  </a:moveTo>
                  <a:lnTo>
                    <a:pt x="57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9280" y="24462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57" y="29"/>
                  </a:lnTo>
                  <a:lnTo>
                    <a:pt x="29" y="57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97480" y="20048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65680" y="24825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01000" y="214308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92440" y="32526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23120" y="4921200"/>
              <a:ext cx="9036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3640" y="31604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Flexi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69800" y="239220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apoy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8440" y="191448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escuch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77520" y="234468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Que resuelv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11640" y="2850840"/>
              <a:ext cx="6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rcan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95080" y="3375000"/>
              <a:ext cx="70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mistos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46960" y="482112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novado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2920" y="489888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activ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17920" y="2068200"/>
              <a:ext cx="7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nfi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6200" y="2717640"/>
              <a:ext cx="62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egu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8280" y="1849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816120" y="1468440"/>
              <a:ext cx="5656320" cy="4235400"/>
              <a:chOff x="816120" y="1468440"/>
              <a:chExt cx="5656320" cy="4235400"/>
            </a:xfrm>
          </p:grpSpPr>
          <p:sp>
            <p:nvSpPr>
              <p:cNvPr id="509" name=""/>
              <p:cNvSpPr/>
              <p:nvPr/>
            </p:nvSpPr>
            <p:spPr>
              <a:xfrm>
                <a:off x="833040" y="2682720"/>
                <a:ext cx="79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INGUNA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816120" y="1468440"/>
                <a:ext cx="5656320" cy="4235400"/>
                <a:chOff x="816120" y="1468440"/>
                <a:chExt cx="5656320" cy="423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24440" y="273024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031080" y="209700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583240" y="2638440"/>
                  <a:ext cx="90720" cy="9180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123240" y="2509560"/>
                  <a:ext cx="9036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05360" y="35002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473800" y="370188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8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259680" y="310644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22920" y="50590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454720" y="55180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21640" y="5333760"/>
                  <a:ext cx="9180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19640" y="34732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666040" y="1630080"/>
                  <a:ext cx="90360" cy="90720"/>
                </a:xfrm>
                <a:custGeom>
                  <a:avLst/>
                  <a:gdLst/>
                  <a:ahLst/>
                  <a:rect l="l" t="t" r="r" b="b"/>
                  <a:pathLst>
                    <a:path w="57" h="57">
                      <a:moveTo>
                        <a:pt x="28" y="0"/>
                      </a:moveTo>
                      <a:lnTo>
                        <a:pt x="57" y="57"/>
                      </a:lnTo>
                      <a:lnTo>
                        <a:pt x="0" y="5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16120" y="277632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653440" y="1468440"/>
                  <a:ext cx="616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TODAS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151680" y="2433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141960" y="31557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8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157720" y="242244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3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226040" y="26463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4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84960" y="3612960"/>
                  <a:ext cx="355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7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30440" y="339228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5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43400" y="35478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6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281480" y="5011560"/>
                  <a:ext cx="390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2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930920" y="5457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9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62480" y="5267160"/>
                  <a:ext cx="42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0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>
              <a:off x="419400" y="1893600"/>
              <a:ext cx="2928960" cy="19954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1840" y="1191960"/>
              <a:ext cx="2743200" cy="15382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D62-5B9C-491E-B7C9-0859DA548E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421488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58920" y="4214880"/>
            <a:ext cx="9586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3146400"/>
            <a:ext cx="12636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080" y="323388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2080" y="2163600"/>
            <a:ext cx="211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38" idx="0"/>
            <a:endCxn id="541" idx="2"/>
          </p:cNvCxnSpPr>
          <p:nvPr/>
        </p:nvCxnSpPr>
        <p:spPr>
          <a:xfrm flipH="1" flipV="1" rot="5400000">
            <a:off x="676800" y="3648240"/>
            <a:ext cx="506880" cy="6260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46" name=""/>
          <p:cNvCxnSpPr>
            <a:stCxn id="539" idx="0"/>
            <a:endCxn id="541" idx="2"/>
          </p:cNvCxnSpPr>
          <p:nvPr/>
        </p:nvCxnSpPr>
        <p:spPr>
          <a:xfrm flipV="1" rot="16200000">
            <a:off x="1237320" y="3713040"/>
            <a:ext cx="506880" cy="4960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47" name=""/>
          <p:cNvSpPr/>
          <p:nvPr/>
        </p:nvSpPr>
        <p:spPr>
          <a:xfrm>
            <a:off x="2363760" y="42228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8000" y="4222800"/>
            <a:ext cx="9367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3154320"/>
            <a:ext cx="1359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3640" y="32418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47" idx="0"/>
            <a:endCxn id="549" idx="2"/>
          </p:cNvCxnSpPr>
          <p:nvPr/>
        </p:nvCxnSpPr>
        <p:spPr>
          <a:xfrm flipH="1" flipV="1" rot="5400000">
            <a:off x="2765160" y="3681000"/>
            <a:ext cx="506880" cy="57636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52" name=""/>
          <p:cNvCxnSpPr>
            <a:stCxn id="548" idx="0"/>
            <a:endCxn id="549" idx="2"/>
          </p:cNvCxnSpPr>
          <p:nvPr/>
        </p:nvCxnSpPr>
        <p:spPr>
          <a:xfrm flipV="1" rot="16200000">
            <a:off x="3308040" y="3713760"/>
            <a:ext cx="506880" cy="5104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-19080" y="5084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El mundo en tu casa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74160" y="5084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Colgate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42210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80000" y="4221000"/>
            <a:ext cx="8622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40280" y="3152880"/>
            <a:ext cx="135900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00720" y="3152880"/>
            <a:ext cx="2178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25280" y="3240000"/>
            <a:ext cx="189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s/Etiquet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5" idx="0"/>
            <a:endCxn id="558" idx="2"/>
          </p:cNvCxnSpPr>
          <p:nvPr/>
        </p:nvCxnSpPr>
        <p:spPr>
          <a:xfrm flipH="1" flipV="1" rot="5400000">
            <a:off x="4938480" y="3569760"/>
            <a:ext cx="506880" cy="79632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1" name=""/>
          <p:cNvCxnSpPr>
            <a:stCxn id="556" idx="0"/>
            <a:endCxn id="558" idx="2"/>
          </p:cNvCxnSpPr>
          <p:nvPr/>
        </p:nvCxnSpPr>
        <p:spPr>
          <a:xfrm flipV="1" rot="16200000">
            <a:off x="5547240" y="3756240"/>
            <a:ext cx="506880" cy="4230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4431240" y="50832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Agrado y desagrad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3840" y="4222800"/>
            <a:ext cx="949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10440" y="4222800"/>
            <a:ext cx="9748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eg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1640" y="3154320"/>
            <a:ext cx="11178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04560" y="324180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3" idx="0"/>
            <a:endCxn id="565" idx="2"/>
          </p:cNvCxnSpPr>
          <p:nvPr/>
        </p:nvCxnSpPr>
        <p:spPr>
          <a:xfrm flipH="1" flipV="1" rot="5400000">
            <a:off x="7426080" y="3638160"/>
            <a:ext cx="506880" cy="6624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8" name=""/>
          <p:cNvCxnSpPr>
            <a:stCxn id="564" idx="0"/>
            <a:endCxn id="565" idx="2"/>
          </p:cNvCxnSpPr>
          <p:nvPr/>
        </p:nvCxnSpPr>
        <p:spPr>
          <a:xfrm flipV="1" rot="16200000">
            <a:off x="8050680" y="3674880"/>
            <a:ext cx="506880" cy="5882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7096320" y="5103720"/>
            <a:ext cx="174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McDonald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Pepsi Challen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70" name=""/>
          <p:cNvCxnSpPr>
            <a:stCxn id="544" idx="2"/>
            <a:endCxn id="541" idx="0"/>
          </p:cNvCxnSpPr>
          <p:nvPr/>
        </p:nvCxnSpPr>
        <p:spPr>
          <a:xfrm rot="5400000">
            <a:off x="2667960" y="1222200"/>
            <a:ext cx="499320" cy="3350160"/>
          </a:xfrm>
          <a:prstGeom prst="bentConnector3">
            <a:avLst>
              <a:gd name="adj1" fmla="val 48989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1" name=""/>
          <p:cNvCxnSpPr>
            <a:stCxn id="544" idx="2"/>
            <a:endCxn id="549" idx="0"/>
          </p:cNvCxnSpPr>
          <p:nvPr/>
        </p:nvCxnSpPr>
        <p:spPr>
          <a:xfrm rot="5400000">
            <a:off x="3695760" y="2257560"/>
            <a:ext cx="506880" cy="128664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2" name=""/>
          <p:cNvCxnSpPr>
            <a:stCxn id="544" idx="2"/>
            <a:endCxn id="558" idx="0"/>
          </p:cNvCxnSpPr>
          <p:nvPr/>
        </p:nvCxnSpPr>
        <p:spPr>
          <a:xfrm flipH="1" rot="16200000">
            <a:off x="4838400" y="2401200"/>
            <a:ext cx="505800" cy="997920"/>
          </a:xfrm>
          <a:prstGeom prst="bentConnector3">
            <a:avLst>
              <a:gd name="adj1" fmla="val 4900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3" name=""/>
          <p:cNvCxnSpPr>
            <a:stCxn id="544" idx="2"/>
            <a:endCxn id="565" idx="0"/>
          </p:cNvCxnSpPr>
          <p:nvPr/>
        </p:nvCxnSpPr>
        <p:spPr>
          <a:xfrm flipH="1" rot="16200000">
            <a:off x="6048360" y="1191240"/>
            <a:ext cx="506880" cy="341856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83-072D-4127-B9C6-F3ECC0F4B0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El objetivo de la medición de calidad de servicio es determinar los atributos incidentes en la satisfacción de un proceso, servicio, producto, etc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Permite identificar focos de mejora (gestionables)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5C1-0F52-4FB0-813B-685F4CDB2C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89080" y="2933640"/>
            <a:ext cx="1330200" cy="102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a04242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177840" indent="-177840"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cc66"/>
                </a:solidFill>
                <a:latin typeface="TheSansCorrespondence"/>
              </a:rPr>
              <a:t>Glob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56000" y="216864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390528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30640" y="2916360"/>
            <a:ext cx="1197000" cy="583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8000"/>
                </a:solidFill>
                <a:latin typeface="TheSansCorrespondence"/>
              </a:rPr>
              <a:t>Etapa 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30640" y="1844640"/>
            <a:ext cx="1197000" cy="58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heSansCorrespondence"/>
              </a:rPr>
              <a:t>Etapa 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7" idx="1"/>
            <a:endCxn id="576" idx="3"/>
          </p:cNvCxnSpPr>
          <p:nvPr/>
        </p:nvCxnSpPr>
        <p:spPr>
          <a:xfrm flipV="1" rot="10800000">
            <a:off x="1618560" y="2559600"/>
            <a:ext cx="937440" cy="88668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8" idx="1"/>
            <a:endCxn id="576" idx="3"/>
          </p:cNvCxnSpPr>
          <p:nvPr/>
        </p:nvCxnSpPr>
        <p:spPr>
          <a:xfrm rot="10800000">
            <a:off x="1618560" y="3445920"/>
            <a:ext cx="937440" cy="85140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80" idx="1"/>
            <a:endCxn id="577" idx="3"/>
          </p:cNvCxnSpPr>
          <p:nvPr/>
        </p:nvCxnSpPr>
        <p:spPr>
          <a:xfrm flipV="1" rot="10800000">
            <a:off x="3921840" y="2136240"/>
            <a:ext cx="1108800" cy="42480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9" idx="1"/>
            <a:endCxn id="577" idx="3"/>
          </p:cNvCxnSpPr>
          <p:nvPr/>
        </p:nvCxnSpPr>
        <p:spPr>
          <a:xfrm rot="10800000">
            <a:off x="3921840" y="2559960"/>
            <a:ext cx="1108800" cy="64836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984920" y="3949560"/>
            <a:ext cx="1842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8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84920" y="4273560"/>
            <a:ext cx="143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84920" y="4594320"/>
            <a:ext cx="2574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84920" y="4919760"/>
            <a:ext cx="2563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5" idx="1"/>
            <a:endCxn id="578" idx="3"/>
          </p:cNvCxnSpPr>
          <p:nvPr/>
        </p:nvCxnSpPr>
        <p:spPr>
          <a:xfrm flipV="1" rot="10800000">
            <a:off x="3921840" y="4050360"/>
            <a:ext cx="1063080" cy="24660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6" idx="1"/>
            <a:endCxn id="578" idx="3"/>
          </p:cNvCxnSpPr>
          <p:nvPr/>
        </p:nvCxnSpPr>
        <p:spPr>
          <a:xfrm rot="10800000">
            <a:off x="3921840" y="4296600"/>
            <a:ext cx="1063080" cy="784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87" idx="1"/>
            <a:endCxn id="578" idx="3"/>
          </p:cNvCxnSpPr>
          <p:nvPr/>
        </p:nvCxnSpPr>
        <p:spPr>
          <a:xfrm rot="10800000">
            <a:off x="3921840" y="4296600"/>
            <a:ext cx="1063080" cy="39924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1"/>
            <a:endCxn id="578" idx="3"/>
          </p:cNvCxnSpPr>
          <p:nvPr/>
        </p:nvCxnSpPr>
        <p:spPr>
          <a:xfrm rot="10800000">
            <a:off x="3921840" y="4296600"/>
            <a:ext cx="1063080" cy="7246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7099200" y="1733400"/>
            <a:ext cx="225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3080" y="2021040"/>
            <a:ext cx="205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2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99200" y="2347920"/>
            <a:ext cx="1374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93" idx="1"/>
            <a:endCxn id="580" idx="3"/>
          </p:cNvCxnSpPr>
          <p:nvPr/>
        </p:nvCxnSpPr>
        <p:spPr>
          <a:xfrm flipV="1" rot="10800000">
            <a:off x="6226920" y="1834200"/>
            <a:ext cx="872280" cy="30204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94" idx="1"/>
            <a:endCxn id="580" idx="3"/>
          </p:cNvCxnSpPr>
          <p:nvPr/>
        </p:nvCxnSpPr>
        <p:spPr>
          <a:xfrm flipV="1" rot="10800000">
            <a:off x="6226920" y="2121480"/>
            <a:ext cx="866160" cy="1476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5" idx="1"/>
            <a:endCxn id="580" idx="3"/>
          </p:cNvCxnSpPr>
          <p:nvPr/>
        </p:nvCxnSpPr>
        <p:spPr>
          <a:xfrm rot="10800000">
            <a:off x="6226920" y="2135880"/>
            <a:ext cx="872280" cy="31356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7093080" y="2744640"/>
            <a:ext cx="205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4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94520" y="3537000"/>
            <a:ext cx="1941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7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3080" y="3032280"/>
            <a:ext cx="1800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5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4520" y="3278160"/>
            <a:ext cx="1211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6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9" idx="1"/>
            <a:endCxn id="579" idx="3"/>
          </p:cNvCxnSpPr>
          <p:nvPr/>
        </p:nvCxnSpPr>
        <p:spPr>
          <a:xfrm flipV="1" rot="10800000">
            <a:off x="6226920" y="2845440"/>
            <a:ext cx="866160" cy="36252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1" idx="1"/>
            <a:endCxn id="579" idx="3"/>
          </p:cNvCxnSpPr>
          <p:nvPr/>
        </p:nvCxnSpPr>
        <p:spPr>
          <a:xfrm flipV="1" rot="10800000">
            <a:off x="6226920" y="3132720"/>
            <a:ext cx="866160" cy="7524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2" idx="1"/>
            <a:endCxn id="579" idx="3"/>
          </p:cNvCxnSpPr>
          <p:nvPr/>
        </p:nvCxnSpPr>
        <p:spPr>
          <a:xfrm rot="10800000">
            <a:off x="6226920" y="3207600"/>
            <a:ext cx="867600" cy="17208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0" idx="1"/>
            <a:endCxn id="579" idx="3"/>
          </p:cNvCxnSpPr>
          <p:nvPr/>
        </p:nvCxnSpPr>
        <p:spPr>
          <a:xfrm rot="10800000">
            <a:off x="6226920" y="3207600"/>
            <a:ext cx="867600" cy="43092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460160" y="32288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133920" y="6327720"/>
            <a:ext cx="13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n = 3.390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560" y="4076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38960" y="2347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0920" y="40402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22480" y="23414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5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31160" y="192420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31160" y="2995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7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32960" y="3841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3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31160" y="4173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32960" y="4497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32960" y="4821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1640" y="192420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11640" y="30034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2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01600" y="1628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37240" y="1916280"/>
            <a:ext cx="7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3040" y="2239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01600" y="2643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2040" y="34844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03040" y="3184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03040" y="29242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1AB-1393-485C-8FC9-122F4701D9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930240" y="1463760"/>
          <a:ext cx="784080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463760"/>
                    <a:ext cx="78408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3341520" y="1506600"/>
            <a:ext cx="29718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48760" y="13255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16200" y="132552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06480" y="1268280"/>
            <a:ext cx="228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Peso/ nivel de importancia del atributo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47760" y="3349800"/>
            <a:ext cx="7410600" cy="288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72120" y="1909800"/>
            <a:ext cx="0" cy="314964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23960" y="2573280"/>
            <a:ext cx="0" cy="20574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2160" y="20779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8240" y="485928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rot="10800000">
            <a:off x="394200" y="2790360"/>
            <a:ext cx="317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% Insatisfacción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59600" y="4357800"/>
            <a:ext cx="6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93200" y="1477800"/>
            <a:ext cx="42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Baj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162640" y="1465200"/>
            <a:ext cx="3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Alt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0084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2120" y="3351240"/>
            <a:ext cx="2521080" cy="173844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58770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336666"/>
                </a:solidFill>
                <a:latin typeface="Arial"/>
              </a:rPr>
              <a:t>R2=0,60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27640" y="4379760"/>
            <a:ext cx="7128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29200" y="3422520"/>
            <a:ext cx="7164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016840" y="2846520"/>
            <a:ext cx="71640" cy="712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22680" y="4086360"/>
            <a:ext cx="21600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546680" y="2868480"/>
            <a:ext cx="360360" cy="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000840" y="3133800"/>
            <a:ext cx="14436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47760" y="3351240"/>
            <a:ext cx="4826160" cy="1738440"/>
          </a:xfrm>
          <a:prstGeom prst="rect">
            <a:avLst/>
          </a:prstGeom>
          <a:noFill/>
          <a:ln w="22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7648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99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A52-7464-4F26-BE74-BAC9584E10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00240" y="4214880"/>
            <a:ext cx="164448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MENTA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2520" y="2639880"/>
            <a:ext cx="1800" cy="25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2440" y="2892600"/>
            <a:ext cx="144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2960" y="2892600"/>
            <a:ext cx="180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2440" y="2892600"/>
            <a:ext cx="163008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2520" y="2892600"/>
            <a:ext cx="16304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3708360"/>
            <a:ext cx="144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3962520"/>
            <a:ext cx="32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352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3080" y="3962520"/>
            <a:ext cx="8193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62440" y="3962520"/>
            <a:ext cx="811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480" y="4303800"/>
            <a:ext cx="144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lomerat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4214880"/>
            <a:ext cx="164628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8480" y="4302000"/>
            <a:ext cx="9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9000" y="3233880"/>
            <a:ext cx="117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2960" y="3708360"/>
            <a:ext cx="180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2160" y="3962520"/>
            <a:ext cx="180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3260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2160" y="3962520"/>
            <a:ext cx="82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2960" y="3962520"/>
            <a:ext cx="809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67640" y="4302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0" y="430200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u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20880" y="3233880"/>
            <a:ext cx="15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2080" y="2163600"/>
            <a:ext cx="209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todos Agrup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78C-B020-4745-898E-6EE5A57AE6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1040" y="1978200"/>
            <a:ext cx="2663640" cy="2302920"/>
            <a:chOff x="311040" y="1978200"/>
            <a:chExt cx="2663640" cy="2302920"/>
          </a:xfrm>
        </p:grpSpPr>
        <p:sp>
          <p:nvSpPr>
            <p:cNvPr id="139" name=""/>
            <p:cNvSpPr/>
            <p:nvPr/>
          </p:nvSpPr>
          <p:spPr>
            <a:xfrm>
              <a:off x="3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9212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068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9" idx="0"/>
              <a:endCxn id="140" idx="0"/>
            </p:cNvCxnSpPr>
            <p:nvPr/>
          </p:nvCxnSpPr>
          <p:spPr>
            <a:xfrm flipH="1" rot="16200000">
              <a:off x="561600" y="39564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8" name=""/>
            <p:cNvCxnSpPr>
              <a:stCxn id="142" idx="0"/>
              <a:endCxn id="141" idx="0"/>
            </p:cNvCxnSpPr>
            <p:nvPr/>
          </p:nvCxnSpPr>
          <p:spPr>
            <a:xfrm flipH="1" rot="16200000">
              <a:off x="1282320" y="39564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9" name=""/>
            <p:cNvCxnSpPr/>
            <p:nvPr/>
          </p:nvCxnSpPr>
          <p:spPr>
            <a:xfrm rot="5400000">
              <a:off x="2721960" y="39531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50" name=""/>
            <p:cNvCxnSpPr>
              <a:stCxn id="143" idx="0"/>
              <a:endCxn id="144" idx="0"/>
            </p:cNvCxnSpPr>
            <p:nvPr/>
          </p:nvCxnSpPr>
          <p:spPr>
            <a:xfrm flipH="1" rot="16200000">
              <a:off x="2001600" y="39564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 flipV="1">
              <a:off x="1998360" y="33429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95480" y="33400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12960" y="33354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327040" y="19782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7400" y="19782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080" y="21207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480" y="21160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240" y="21207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600" y="19782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32760" y="440064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Cinco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200" y="437364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Tre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195640"/>
            <a:ext cx="252900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27480" y="1983960"/>
            <a:ext cx="2663640" cy="2304000"/>
            <a:chOff x="3327480" y="1983960"/>
            <a:chExt cx="2663640" cy="2304000"/>
          </a:xfrm>
        </p:grpSpPr>
        <p:sp>
          <p:nvSpPr>
            <p:cNvPr id="164" name=""/>
            <p:cNvSpPr/>
            <p:nvPr/>
          </p:nvSpPr>
          <p:spPr>
            <a:xfrm>
              <a:off x="33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0856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6712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4" idx="0"/>
              <a:endCxn id="165" idx="0"/>
            </p:cNvCxnSpPr>
            <p:nvPr/>
          </p:nvCxnSpPr>
          <p:spPr>
            <a:xfrm flipH="1" rot="16200000">
              <a:off x="3578040" y="3963960"/>
              <a:ext cx="216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3" name=""/>
            <p:cNvCxnSpPr>
              <a:stCxn id="167" idx="0"/>
              <a:endCxn id="166" idx="0"/>
            </p:cNvCxnSpPr>
            <p:nvPr/>
          </p:nvCxnSpPr>
          <p:spPr>
            <a:xfrm flipH="1" rot="16200000">
              <a:off x="4298760" y="3963960"/>
              <a:ext cx="216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4" name=""/>
            <p:cNvCxnSpPr/>
            <p:nvPr/>
          </p:nvCxnSpPr>
          <p:spPr>
            <a:xfrm rot="5400000">
              <a:off x="5738040" y="3960720"/>
              <a:ext cx="216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5" name=""/>
            <p:cNvCxnSpPr>
              <a:stCxn id="168" idx="0"/>
              <a:endCxn id="169" idx="0"/>
            </p:cNvCxnSpPr>
            <p:nvPr/>
          </p:nvCxnSpPr>
          <p:spPr>
            <a:xfrm flipH="1" rot="16200000">
              <a:off x="5018040" y="3963960"/>
              <a:ext cx="216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76" name=""/>
            <p:cNvSpPr/>
            <p:nvPr/>
          </p:nvSpPr>
          <p:spPr>
            <a:xfrm flipV="1">
              <a:off x="5014800" y="3349800"/>
              <a:ext cx="0" cy="28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1920" y="334656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9400" y="3341880"/>
              <a:ext cx="0" cy="504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343480" y="1983960"/>
              <a:ext cx="0" cy="136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3840" y="198432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4520" y="212724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9920" y="2122560"/>
              <a:ext cx="0" cy="14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5680" y="2127240"/>
              <a:ext cx="0" cy="2890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02040" y="1984320"/>
              <a:ext cx="0" cy="142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14800" y="267804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67600" y="1990800"/>
            <a:ext cx="2663640" cy="2302920"/>
            <a:chOff x="6267600" y="1990800"/>
            <a:chExt cx="2663640" cy="2302920"/>
          </a:xfrm>
        </p:grpSpPr>
        <p:sp>
          <p:nvSpPr>
            <p:cNvPr id="187" name=""/>
            <p:cNvSpPr/>
            <p:nvPr/>
          </p:nvSpPr>
          <p:spPr>
            <a:xfrm>
              <a:off x="62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868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0724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7" idx="0"/>
              <a:endCxn id="188" idx="0"/>
            </p:cNvCxnSpPr>
            <p:nvPr/>
          </p:nvCxnSpPr>
          <p:spPr>
            <a:xfrm flipH="1" rot="16200000">
              <a:off x="6518160" y="39690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6" name=""/>
            <p:cNvCxnSpPr>
              <a:stCxn id="190" idx="0"/>
              <a:endCxn id="189" idx="0"/>
            </p:cNvCxnSpPr>
            <p:nvPr/>
          </p:nvCxnSpPr>
          <p:spPr>
            <a:xfrm flipH="1" rot="16200000">
              <a:off x="7238880" y="39690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 rot="5400000">
              <a:off x="8678520" y="39657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8" name=""/>
            <p:cNvCxnSpPr>
              <a:stCxn id="191" idx="0"/>
              <a:endCxn id="192" idx="0"/>
            </p:cNvCxnSpPr>
            <p:nvPr/>
          </p:nvCxnSpPr>
          <p:spPr>
            <a:xfrm flipH="1" rot="16200000">
              <a:off x="7958160" y="39690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7954920" y="33555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2040" y="33526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69520" y="33480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83600" y="19908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960" y="19908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4640" y="21333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0040" y="21286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35800" y="21333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2160" y="19908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07200" y="205596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0160" y="43876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DB8-6624-4228-98BC-E23BCE135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643040" y="1295280"/>
          <a:ext cx="603900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295280"/>
                    <a:ext cx="60390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089-335C-4DB9-8F4B-EC5E9F93B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04880" y="1339920"/>
          <a:ext cx="384804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39920"/>
                    <a:ext cx="384804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034040" y="4371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760" y="413856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96280" y="4529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086240" y="4186080"/>
            <a:ext cx="243000" cy="243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19880" y="3519360"/>
            <a:ext cx="790560" cy="790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29600" y="4191120"/>
            <a:ext cx="233280" cy="399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081920" y="4433760"/>
            <a:ext cx="480960" cy="147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915240" y="4509720"/>
            <a:ext cx="395280" cy="1452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438680" y="3753000"/>
            <a:ext cx="1157400" cy="614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17200">
            <a:off x="4373640" y="3279600"/>
            <a:ext cx="844560" cy="749520"/>
          </a:xfrm>
          <a:prstGeom prst="rightArrow">
            <a:avLst>
              <a:gd name="adj1" fmla="val 50000"/>
              <a:gd name="adj2" fmla="val 281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502-A07A-41DD-B532-3BF42786E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1200" y="432432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3800" y="14032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14032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960560" y="25923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13000" y="22068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7280" y="322092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417760" y="1653840"/>
            <a:ext cx="371520" cy="120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895480"/>
            <a:ext cx="514440" cy="1067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4840" y="2453760"/>
            <a:ext cx="1499760" cy="435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08080" y="2259000"/>
            <a:ext cx="1571760" cy="1019160"/>
          </a:xfrm>
          <a:custGeom>
            <a:avLst/>
            <a:gdLst/>
            <a:ahLst/>
            <a:rect l="l" t="t" r="r" b="b"/>
            <a:pathLst>
              <a:path w="990" h="642">
                <a:moveTo>
                  <a:pt x="0" y="243"/>
                </a:moveTo>
                <a:lnTo>
                  <a:pt x="792" y="0"/>
                </a:lnTo>
                <a:lnTo>
                  <a:pt x="990" y="642"/>
                </a:lnTo>
                <a:lnTo>
                  <a:pt x="0" y="243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17200">
            <a:off x="4246200" y="3360240"/>
            <a:ext cx="984240" cy="749520"/>
          </a:xfrm>
          <a:prstGeom prst="rightArrow">
            <a:avLst>
              <a:gd name="adj1" fmla="val 50000"/>
              <a:gd name="adj2" fmla="val 32829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FAE-13CC-4473-8670-8D6C44C86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100920" y="433404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4920" y="40053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43720" y="402444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38840" y="409104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6960" y="44625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0160" y="450072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0280" y="39528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67320" y="414324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6840" y="428616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72120" y="46674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483876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0680" y="478620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548640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72480" y="533412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43720" y="515304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00960" y="532440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2960" y="49863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82040" y="4924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67800" y="5005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51484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1400" y="581508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34160" y="58341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578628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34040" y="436716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91440" y="41432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67560" y="4052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00960" y="453384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3960" y="4133880"/>
            <a:ext cx="9972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1400" y="428616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992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2000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1840" y="4133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87440" y="12826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12826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568520" y="2324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16080" y="229068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21120" y="340524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334960" y="1533600"/>
            <a:ext cx="14040" cy="1319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6680" y="284472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0720" y="2343240"/>
            <a:ext cx="146232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49360" y="2843280"/>
            <a:ext cx="1581120" cy="9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17200">
            <a:off x="3943080" y="3331800"/>
            <a:ext cx="1344600" cy="749160"/>
          </a:xfrm>
          <a:prstGeom prst="rightArrow">
            <a:avLst>
              <a:gd name="adj1" fmla="val 50000"/>
              <a:gd name="adj2" fmla="val 448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8BA-54F1-4B25-9F7F-9FAA28923E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jerárquicos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336666"/>
                </a:solidFill>
                <a:latin typeface="Arial"/>
              </a:rPr>
              <a:t>De una iteración a otra, se modifica el valor de pertenencia a grupos de un único objeto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no jerárquicos: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Se tiene un número de grupos predefinidos y cada objeto se ubica en un grupo hasta alcanzar estabilidad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A18-CBC0-4FBE-ACEA-176A51F1AE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08:32Z</dcterms:created>
  <dc:creator>Gonzalo León O.</dc:creator>
  <dc:description/>
  <dc:language>en-US</dc:language>
  <cp:lastModifiedBy>Gonzalo</cp:lastModifiedBy>
  <dcterms:modified xsi:type="dcterms:W3CDTF">2007-10-29T03:51:18Z</dcterms:modified>
  <cp:revision>37</cp:revision>
  <dc:subject/>
  <dc:title>Diapositiva 1</dc:title>
</cp:coreProperties>
</file>