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AFF-211F-4A8F-AEC7-3AD15C69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55640" y="385308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968-4F30-46CF-B1A6-78E318F8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156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179-7E76-4BFD-BA02-4F93CA9D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8580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596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5564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8580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596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AC8-54A8-428B-BFD8-7EBFF25A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5AC9-7683-486D-90BF-6CE7E7C8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31B0-1DAB-4779-8806-4EAEA077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DF4C-D2FA-4A01-BA96-4FC4FD4E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0686-7D11-4E72-82F3-55F65E84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666B-2582-4DB7-A0CD-C59B624C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95280" y="190080"/>
            <a:ext cx="835344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99E4-CF8B-4A1F-B45B-861CC1C9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3530-E7D5-4770-9975-D44A1A9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129-2636-4012-97A7-F2C76FE9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156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D918-50FC-4EA5-920D-88A4E75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3395-09D3-4EFE-82D0-BF41A8E3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5640" y="385308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0824-171B-4961-A9EB-52DA1021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4156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B632-119A-41DE-9C15-D9EBD701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8580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596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5564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8580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596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9E00-09E4-4F47-A47E-877B6E75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F97-3534-4223-96CF-1675F48A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F61-4EAE-4C06-97E3-70A0A6DF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525-C179-4661-8333-7C132047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5280" y="190080"/>
            <a:ext cx="835344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CB2-BD9D-4A77-B307-F26EEFE6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773-5B10-4E1E-8E59-2F013A3B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156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B0D-8137-46BF-8E5D-A050D4E9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1D8-4DF8-4ADE-B4B0-0247437D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2600" y="6237360"/>
            <a:ext cx="9156600" cy="62064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42640" y="6500880"/>
            <a:ext cx="19047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CD42-656A-430E-BFC4-FAA2BC4C779A}" type="datetime3"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36160" y="6284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779640" y="6381360"/>
            <a:ext cx="1618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FEB9-3A9B-4E38-9484-DD317C85A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40464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40464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00000" y="40464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20320" y="6500880"/>
            <a:ext cx="12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PRIMAVERA 2007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569360" y="6308640"/>
            <a:ext cx="153972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45EA-2E03-44DE-B071-9129031C1A17}" type="datetime3"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July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AA1A-1C54-48A3-BDA0-1432799EF82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4160" y="5392800"/>
            <a:ext cx="1438200" cy="1276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90040" y="62373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"/>
              </a:rPr>
              <a:t>PRIMAVERA 2007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N580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NVESTIGACIÓN DE MERCAD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3790800"/>
            <a:ext cx="6325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6666"/>
                </a:solidFill>
                <a:latin typeface="Arial"/>
              </a:rPr>
              <a:t>Auxiliar Nº 5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étodos Multivariados para la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vestigación de Mercados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5330880"/>
            <a:ext cx="23400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Auxiliar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Gonzalo Leó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Jerárquicos aglomerativos: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Inicialmente cada objeto es un grupo y en cada iteración se juntan los grupos mas similare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 pro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 más lej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 más cerc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Jerárquicos divisivos: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nicialmente se tiene un único grupo y en cada división se separa un grup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Árboles de Desi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C5A-53B9-4A1B-8427-3647C255A1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No Jerárquicos Discretos: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ada objeto sólo puede pertenecer a un único grupo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K-Mea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No Jerárquicos Difusos: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ada objeto tiene un grado de pertenencia a cada uno de los grup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zzy C-Mea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BCB-3E4D-4732-8F6F-1F870AE751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NALISIS DISCRIMIN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62800" y="1634760"/>
            <a:ext cx="4694760" cy="4173120"/>
            <a:chOff x="262800" y="1634760"/>
            <a:chExt cx="4694760" cy="4173120"/>
          </a:xfrm>
        </p:grpSpPr>
        <p:sp>
          <p:nvSpPr>
            <p:cNvPr id="305" name=""/>
            <p:cNvSpPr/>
            <p:nvPr/>
          </p:nvSpPr>
          <p:spPr>
            <a:xfrm flipV="1">
              <a:off x="729720" y="1634760"/>
              <a:ext cx="0" cy="3765960"/>
            </a:xfrm>
            <a:prstGeom prst="line">
              <a:avLst/>
            </a:prstGeom>
            <a:ln w="93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1960" y="5401080"/>
              <a:ext cx="4215600" cy="0"/>
            </a:xfrm>
            <a:prstGeom prst="line">
              <a:avLst/>
            </a:prstGeom>
            <a:ln w="93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73080" y="1943640"/>
              <a:ext cx="89280" cy="115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45800" y="24242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34320" y="253008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06440" y="26874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7840" y="29617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67080" y="29509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1920" y="474732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44760" y="312768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79520" y="291924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94680" y="314424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3800" y="33865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82240" y="35179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57680" y="21614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88000" y="22928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2840" y="408960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48600" y="4343040"/>
              <a:ext cx="8964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74080" y="474732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487872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0200" y="324648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07000" y="418428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90480" y="35100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63880" y="48747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1800" y="1996920"/>
              <a:ext cx="89280" cy="115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77360" y="449244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07600" y="466092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85440" y="22147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5760" y="234648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50600" y="414288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36400" y="48747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00320" y="488304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25760" y="3250800"/>
              <a:ext cx="89280" cy="115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34000" y="32425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91440" y="505980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25840" y="48513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27560" y="267516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57880" y="28069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27840" y="25394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55320" y="27284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85640" y="28602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2960" y="232596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03280" y="245736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40240" y="543960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6666"/>
                  </a:solidFill>
                  <a:latin typeface="Tahoma"/>
                </a:rPr>
                <a:t>x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2800" y="179280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6666"/>
                  </a:solidFill>
                  <a:latin typeface="Tahoma"/>
                </a:rPr>
                <a:t>x2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907200" y="2581920"/>
              <a:ext cx="3191040" cy="2187000"/>
            </a:xfrm>
            <a:prstGeom prst="line">
              <a:avLst/>
            </a:prstGeom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91200" y="34934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21520" y="36248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51840" y="37566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62640" y="33357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98200" y="391680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28160" y="40485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31720" y="383040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60160" y="404424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15200" y="422928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5640" y="44870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80400" y="42732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10720" y="4404960"/>
              <a:ext cx="89280" cy="115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363" name="" descr=""/>
          <p:cNvPicPr/>
          <p:nvPr/>
        </p:nvPicPr>
        <p:blipFill>
          <a:blip r:embed="rId1"/>
          <a:srcRect l="29957" t="12874" r="9083" b="10480"/>
          <a:stretch/>
        </p:blipFill>
        <p:spPr>
          <a:xfrm>
            <a:off x="6227640" y="1317600"/>
            <a:ext cx="2819520" cy="24717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rcRect l="24708" t="15356" r="3160" b="19295"/>
          <a:stretch/>
        </p:blipFill>
        <p:spPr>
          <a:xfrm>
            <a:off x="5796000" y="3924360"/>
            <a:ext cx="3276720" cy="18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E50-F480-44F3-9EF7-86887AECFF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NALISIS DISCRIMIN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6666"/>
                </a:solidFill>
                <a:latin typeface="Arial"/>
              </a:rPr>
              <a:t>El </a:t>
            </a:r>
            <a:r>
              <a:rPr b="1" lang="es-CL" sz="2200" spc="-1" strike="noStrike">
                <a:solidFill>
                  <a:srgbClr val="336666"/>
                </a:solidFill>
                <a:latin typeface="Arial"/>
              </a:rPr>
              <a:t>análisis discriminante</a:t>
            </a:r>
            <a:r>
              <a:rPr b="0" lang="es-CL" sz="2200" spc="-1" strike="noStrike">
                <a:solidFill>
                  <a:srgbClr val="336666"/>
                </a:solidFill>
                <a:latin typeface="Arial"/>
              </a:rPr>
              <a:t> es una técnica para analizar los datos cuando se tiene una variable dependiente categórica y un conjunto de variables independientes (o de predicción) de intervalo o relación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012-3FF6-4C1F-A4C2-B47B29ED02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NALISIS DISCRIMIN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6666"/>
                </a:solidFill>
                <a:latin typeface="Arial"/>
              </a:rPr>
              <a:t>Método directo:</a:t>
            </a:r>
            <a:r>
              <a:rPr b="0" lang="es-CL" sz="2200" spc="-1" strike="noStrike">
                <a:solidFill>
                  <a:srgbClr val="336666"/>
                </a:solidFill>
                <a:latin typeface="Arial"/>
              </a:rPr>
              <a:t> todas las variables de predicción se incluyen simultáneament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ando es apropiado que la clasificación se base en todas l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6666"/>
                </a:solidFill>
                <a:latin typeface="Arial"/>
              </a:rPr>
              <a:t>Método discreto:</a:t>
            </a:r>
            <a:r>
              <a:rPr b="0" lang="es-CL" sz="2200" spc="-1" strike="noStrike">
                <a:solidFill>
                  <a:srgbClr val="336666"/>
                </a:solidFill>
                <a:latin typeface="Arial"/>
              </a:rPr>
              <a:t> las variables de predicción entran al modelo de manera secuencial de acuerdo a su capacidad de discriminación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as variables discriminan entre los grupos más que otras, las cuales tienen la prioridad de ser incluidas en el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E18-88D6-485B-ACC3-B190225721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1690560"/>
            <a:ext cx="217476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Posicionamiento de marc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22760" y="1692360"/>
            <a:ext cx="165564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Imagen de marc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59560" y="1708200"/>
            <a:ext cx="165564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Valor de marc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56000" y="1978200"/>
            <a:ext cx="11523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78400" y="1979640"/>
            <a:ext cx="1152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278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alor o capital de marca está íntimamente relacionado con la rentabilidad de largo plazo que la marca entrega a los accionistas de la empresa a la cual pertene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57F-94B7-4D92-8B69-CEACB65E9F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9160" y="1027080"/>
            <a:ext cx="8643960" cy="4849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e7f2c5"/>
              </a:gs>
              <a:gs pos="100000">
                <a:srgbClr val="99cc00"/>
              </a:gs>
            </a:gsLst>
            <a:lin ang="13500000"/>
          </a:gradFill>
          <a:ln w="11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367080" y="1031760"/>
            <a:ext cx="5726160" cy="4845240"/>
            <a:chOff x="3367080" y="1031760"/>
            <a:chExt cx="5726160" cy="4845240"/>
          </a:xfrm>
        </p:grpSpPr>
        <p:sp>
          <p:nvSpPr>
            <p:cNvPr id="378" name=""/>
            <p:cNvSpPr/>
            <p:nvPr/>
          </p:nvSpPr>
          <p:spPr>
            <a:xfrm>
              <a:off x="8399520" y="3711600"/>
              <a:ext cx="693720" cy="365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336666"/>
                  </a:solidFill>
                  <a:latin typeface="Arial"/>
                </a:rPr>
                <a:t>d3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89400" y="5648400"/>
              <a:ext cx="105552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336666"/>
                  </a:solidFill>
                  <a:latin typeface="Arial"/>
                </a:rPr>
                <a:t>d2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7080" y="1031760"/>
              <a:ext cx="10666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336666"/>
                  </a:solidFill>
                  <a:latin typeface="Arial"/>
                </a:rPr>
                <a:t>d1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19160" y="1027080"/>
            <a:ext cx="86439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03840" y="1027080"/>
            <a:ext cx="1440" cy="4849920"/>
          </a:xfrm>
          <a:prstGeom prst="line">
            <a:avLst/>
          </a:prstGeom>
          <a:ln w="11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9160" y="3871800"/>
            <a:ext cx="8643960" cy="1800"/>
          </a:xfrm>
          <a:prstGeom prst="line">
            <a:avLst/>
          </a:prstGeom>
          <a:ln w="11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61640" y="1251000"/>
            <a:ext cx="8591760" cy="4556160"/>
            <a:chOff x="161640" y="1251000"/>
            <a:chExt cx="8591760" cy="4556160"/>
          </a:xfrm>
        </p:grpSpPr>
        <p:sp>
          <p:nvSpPr>
            <p:cNvPr id="385" name=""/>
            <p:cNvSpPr/>
            <p:nvPr/>
          </p:nvSpPr>
          <p:spPr>
            <a:xfrm>
              <a:off x="3079800" y="1251000"/>
              <a:ext cx="103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3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58960" y="1917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2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2480" y="2025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1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60280" y="3476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7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74640" y="42926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6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1640" y="5092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8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15840" y="5560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9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59200" y="5467320"/>
              <a:ext cx="94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10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7800" y="5533920"/>
              <a:ext cx="42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11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4400" y="1969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4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46920" y="1330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5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647200" y="559908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26400" y="225576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4160" y="2190600"/>
              <a:ext cx="10656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4" y="0"/>
                  </a:moveTo>
                  <a:lnTo>
                    <a:pt x="67" y="29"/>
                  </a:lnTo>
                  <a:lnTo>
                    <a:pt x="34" y="58"/>
                  </a:lnTo>
                  <a:lnTo>
                    <a:pt x="0" y="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49480" y="230184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05120" y="3613320"/>
              <a:ext cx="106200" cy="918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4" y="0"/>
                  </a:moveTo>
                  <a:lnTo>
                    <a:pt x="67" y="29"/>
                  </a:lnTo>
                  <a:lnTo>
                    <a:pt x="34" y="58"/>
                  </a:lnTo>
                  <a:lnTo>
                    <a:pt x="0" y="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82760" y="5497560"/>
              <a:ext cx="10656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4" y="0"/>
                  </a:moveTo>
                  <a:lnTo>
                    <a:pt x="67" y="29"/>
                  </a:lnTo>
                  <a:lnTo>
                    <a:pt x="34" y="58"/>
                  </a:lnTo>
                  <a:lnTo>
                    <a:pt x="0" y="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3680" y="5359320"/>
              <a:ext cx="108000" cy="9216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34" y="0"/>
                  </a:moveTo>
                  <a:lnTo>
                    <a:pt x="68" y="29"/>
                  </a:lnTo>
                  <a:lnTo>
                    <a:pt x="34" y="58"/>
                  </a:lnTo>
                  <a:lnTo>
                    <a:pt x="0" y="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52880" y="1414440"/>
              <a:ext cx="106200" cy="9360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33" y="0"/>
                  </a:moveTo>
                  <a:lnTo>
                    <a:pt x="67" y="30"/>
                  </a:lnTo>
                  <a:lnTo>
                    <a:pt x="33" y="59"/>
                  </a:lnTo>
                  <a:lnTo>
                    <a:pt x="0" y="3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647200" y="1414440"/>
              <a:ext cx="106200" cy="9360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33" y="0"/>
                  </a:moveTo>
                  <a:lnTo>
                    <a:pt x="67" y="30"/>
                  </a:lnTo>
                  <a:lnTo>
                    <a:pt x="33" y="59"/>
                  </a:lnTo>
                  <a:lnTo>
                    <a:pt x="0" y="3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24000" y="4416480"/>
              <a:ext cx="10656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5080" y="5608800"/>
              <a:ext cx="106560" cy="918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119920" y="3186000"/>
            <a:ext cx="3315960" cy="1271880"/>
            <a:chOff x="5119920" y="3186000"/>
            <a:chExt cx="3315960" cy="1271880"/>
          </a:xfrm>
        </p:grpSpPr>
        <p:sp>
          <p:nvSpPr>
            <p:cNvPr id="408" name=""/>
            <p:cNvSpPr/>
            <p:nvPr/>
          </p:nvSpPr>
          <p:spPr>
            <a:xfrm>
              <a:off x="6495480" y="3186000"/>
              <a:ext cx="141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Excelente en servicio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00160" y="3503520"/>
              <a:ext cx="154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Innovador en producto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37240" y="3602160"/>
              <a:ext cx="162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Institución que prefiero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19920" y="3800520"/>
              <a:ext cx="148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Innovador en servicio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98840" y="4005360"/>
              <a:ext cx="119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Imagen de Marc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61080" y="3714840"/>
              <a:ext cx="177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336666"/>
                  </a:solidFill>
                  <a:latin typeface="Arial"/>
                </a:rPr>
                <a:t>Canales Atención amistoso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96200" y="3970440"/>
              <a:ext cx="158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Conocimiento del client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90120" y="3900600"/>
              <a:ext cx="13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Tecnología amigabl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64880" y="4078440"/>
              <a:ext cx="13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Facilidad de compr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50920" y="3836880"/>
              <a:ext cx="148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336666"/>
                  </a:solidFill>
                  <a:latin typeface="Arial"/>
                </a:rPr>
                <a:t>Flexible, que se adapt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90720" y="421164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336666"/>
                  </a:solidFill>
                  <a:latin typeface="Arial"/>
                </a:rPr>
                <a:t>Convenient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6960" y="397368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46960" y="393696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04120" y="368784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35800" y="3992400"/>
              <a:ext cx="65160" cy="5580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77040" y="329076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34"/>
                  </a:lnTo>
                  <a:lnTo>
                    <a:pt x="0" y="3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35800" y="3954600"/>
              <a:ext cx="65160" cy="5544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92960" y="404820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34"/>
                  </a:lnTo>
                  <a:lnTo>
                    <a:pt x="0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83240" y="3641760"/>
              <a:ext cx="6372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34"/>
                  </a:lnTo>
                  <a:lnTo>
                    <a:pt x="0" y="3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46960" y="398304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35800" y="3917880"/>
              <a:ext cx="65160" cy="5580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6080" y="378936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898800" y="3348000"/>
            <a:ext cx="2630520" cy="716040"/>
            <a:chOff x="3898800" y="3348000"/>
            <a:chExt cx="2630520" cy="716040"/>
          </a:xfrm>
        </p:grpSpPr>
        <p:sp>
          <p:nvSpPr>
            <p:cNvPr id="431" name=""/>
            <p:cNvSpPr/>
            <p:nvPr/>
          </p:nvSpPr>
          <p:spPr>
            <a:xfrm>
              <a:off x="3916440" y="3892680"/>
              <a:ext cx="2506680" cy="171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905280" y="3348000"/>
              <a:ext cx="2469960" cy="5191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898800" y="3674880"/>
              <a:ext cx="2630520" cy="185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A4C-47FB-4ECB-8307-E3B23E3783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6666"/>
                </a:solidFill>
                <a:latin typeface="Arial"/>
              </a:rPr>
              <a:t>Métodos para análisis de posicionamiento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descomposición: 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descompone las distancias en un conjunto de atributos que están implícitos en estas re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calamiento multidimensional (M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composición: 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generan distancias entre objetos a partir de la evaluación que reciben en un conjunto d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álisis de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Correspo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A26-CA75-46E5-AE23-25F1A1DB50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TERMINACION DE F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Determinación a priori: con anterioridad cuántos factores desea extraer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571680" indent="-571680" algn="just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Determinación a posteriori: basado en criterios matemáticos como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específ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actores con varianza mayor qu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centaje de la varia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actores con varianza explicada acumulada mayor al 7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6D8-F44E-4657-8214-9966C39B66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66"/>
                </a:solidFill>
                <a:latin typeface="Arial"/>
              </a:rPr>
              <a:t>Factor Loadings: Para interpretar los factores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responden a la correlación entre la pregunta y el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6666"/>
                </a:solidFill>
                <a:latin typeface="Arial"/>
              </a:rPr>
              <a:t>Factor Score Coefficient: Para determinar posicionamiento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n conocer los Factor Sc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6666"/>
                </a:solidFill>
                <a:latin typeface="Arial"/>
              </a:rPr>
              <a:t>Factor Score: Para posicionar la marca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sponde a la puntación factorial de la marca en un cierto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C79-ECF1-4371-8B65-390F5BBCFF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DA DE HO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Segmentación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Discriminante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Percepciones y Posicionamiento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Diseño de Productos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Calidad de Servicio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478-54BA-4DD4-A394-2267F7E4C3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ALAMIENTO MULTIDIMENS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66"/>
                </a:solidFill>
                <a:latin typeface="Arial"/>
              </a:rPr>
              <a:t>El objetivo del escalamiento multidimensional es transformar los juicios de similitud de un conjunto de individuos expresados en distancias susceptibles de ser representadas en un espacio multidimensional.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1FF-4CEC-4812-9B53-A59E6F842C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157720" y="2500200"/>
            <a:ext cx="3594240" cy="1098720"/>
          </a:xfrm>
          <a:prstGeom prst="ellipse">
            <a:avLst/>
          </a:prstGeom>
          <a:noFill/>
          <a:ln w="38160">
            <a:solidFill>
              <a:srgbClr val="b50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4040" y="2333520"/>
            <a:ext cx="1625400" cy="757440"/>
          </a:xfrm>
          <a:prstGeom prst="ellipse">
            <a:avLst/>
          </a:prstGeom>
          <a:noFill/>
          <a:ln w="381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57360" y="3797280"/>
            <a:ext cx="2101680" cy="213192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34880" y="777960"/>
            <a:ext cx="8381880" cy="5638680"/>
            <a:chOff x="434880" y="777960"/>
            <a:chExt cx="8381880" cy="5638680"/>
          </a:xfrm>
        </p:grpSpPr>
        <p:sp>
          <p:nvSpPr>
            <p:cNvPr id="447" name=""/>
            <p:cNvSpPr/>
            <p:nvPr/>
          </p:nvSpPr>
          <p:spPr>
            <a:xfrm>
              <a:off x="2949480" y="777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34880" y="1235160"/>
              <a:ext cx="8381880" cy="5181480"/>
              <a:chOff x="434880" y="1235160"/>
              <a:chExt cx="8381880" cy="5181480"/>
            </a:xfrm>
          </p:grpSpPr>
          <p:sp>
            <p:nvSpPr>
              <p:cNvPr id="449" name=""/>
              <p:cNvSpPr/>
              <p:nvPr/>
            </p:nvSpPr>
            <p:spPr>
              <a:xfrm rot="9676800">
                <a:off x="5941440" y="3339720"/>
                <a:ext cx="507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9676800">
                <a:off x="5748120" y="3296880"/>
                <a:ext cx="525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9676800">
                <a:off x="1877760" y="5376600"/>
                <a:ext cx="525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9676800">
                <a:off x="2226960" y="5607000"/>
                <a:ext cx="52560" cy="525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9676800">
                <a:off x="4007520" y="2887560"/>
                <a:ext cx="52200" cy="522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9676800">
                <a:off x="7498800" y="2890800"/>
                <a:ext cx="52200" cy="525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9676800">
                <a:off x="2312640" y="3935160"/>
                <a:ext cx="525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9676800">
                <a:off x="2112480" y="4582800"/>
                <a:ext cx="507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9676800">
                <a:off x="7868880" y="2862000"/>
                <a:ext cx="525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9676800">
                <a:off x="2233080" y="4178160"/>
                <a:ext cx="507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9676800">
                <a:off x="2590560" y="551196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9676800">
                <a:off x="7544520" y="290376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9676800">
                <a:off x="2685240" y="38340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224240" y="1235160"/>
                <a:ext cx="0" cy="5181480"/>
              </a:xfrm>
              <a:prstGeom prst="line">
                <a:avLst/>
              </a:prstGeom>
              <a:ln w="9360">
                <a:solidFill>
                  <a:srgbClr val="336666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4880" y="3911760"/>
                <a:ext cx="8381880" cy="0"/>
              </a:xfrm>
              <a:prstGeom prst="line">
                <a:avLst/>
              </a:prstGeom>
              <a:ln w="9360">
                <a:solidFill>
                  <a:srgbClr val="336666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268360" y="5513400"/>
                <a:ext cx="129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6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594800" y="513252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5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113920" y="458316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4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93120" y="415620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3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285280" y="391176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2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91680" y="266076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1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69960" y="27734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10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084440" y="264312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9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942880" y="329724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7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541120" y="309564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8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692840" y="3954600"/>
                <a:ext cx="1012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6666"/>
                    </a:solidFill>
                    <a:latin typeface="Arial"/>
                  </a:rPr>
                  <a:t>PRESTIGIO</a:t>
                </a:r>
                <a:endParaRPr b="0" lang="en-US" sz="12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38280" y="1268640"/>
                <a:ext cx="1348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6666"/>
                    </a:solidFill>
                    <a:latin typeface="Arial"/>
                  </a:rPr>
                  <a:t>CALIDAD DE</a:t>
                </a:r>
                <a:endParaRPr b="0" lang="en-US" sz="1200" spc="-1" strike="noStrike">
                  <a:solidFill>
                    <a:srgbClr val="3366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6666"/>
                    </a:solidFill>
                    <a:latin typeface="Arial"/>
                  </a:rPr>
                  <a:t>LA EDUCACIÓN</a:t>
                </a:r>
                <a:endParaRPr b="0" lang="en-US" sz="12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1B0-8857-409B-B49B-BC32230663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ALAMIENTO MULTIDIMENS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4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No requiere de una definición previa de atributos</a:t>
            </a: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Permite comprender cómo los individuos perciben los objetos y qué factores se encuentran detrás de estas percepciones.</a:t>
            </a: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  <a:p>
            <a:pPr lvl="1" marL="735480" indent="-282960" algn="just">
              <a:lnSpc>
                <a:spcPct val="140000"/>
              </a:lnSpc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ctores generalmente ocul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no necesita explicitar inicialmente un conjunto de atributos a ser evaluados</a:t>
            </a: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cuando desea explicar la imagen relativa que perciben los consumidores de un conjunto de marcas que participan en una categoría a la cual conoce.</a:t>
            </a: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  <a:p>
            <a:pPr marL="339480" indent="0" algn="just">
              <a:lnSpc>
                <a:spcPct val="14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6D5-EA28-4C4C-A6DE-F1B7BD40AD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NALISIS DE CORRESPON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Describe las relaciones existentes entre marcas o consumidores y las variables asociadas a éste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Se basa en la generación de tablas de contingencia que crucen la información de las filas y las columnas.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as: habitualmente marcas o perfiles d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as: habitualmente atrib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Un algoritmo arroja como resultado dimensiones las cuales explican las posibles relaciones en la tabla de correspondencia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855-C694-44AD-BB4A-D0C23706E9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19400" y="1171440"/>
            <a:ext cx="7542000" cy="4813200"/>
            <a:chOff x="419400" y="1171440"/>
            <a:chExt cx="7542000" cy="481320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532080" y="1171440"/>
              <a:ext cx="7429320" cy="48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532080" y="1171440"/>
              <a:ext cx="742932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2080" y="1171440"/>
              <a:ext cx="7429320" cy="48132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88160" y="1171440"/>
              <a:ext cx="1440" cy="48132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2080" y="3197160"/>
              <a:ext cx="742932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73800" y="4986360"/>
              <a:ext cx="9072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8" y="0"/>
                  </a:moveTo>
                  <a:lnTo>
                    <a:pt x="57" y="28"/>
                  </a:lnTo>
                  <a:lnTo>
                    <a:pt x="28" y="57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751880" y="28130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8" y="0"/>
                  </a:moveTo>
                  <a:lnTo>
                    <a:pt x="57" y="29"/>
                  </a:lnTo>
                  <a:lnTo>
                    <a:pt x="28" y="57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42000" y="294156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29" y="0"/>
                  </a:moveTo>
                  <a:lnTo>
                    <a:pt x="58" y="28"/>
                  </a:lnTo>
                  <a:lnTo>
                    <a:pt x="29" y="57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43600" y="3481200"/>
              <a:ext cx="9036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9" y="0"/>
                  </a:moveTo>
                  <a:lnTo>
                    <a:pt x="57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29280" y="244620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0"/>
                  </a:moveTo>
                  <a:lnTo>
                    <a:pt x="57" y="29"/>
                  </a:lnTo>
                  <a:lnTo>
                    <a:pt x="29" y="57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97480" y="20048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65680" y="24825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01000" y="214308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92440" y="325260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57" y="29"/>
                  </a:lnTo>
                  <a:lnTo>
                    <a:pt x="28" y="58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23120" y="4921200"/>
              <a:ext cx="90360" cy="918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57" y="29"/>
                  </a:lnTo>
                  <a:lnTo>
                    <a:pt x="28" y="58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23640" y="316044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Flexibl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69800" y="2392200"/>
              <a:ext cx="72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 apoyo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8440" y="1914480"/>
              <a:ext cx="84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 escuch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77520" y="2344680"/>
              <a:ext cx="93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Que resuelv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11640" y="2850840"/>
              <a:ext cx="6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Cercan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95080" y="3375000"/>
              <a:ext cx="70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mistos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46960" y="4821120"/>
              <a:ext cx="81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novador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22920" y="4898880"/>
              <a:ext cx="70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activ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17920" y="2068200"/>
              <a:ext cx="7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Confiabl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26200" y="2717640"/>
              <a:ext cx="62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Segur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48280" y="1849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d2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816120" y="1468440"/>
              <a:ext cx="5656320" cy="4235400"/>
              <a:chOff x="816120" y="1468440"/>
              <a:chExt cx="5656320" cy="4235400"/>
            </a:xfrm>
          </p:grpSpPr>
          <p:sp>
            <p:nvSpPr>
              <p:cNvPr id="509" name=""/>
              <p:cNvSpPr/>
              <p:nvPr/>
            </p:nvSpPr>
            <p:spPr>
              <a:xfrm>
                <a:off x="833040" y="2682720"/>
                <a:ext cx="79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NINGUNA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816120" y="1468440"/>
                <a:ext cx="5656320" cy="4235400"/>
                <a:chOff x="816120" y="1468440"/>
                <a:chExt cx="5656320" cy="42354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924440" y="2730240"/>
                  <a:ext cx="90720" cy="9216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29" y="0"/>
                      </a:moveTo>
                      <a:lnTo>
                        <a:pt x="57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031080" y="209700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583240" y="2638440"/>
                  <a:ext cx="90720" cy="9180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29" y="0"/>
                      </a:moveTo>
                      <a:lnTo>
                        <a:pt x="57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123240" y="2509560"/>
                  <a:ext cx="90360" cy="9216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29" y="0"/>
                      </a:moveTo>
                      <a:lnTo>
                        <a:pt x="57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905360" y="350028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473800" y="3701880"/>
                  <a:ext cx="90720" cy="9216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28" y="0"/>
                      </a:moveTo>
                      <a:lnTo>
                        <a:pt x="57" y="58"/>
                      </a:lnTo>
                      <a:lnTo>
                        <a:pt x="0" y="5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259680" y="3106440"/>
                  <a:ext cx="92160" cy="90720"/>
                </a:xfrm>
                <a:custGeom>
                  <a:avLst/>
                  <a:gdLst/>
                  <a:ahLst/>
                  <a:rect l="l" t="t" r="r" b="b"/>
                  <a:pathLst>
                    <a:path w="58" h="57">
                      <a:moveTo>
                        <a:pt x="29" y="0"/>
                      </a:moveTo>
                      <a:lnTo>
                        <a:pt x="58" y="57"/>
                      </a:lnTo>
                      <a:lnTo>
                        <a:pt x="0" y="5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822920" y="505908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454720" y="5518080"/>
                  <a:ext cx="92160" cy="90360"/>
                </a:xfrm>
                <a:custGeom>
                  <a:avLst/>
                  <a:gdLst/>
                  <a:ahLst/>
                  <a:rect l="l" t="t" r="r" b="b"/>
                  <a:pathLst>
                    <a:path w="58" h="57">
                      <a:moveTo>
                        <a:pt x="29" y="0"/>
                      </a:moveTo>
                      <a:lnTo>
                        <a:pt x="58" y="57"/>
                      </a:lnTo>
                      <a:lnTo>
                        <a:pt x="0" y="5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921640" y="5333760"/>
                  <a:ext cx="91800" cy="921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319640" y="3473280"/>
                  <a:ext cx="92160" cy="90360"/>
                </a:xfrm>
                <a:custGeom>
                  <a:avLst/>
                  <a:gdLst/>
                  <a:ahLst/>
                  <a:rect l="l" t="t" r="r" b="b"/>
                  <a:pathLst>
                    <a:path w="58" h="57">
                      <a:moveTo>
                        <a:pt x="29" y="0"/>
                      </a:moveTo>
                      <a:lnTo>
                        <a:pt x="58" y="57"/>
                      </a:lnTo>
                      <a:lnTo>
                        <a:pt x="0" y="5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666040" y="1630080"/>
                  <a:ext cx="90360" cy="90720"/>
                </a:xfrm>
                <a:custGeom>
                  <a:avLst/>
                  <a:gdLst/>
                  <a:ahLst/>
                  <a:rect l="l" t="t" r="r" b="b"/>
                  <a:pathLst>
                    <a:path w="57" h="57">
                      <a:moveTo>
                        <a:pt x="28" y="0"/>
                      </a:moveTo>
                      <a:lnTo>
                        <a:pt x="57" y="57"/>
                      </a:lnTo>
                      <a:lnTo>
                        <a:pt x="0" y="57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16120" y="2776320"/>
                  <a:ext cx="92160" cy="90720"/>
                </a:xfrm>
                <a:custGeom>
                  <a:avLst/>
                  <a:gdLst/>
                  <a:ahLst/>
                  <a:rect l="l" t="t" r="r" b="b"/>
                  <a:pathLst>
                    <a:path w="58" h="57">
                      <a:moveTo>
                        <a:pt x="29" y="0"/>
                      </a:moveTo>
                      <a:lnTo>
                        <a:pt x="58" y="57"/>
                      </a:lnTo>
                      <a:lnTo>
                        <a:pt x="0" y="5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653440" y="1468440"/>
                  <a:ext cx="616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TODAS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151680" y="243360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1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141960" y="315576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8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157720" y="242244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3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226040" y="264636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4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484960" y="3612960"/>
                  <a:ext cx="355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7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430440" y="339228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5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343400" y="354780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6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281480" y="5011560"/>
                  <a:ext cx="390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12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930920" y="545760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9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262480" y="5267160"/>
                  <a:ext cx="425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10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"/>
            <p:cNvSpPr/>
            <p:nvPr/>
          </p:nvSpPr>
          <p:spPr>
            <a:xfrm>
              <a:off x="419400" y="1893600"/>
              <a:ext cx="2928960" cy="1995480"/>
            </a:xfrm>
            <a:prstGeom prst="ellipse">
              <a:avLst/>
            </a:prstGeom>
            <a:noFill/>
            <a:ln w="1260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81840" y="1191960"/>
              <a:ext cx="2743200" cy="1538280"/>
            </a:xfrm>
            <a:prstGeom prst="ellipse">
              <a:avLst/>
            </a:prstGeom>
            <a:noFill/>
            <a:ln w="1260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50B-9FCC-449B-A5B3-15578C6905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EÑO DE PRODU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0920" y="4214880"/>
            <a:ext cx="7333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l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58920" y="4214880"/>
            <a:ext cx="95868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t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24320" y="2077920"/>
            <a:ext cx="2336760" cy="5619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3146400"/>
            <a:ext cx="12636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85080" y="323388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02080" y="2163600"/>
            <a:ext cx="211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ño de Product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4320" y="2077920"/>
            <a:ext cx="2336760" cy="561960"/>
          </a:xfrm>
          <a:prstGeom prst="rect">
            <a:avLst/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38" idx="0"/>
            <a:endCxn id="541" idx="2"/>
          </p:cNvCxnSpPr>
          <p:nvPr/>
        </p:nvCxnSpPr>
        <p:spPr>
          <a:xfrm flipH="1" flipV="1" rot="5400000">
            <a:off x="676800" y="3648240"/>
            <a:ext cx="506880" cy="62604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46" name=""/>
          <p:cNvCxnSpPr>
            <a:stCxn id="539" idx="0"/>
            <a:endCxn id="541" idx="2"/>
          </p:cNvCxnSpPr>
          <p:nvPr/>
        </p:nvCxnSpPr>
        <p:spPr>
          <a:xfrm flipV="1" rot="16200000">
            <a:off x="1237320" y="3713040"/>
            <a:ext cx="506880" cy="49608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547" name=""/>
          <p:cNvSpPr/>
          <p:nvPr/>
        </p:nvSpPr>
        <p:spPr>
          <a:xfrm>
            <a:off x="2363760" y="4222800"/>
            <a:ext cx="7333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l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48000" y="4222800"/>
            <a:ext cx="9367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t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27280" y="3154320"/>
            <a:ext cx="13590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43640" y="324180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51" name=""/>
          <p:cNvCxnSpPr>
            <a:stCxn id="547" idx="0"/>
            <a:endCxn id="549" idx="2"/>
          </p:cNvCxnSpPr>
          <p:nvPr/>
        </p:nvCxnSpPr>
        <p:spPr>
          <a:xfrm flipH="1" flipV="1" rot="5400000">
            <a:off x="2765160" y="3681000"/>
            <a:ext cx="506880" cy="57636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52" name=""/>
          <p:cNvCxnSpPr>
            <a:stCxn id="548" idx="0"/>
            <a:endCxn id="549" idx="2"/>
          </p:cNvCxnSpPr>
          <p:nvPr/>
        </p:nvCxnSpPr>
        <p:spPr>
          <a:xfrm flipV="1" rot="16200000">
            <a:off x="3308040" y="3713760"/>
            <a:ext cx="506880" cy="51048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-19080" y="508464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“</a:t>
            </a: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El mundo en tu casa”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74160" y="508464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“</a:t>
            </a: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Colgate”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27640" y="4221000"/>
            <a:ext cx="7333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l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80000" y="4221000"/>
            <a:ext cx="8622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t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940280" y="3152880"/>
            <a:ext cx="135900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00720" y="3152880"/>
            <a:ext cx="21780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625280" y="3240000"/>
            <a:ext cx="189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vases/Etiquet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60" name=""/>
          <p:cNvCxnSpPr>
            <a:stCxn id="555" idx="0"/>
            <a:endCxn id="558" idx="2"/>
          </p:cNvCxnSpPr>
          <p:nvPr/>
        </p:nvCxnSpPr>
        <p:spPr>
          <a:xfrm flipH="1" flipV="1" rot="5400000">
            <a:off x="4938480" y="3569760"/>
            <a:ext cx="506880" cy="79632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61" name=""/>
          <p:cNvCxnSpPr>
            <a:stCxn id="556" idx="0"/>
            <a:endCxn id="558" idx="2"/>
          </p:cNvCxnSpPr>
          <p:nvPr/>
        </p:nvCxnSpPr>
        <p:spPr>
          <a:xfrm flipV="1" rot="16200000">
            <a:off x="5547240" y="3756240"/>
            <a:ext cx="506880" cy="42300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562" name=""/>
          <p:cNvSpPr/>
          <p:nvPr/>
        </p:nvSpPr>
        <p:spPr>
          <a:xfrm>
            <a:off x="4431240" y="5083200"/>
            <a:ext cx="21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Agrado y desagrado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73840" y="4222800"/>
            <a:ext cx="9493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110440" y="4222800"/>
            <a:ext cx="97488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eg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51640" y="3154320"/>
            <a:ext cx="11178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04560" y="324180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67" name=""/>
          <p:cNvCxnSpPr>
            <a:stCxn id="563" idx="0"/>
            <a:endCxn id="565" idx="2"/>
          </p:cNvCxnSpPr>
          <p:nvPr/>
        </p:nvCxnSpPr>
        <p:spPr>
          <a:xfrm flipH="1" flipV="1" rot="5400000">
            <a:off x="7426080" y="3638160"/>
            <a:ext cx="506880" cy="66240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68" name=""/>
          <p:cNvCxnSpPr>
            <a:stCxn id="564" idx="0"/>
            <a:endCxn id="565" idx="2"/>
          </p:cNvCxnSpPr>
          <p:nvPr/>
        </p:nvCxnSpPr>
        <p:spPr>
          <a:xfrm flipV="1" rot="16200000">
            <a:off x="8050680" y="3674880"/>
            <a:ext cx="506880" cy="58824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7096320" y="5103720"/>
            <a:ext cx="174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McDonald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Pepsi Challen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70" name=""/>
          <p:cNvCxnSpPr>
            <a:stCxn id="544" idx="2"/>
            <a:endCxn id="541" idx="0"/>
          </p:cNvCxnSpPr>
          <p:nvPr/>
        </p:nvCxnSpPr>
        <p:spPr>
          <a:xfrm rot="5400000">
            <a:off x="2667960" y="1222200"/>
            <a:ext cx="499320" cy="3350160"/>
          </a:xfrm>
          <a:prstGeom prst="bentConnector3">
            <a:avLst>
              <a:gd name="adj1" fmla="val 48989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71" name=""/>
          <p:cNvCxnSpPr>
            <a:stCxn id="544" idx="2"/>
            <a:endCxn id="549" idx="0"/>
          </p:cNvCxnSpPr>
          <p:nvPr/>
        </p:nvCxnSpPr>
        <p:spPr>
          <a:xfrm rot="5400000">
            <a:off x="3695760" y="2257560"/>
            <a:ext cx="506880" cy="1286640"/>
          </a:xfrm>
          <a:prstGeom prst="bentConnector3">
            <a:avLst>
              <a:gd name="adj1" fmla="val 4918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72" name=""/>
          <p:cNvCxnSpPr>
            <a:stCxn id="544" idx="2"/>
            <a:endCxn id="558" idx="0"/>
          </p:cNvCxnSpPr>
          <p:nvPr/>
        </p:nvCxnSpPr>
        <p:spPr>
          <a:xfrm flipH="1" rot="16200000">
            <a:off x="4838400" y="2401200"/>
            <a:ext cx="505800" cy="997920"/>
          </a:xfrm>
          <a:prstGeom prst="bentConnector3">
            <a:avLst>
              <a:gd name="adj1" fmla="val 4900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73" name=""/>
          <p:cNvCxnSpPr>
            <a:stCxn id="544" idx="2"/>
            <a:endCxn id="565" idx="0"/>
          </p:cNvCxnSpPr>
          <p:nvPr/>
        </p:nvCxnSpPr>
        <p:spPr>
          <a:xfrm flipH="1" rot="16200000">
            <a:off x="6048360" y="1191240"/>
            <a:ext cx="506880" cy="3418560"/>
          </a:xfrm>
          <a:prstGeom prst="bentConnector3">
            <a:avLst>
              <a:gd name="adj1" fmla="val 4918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1FF-A799-4811-90E7-875B2EF8CB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66"/>
                </a:solidFill>
                <a:latin typeface="Arial"/>
              </a:rPr>
              <a:t>El objetivo de la medición de calidad de servicio es determinar los atributos incidentes en la satisfacción de un proceso, servicio, producto, etc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66"/>
                </a:solidFill>
                <a:latin typeface="Arial"/>
              </a:rPr>
              <a:t>Permite identificar focos de mejora (gestionables)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FEC-A2B5-4FD8-9684-1DF8782277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89080" y="2933640"/>
            <a:ext cx="1330200" cy="10256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50000">
                <a:srgbClr val="a04242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marL="177840" indent="-177840"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cc66"/>
                </a:solidFill>
                <a:latin typeface="TheSansCorrespondence"/>
              </a:rPr>
              <a:t>Glob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56000" y="2168640"/>
            <a:ext cx="1366560" cy="784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5f1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66"/>
                </a:solidFill>
                <a:latin typeface="TheSansCorrespondence"/>
              </a:rPr>
              <a:t>Sub Proceso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66"/>
                </a:solidFill>
                <a:latin typeface="TheSansCorrespondence"/>
              </a:rPr>
              <a:t>1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56000" y="3905280"/>
            <a:ext cx="1366560" cy="784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5f1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6666"/>
                </a:solidFill>
                <a:latin typeface="TheSansCorrespondence"/>
              </a:rPr>
              <a:t>Sub Proceso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6666"/>
                </a:solidFill>
                <a:latin typeface="TheSansCorrespondence"/>
              </a:rPr>
              <a:t>2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30640" y="2916360"/>
            <a:ext cx="1197000" cy="583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5f1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8000"/>
                </a:solidFill>
                <a:latin typeface="TheSansCorrespondence"/>
              </a:rPr>
              <a:t>Etapa 2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30640" y="1844640"/>
            <a:ext cx="1197000" cy="584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5f1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heSansCorrespondence"/>
              </a:rPr>
              <a:t>Etapa 1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81" name=""/>
          <p:cNvCxnSpPr>
            <a:stCxn id="577" idx="1"/>
            <a:endCxn id="576" idx="3"/>
          </p:cNvCxnSpPr>
          <p:nvPr/>
        </p:nvCxnSpPr>
        <p:spPr>
          <a:xfrm flipV="1" rot="10800000">
            <a:off x="1618560" y="2559600"/>
            <a:ext cx="937440" cy="886680"/>
          </a:xfrm>
          <a:prstGeom prst="bentConnector3">
            <a:avLst>
              <a:gd name="adj1" fmla="val 49980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82" name=""/>
          <p:cNvCxnSpPr>
            <a:stCxn id="578" idx="1"/>
            <a:endCxn id="576" idx="3"/>
          </p:cNvCxnSpPr>
          <p:nvPr/>
        </p:nvCxnSpPr>
        <p:spPr>
          <a:xfrm rot="10800000">
            <a:off x="1618560" y="3445920"/>
            <a:ext cx="937440" cy="851400"/>
          </a:xfrm>
          <a:prstGeom prst="bentConnector3">
            <a:avLst>
              <a:gd name="adj1" fmla="val 49980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80" idx="1"/>
            <a:endCxn id="577" idx="3"/>
          </p:cNvCxnSpPr>
          <p:nvPr/>
        </p:nvCxnSpPr>
        <p:spPr>
          <a:xfrm flipV="1" rot="10800000">
            <a:off x="3921840" y="2136240"/>
            <a:ext cx="1108800" cy="424800"/>
          </a:xfrm>
          <a:prstGeom prst="bentConnector3">
            <a:avLst>
              <a:gd name="adj1" fmla="val 49983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84" name=""/>
          <p:cNvCxnSpPr>
            <a:stCxn id="579" idx="1"/>
            <a:endCxn id="577" idx="3"/>
          </p:cNvCxnSpPr>
          <p:nvPr/>
        </p:nvCxnSpPr>
        <p:spPr>
          <a:xfrm rot="10800000">
            <a:off x="3921840" y="2559960"/>
            <a:ext cx="1108800" cy="648360"/>
          </a:xfrm>
          <a:prstGeom prst="bentConnector3">
            <a:avLst>
              <a:gd name="adj1" fmla="val 49983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4984920" y="3949560"/>
            <a:ext cx="1842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8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84920" y="4273560"/>
            <a:ext cx="1433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9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84920" y="4594320"/>
            <a:ext cx="2574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10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84920" y="4919760"/>
            <a:ext cx="2563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11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89" name=""/>
          <p:cNvCxnSpPr>
            <a:stCxn id="585" idx="1"/>
            <a:endCxn id="578" idx="3"/>
          </p:cNvCxnSpPr>
          <p:nvPr/>
        </p:nvCxnSpPr>
        <p:spPr>
          <a:xfrm flipV="1" rot="10800000">
            <a:off x="3921840" y="4050360"/>
            <a:ext cx="1063080" cy="246600"/>
          </a:xfrm>
          <a:prstGeom prst="bentConnector3">
            <a:avLst>
              <a:gd name="adj1" fmla="val 49898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0" name=""/>
          <p:cNvCxnSpPr>
            <a:stCxn id="586" idx="1"/>
            <a:endCxn id="578" idx="3"/>
          </p:cNvCxnSpPr>
          <p:nvPr/>
        </p:nvCxnSpPr>
        <p:spPr>
          <a:xfrm rot="10800000">
            <a:off x="3921840" y="4296600"/>
            <a:ext cx="1063080" cy="78480"/>
          </a:xfrm>
          <a:prstGeom prst="bentConnector3">
            <a:avLst>
              <a:gd name="adj1" fmla="val 49898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1" name=""/>
          <p:cNvCxnSpPr>
            <a:stCxn id="587" idx="1"/>
            <a:endCxn id="578" idx="3"/>
          </p:cNvCxnSpPr>
          <p:nvPr/>
        </p:nvCxnSpPr>
        <p:spPr>
          <a:xfrm rot="10800000">
            <a:off x="3921840" y="4296600"/>
            <a:ext cx="1063080" cy="399240"/>
          </a:xfrm>
          <a:prstGeom prst="bentConnector3">
            <a:avLst>
              <a:gd name="adj1" fmla="val 49898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88" idx="1"/>
            <a:endCxn id="578" idx="3"/>
          </p:cNvCxnSpPr>
          <p:nvPr/>
        </p:nvCxnSpPr>
        <p:spPr>
          <a:xfrm rot="10800000">
            <a:off x="3921840" y="4296600"/>
            <a:ext cx="1063080" cy="724680"/>
          </a:xfrm>
          <a:prstGeom prst="bentConnector3">
            <a:avLst>
              <a:gd name="adj1" fmla="val 49898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7099200" y="1733400"/>
            <a:ext cx="2251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1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93080" y="2021040"/>
            <a:ext cx="2058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2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99200" y="2347920"/>
            <a:ext cx="1374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96" name=""/>
          <p:cNvCxnSpPr>
            <a:stCxn id="593" idx="1"/>
            <a:endCxn id="580" idx="3"/>
          </p:cNvCxnSpPr>
          <p:nvPr/>
        </p:nvCxnSpPr>
        <p:spPr>
          <a:xfrm flipV="1" rot="10800000">
            <a:off x="6226920" y="1834200"/>
            <a:ext cx="872280" cy="302040"/>
          </a:xfrm>
          <a:prstGeom prst="bentConnector3">
            <a:avLst>
              <a:gd name="adj1" fmla="val 4987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stCxn id="594" idx="1"/>
            <a:endCxn id="580" idx="3"/>
          </p:cNvCxnSpPr>
          <p:nvPr/>
        </p:nvCxnSpPr>
        <p:spPr>
          <a:xfrm flipV="1" rot="10800000">
            <a:off x="6226920" y="2121480"/>
            <a:ext cx="866160" cy="14760"/>
          </a:xfrm>
          <a:prstGeom prst="bentConnector3">
            <a:avLst>
              <a:gd name="adj1" fmla="val 4989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5" idx="1"/>
            <a:endCxn id="580" idx="3"/>
          </p:cNvCxnSpPr>
          <p:nvPr/>
        </p:nvCxnSpPr>
        <p:spPr>
          <a:xfrm rot="10800000">
            <a:off x="6226920" y="2135880"/>
            <a:ext cx="872280" cy="313560"/>
          </a:xfrm>
          <a:prstGeom prst="bentConnector3">
            <a:avLst>
              <a:gd name="adj1" fmla="val 4987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sp>
        <p:nvSpPr>
          <p:cNvPr id="599" name=""/>
          <p:cNvSpPr/>
          <p:nvPr/>
        </p:nvSpPr>
        <p:spPr>
          <a:xfrm>
            <a:off x="7093080" y="2744640"/>
            <a:ext cx="205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4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94520" y="3537000"/>
            <a:ext cx="1941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7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93080" y="3032280"/>
            <a:ext cx="1800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5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4520" y="3278160"/>
            <a:ext cx="1211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6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599" idx="1"/>
            <a:endCxn id="579" idx="3"/>
          </p:cNvCxnSpPr>
          <p:nvPr/>
        </p:nvCxnSpPr>
        <p:spPr>
          <a:xfrm flipV="1" rot="10800000">
            <a:off x="6226920" y="2845440"/>
            <a:ext cx="866160" cy="362520"/>
          </a:xfrm>
          <a:prstGeom prst="bentConnector3">
            <a:avLst>
              <a:gd name="adj1" fmla="val 4989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601" idx="1"/>
            <a:endCxn id="579" idx="3"/>
          </p:cNvCxnSpPr>
          <p:nvPr/>
        </p:nvCxnSpPr>
        <p:spPr>
          <a:xfrm flipV="1" rot="10800000">
            <a:off x="6226920" y="3132720"/>
            <a:ext cx="866160" cy="75240"/>
          </a:xfrm>
          <a:prstGeom prst="bentConnector3">
            <a:avLst>
              <a:gd name="adj1" fmla="val 4989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605" name=""/>
          <p:cNvCxnSpPr>
            <a:stCxn id="602" idx="1"/>
            <a:endCxn id="579" idx="3"/>
          </p:cNvCxnSpPr>
          <p:nvPr/>
        </p:nvCxnSpPr>
        <p:spPr>
          <a:xfrm rot="10800000">
            <a:off x="6226920" y="3207600"/>
            <a:ext cx="867600" cy="172080"/>
          </a:xfrm>
          <a:prstGeom prst="bentConnector3">
            <a:avLst>
              <a:gd name="adj1" fmla="val 49979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600" idx="1"/>
            <a:endCxn id="579" idx="3"/>
          </p:cNvCxnSpPr>
          <p:nvPr/>
        </p:nvCxnSpPr>
        <p:spPr>
          <a:xfrm rot="10800000">
            <a:off x="6226920" y="3207600"/>
            <a:ext cx="867600" cy="430920"/>
          </a:xfrm>
          <a:prstGeom prst="bentConnector3">
            <a:avLst>
              <a:gd name="adj1" fmla="val 49979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1460160" y="322884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63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133920" y="6327720"/>
            <a:ext cx="13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6666"/>
                </a:solidFill>
                <a:latin typeface="TheSansCorrespondence"/>
              </a:rPr>
              <a:t>n = 3.390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560" y="407664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8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938960" y="23479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8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50920" y="404028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63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22480" y="234144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85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331160" y="192420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9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331160" y="299556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71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32960" y="38419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3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331160" y="417348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18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332960" y="449748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19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32960" y="48211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41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11640" y="192420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83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11640" y="300348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82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01600" y="162864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41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37240" y="1916280"/>
            <a:ext cx="71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5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03040" y="22399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54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501600" y="26431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4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512040" y="34844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336666"/>
                </a:solidFill>
                <a:latin typeface="TheSansCorrespondence"/>
              </a:rPr>
              <a:t>29%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03040" y="318456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18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503040" y="292428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9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AC3-89EC-484C-A5ED-50175F4CC9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930240" y="1463760"/>
          <a:ext cx="7840800" cy="37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0240" y="1463760"/>
                    <a:ext cx="784080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3341520" y="1506600"/>
            <a:ext cx="29718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48760" y="132552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Arial"/>
              </a:rPr>
              <a:t>(-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316200" y="132552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Arial"/>
              </a:rPr>
              <a:t>(+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06480" y="1268280"/>
            <a:ext cx="228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00" spc="-1" strike="noStrike">
                <a:solidFill>
                  <a:srgbClr val="336666"/>
                </a:solidFill>
                <a:latin typeface="Arial"/>
              </a:rPr>
              <a:t>Peso/ nivel de importancia del atributo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47760" y="3349800"/>
            <a:ext cx="7410600" cy="2880"/>
          </a:xfrm>
          <a:prstGeom prst="line">
            <a:avLst/>
          </a:prstGeom>
          <a:ln w="12600">
            <a:solidFill>
              <a:srgbClr val="66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72120" y="1909800"/>
            <a:ext cx="0" cy="314964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23960" y="2573280"/>
            <a:ext cx="0" cy="20574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2160" y="207792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Arial"/>
              </a:rPr>
              <a:t>(-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8240" y="485928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Arial"/>
              </a:rPr>
              <a:t>(+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 rot="10800000">
            <a:off x="394200" y="2790360"/>
            <a:ext cx="317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00" spc="-1" strike="noStrike">
                <a:solidFill>
                  <a:srgbClr val="336666"/>
                </a:solidFill>
                <a:latin typeface="Arial"/>
              </a:rPr>
              <a:t>% Insatisfacción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959600" y="4357800"/>
            <a:ext cx="6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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93200" y="1477800"/>
            <a:ext cx="42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00" spc="-1" strike="noStrike">
                <a:solidFill>
                  <a:srgbClr val="336666"/>
                </a:solidFill>
                <a:latin typeface="Arial"/>
              </a:rPr>
              <a:t>Baja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162640" y="1465200"/>
            <a:ext cx="3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00" spc="-1" strike="noStrike">
                <a:solidFill>
                  <a:srgbClr val="336666"/>
                </a:solidFill>
                <a:latin typeface="Arial"/>
              </a:rPr>
              <a:t>Alta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00840" y="47689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0000"/>
                </a:solidFill>
                <a:latin typeface="Arial"/>
              </a:rPr>
              <a:t>FOCO DE MEJORAMIENTO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072120" y="3351240"/>
            <a:ext cx="2521080" cy="1738440"/>
          </a:xfrm>
          <a:prstGeom prst="rect">
            <a:avLst/>
          </a:prstGeom>
          <a:noFill/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68360" y="587700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336666"/>
                </a:solidFill>
                <a:latin typeface="Arial"/>
              </a:rPr>
              <a:t>R2=0,60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427640" y="4379760"/>
            <a:ext cx="71280" cy="7164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29200" y="3422520"/>
            <a:ext cx="71640" cy="7164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016840" y="2846520"/>
            <a:ext cx="71640" cy="7128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522680" y="4086360"/>
            <a:ext cx="216000" cy="287280"/>
          </a:xfrm>
          <a:prstGeom prst="line">
            <a:avLst/>
          </a:prstGeom>
          <a:ln w="93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7546680" y="2868480"/>
            <a:ext cx="360360" cy="0"/>
          </a:xfrm>
          <a:prstGeom prst="line">
            <a:avLst/>
          </a:prstGeom>
          <a:ln w="93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000840" y="3133800"/>
            <a:ext cx="144360" cy="287280"/>
          </a:xfrm>
          <a:prstGeom prst="line">
            <a:avLst/>
          </a:prstGeom>
          <a:ln w="93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47760" y="3351240"/>
            <a:ext cx="4826160" cy="1738440"/>
          </a:xfrm>
          <a:prstGeom prst="rect">
            <a:avLst/>
          </a:prstGeom>
          <a:noFill/>
          <a:ln w="22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76480" y="47689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9900"/>
                </a:solidFill>
                <a:latin typeface="Arial"/>
              </a:rPr>
              <a:t>FOCO DE MEJORAMIENTO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540-4F4E-4B2C-97D3-7A8C78963F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00240" y="4214880"/>
            <a:ext cx="1644480" cy="5619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5400" y="4214880"/>
            <a:ext cx="1424160" cy="5619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82960" y="3146400"/>
            <a:ext cx="175896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4400" y="4214880"/>
            <a:ext cx="142524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214880"/>
            <a:ext cx="142416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42040" y="3146400"/>
            <a:ext cx="175896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4320" y="2077920"/>
            <a:ext cx="2336760" cy="5619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MENTAC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92520" y="2639880"/>
            <a:ext cx="1800" cy="252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2440" y="2892600"/>
            <a:ext cx="1440" cy="253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22960" y="2892600"/>
            <a:ext cx="1800" cy="253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2440" y="2892600"/>
            <a:ext cx="163008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92520" y="2892600"/>
            <a:ext cx="163044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62440" y="3708360"/>
            <a:ext cx="1440" cy="254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3962520"/>
            <a:ext cx="3240" cy="25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73520" y="3962520"/>
            <a:ext cx="1440" cy="25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43080" y="3962520"/>
            <a:ext cx="8193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62440" y="3962520"/>
            <a:ext cx="8110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3480" y="4303800"/>
            <a:ext cx="144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lomerativ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4280" y="4214880"/>
            <a:ext cx="1646280" cy="561960"/>
          </a:xfrm>
          <a:prstGeom prst="rect">
            <a:avLst/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18480" y="4302000"/>
            <a:ext cx="90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v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5400" y="4214880"/>
            <a:ext cx="1424160" cy="561960"/>
          </a:xfrm>
          <a:prstGeom prst="rect">
            <a:avLst/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82960" y="3146400"/>
            <a:ext cx="175896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9000" y="3233880"/>
            <a:ext cx="117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rárquic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22960" y="3708360"/>
            <a:ext cx="1800" cy="254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02160" y="3962520"/>
            <a:ext cx="1800" cy="25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32600" y="3962520"/>
            <a:ext cx="1440" cy="25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2160" y="3962520"/>
            <a:ext cx="820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2960" y="3962520"/>
            <a:ext cx="809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94400" y="4214880"/>
            <a:ext cx="142524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67640" y="430200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214880"/>
            <a:ext cx="142416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99600" y="430200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us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42040" y="3146400"/>
            <a:ext cx="175896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20880" y="3233880"/>
            <a:ext cx="153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Jerárquic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02080" y="2163600"/>
            <a:ext cx="209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todos Agrupa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4320" y="2077920"/>
            <a:ext cx="2336760" cy="561960"/>
          </a:xfrm>
          <a:prstGeom prst="rect">
            <a:avLst/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481-18B3-4EB8-A062-31BA03648D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11040" y="1978200"/>
            <a:ext cx="2663640" cy="2302920"/>
            <a:chOff x="311040" y="1978200"/>
            <a:chExt cx="2663640" cy="2302920"/>
          </a:xfrm>
        </p:grpSpPr>
        <p:sp>
          <p:nvSpPr>
            <p:cNvPr id="139" name=""/>
            <p:cNvSpPr/>
            <p:nvPr/>
          </p:nvSpPr>
          <p:spPr>
            <a:xfrm>
              <a:off x="31104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140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9212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176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068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1104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3176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140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39" idx="0"/>
              <a:endCxn id="140" idx="0"/>
            </p:cNvCxnSpPr>
            <p:nvPr/>
          </p:nvCxnSpPr>
          <p:spPr>
            <a:xfrm flipH="1" rot="16200000">
              <a:off x="561600" y="3956400"/>
              <a:ext cx="1800" cy="361080"/>
            </a:xfrm>
            <a:prstGeom prst="bentConnector3">
              <a:avLst>
                <a:gd name="adj1" fmla="val -1089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48" name=""/>
            <p:cNvCxnSpPr>
              <a:stCxn id="142" idx="0"/>
              <a:endCxn id="141" idx="0"/>
            </p:cNvCxnSpPr>
            <p:nvPr/>
          </p:nvCxnSpPr>
          <p:spPr>
            <a:xfrm flipH="1" rot="16200000">
              <a:off x="1282320" y="3956400"/>
              <a:ext cx="1800" cy="361080"/>
            </a:xfrm>
            <a:prstGeom prst="bentConnector3">
              <a:avLst>
                <a:gd name="adj1" fmla="val -1181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49" name=""/>
            <p:cNvCxnSpPr/>
            <p:nvPr/>
          </p:nvCxnSpPr>
          <p:spPr>
            <a:xfrm rot="5400000">
              <a:off x="2721960" y="3953160"/>
              <a:ext cx="1800" cy="361080"/>
            </a:xfrm>
            <a:prstGeom prst="bentConnector3">
              <a:avLst>
                <a:gd name="adj1" fmla="val -192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50" name=""/>
            <p:cNvCxnSpPr>
              <a:stCxn id="143" idx="0"/>
              <a:endCxn id="144" idx="0"/>
            </p:cNvCxnSpPr>
            <p:nvPr/>
          </p:nvCxnSpPr>
          <p:spPr>
            <a:xfrm flipH="1" rot="16200000">
              <a:off x="2001600" y="3956400"/>
              <a:ext cx="1800" cy="361080"/>
            </a:xfrm>
            <a:prstGeom prst="bentConnector3">
              <a:avLst>
                <a:gd name="adj1" fmla="val -315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sp>
          <p:nvSpPr>
            <p:cNvPr id="151" name=""/>
            <p:cNvSpPr/>
            <p:nvPr/>
          </p:nvSpPr>
          <p:spPr>
            <a:xfrm flipV="1">
              <a:off x="1998360" y="3342960"/>
              <a:ext cx="0" cy="286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95480" y="3340080"/>
              <a:ext cx="720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12960" y="3335400"/>
              <a:ext cx="0" cy="504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327040" y="1978200"/>
              <a:ext cx="0" cy="1366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87400" y="1978200"/>
              <a:ext cx="14396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8080" y="2120760"/>
              <a:ext cx="71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3480" y="2116080"/>
              <a:ext cx="0" cy="1440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240" y="2120760"/>
              <a:ext cx="0" cy="2887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5600" y="1978200"/>
              <a:ext cx="0" cy="142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632760" y="440064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Cinco grup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4200" y="437364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Tres grup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2195640"/>
            <a:ext cx="2529000" cy="0"/>
          </a:xfrm>
          <a:prstGeom prst="line">
            <a:avLst/>
          </a:prstGeom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27480" y="1983960"/>
            <a:ext cx="2663640" cy="2304000"/>
            <a:chOff x="3327480" y="1983960"/>
            <a:chExt cx="2663640" cy="2304000"/>
          </a:xfrm>
        </p:grpSpPr>
        <p:sp>
          <p:nvSpPr>
            <p:cNvPr id="164" name=""/>
            <p:cNvSpPr/>
            <p:nvPr/>
          </p:nvSpPr>
          <p:spPr>
            <a:xfrm>
              <a:off x="332748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8784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0856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4820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6712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2748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4820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784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4" idx="0"/>
              <a:endCxn id="165" idx="0"/>
            </p:cNvCxnSpPr>
            <p:nvPr/>
          </p:nvCxnSpPr>
          <p:spPr>
            <a:xfrm flipH="1" rot="16200000">
              <a:off x="3578040" y="3963960"/>
              <a:ext cx="2160" cy="361080"/>
            </a:xfrm>
            <a:prstGeom prst="bentConnector3">
              <a:avLst>
                <a:gd name="adj1" fmla="val -1089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73" name=""/>
            <p:cNvCxnSpPr>
              <a:stCxn id="167" idx="0"/>
              <a:endCxn id="166" idx="0"/>
            </p:cNvCxnSpPr>
            <p:nvPr/>
          </p:nvCxnSpPr>
          <p:spPr>
            <a:xfrm flipH="1" rot="16200000">
              <a:off x="4298760" y="3963960"/>
              <a:ext cx="2160" cy="361080"/>
            </a:xfrm>
            <a:prstGeom prst="bentConnector3">
              <a:avLst>
                <a:gd name="adj1" fmla="val -1181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74" name=""/>
            <p:cNvCxnSpPr/>
            <p:nvPr/>
          </p:nvCxnSpPr>
          <p:spPr>
            <a:xfrm rot="5400000">
              <a:off x="5738040" y="3960720"/>
              <a:ext cx="2160" cy="361080"/>
            </a:xfrm>
            <a:prstGeom prst="bentConnector3">
              <a:avLst>
                <a:gd name="adj1" fmla="val -192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75" name=""/>
            <p:cNvCxnSpPr>
              <a:stCxn id="168" idx="0"/>
              <a:endCxn id="169" idx="0"/>
            </p:cNvCxnSpPr>
            <p:nvPr/>
          </p:nvCxnSpPr>
          <p:spPr>
            <a:xfrm flipH="1" rot="16200000">
              <a:off x="5018040" y="3963960"/>
              <a:ext cx="2160" cy="361080"/>
            </a:xfrm>
            <a:prstGeom prst="bentConnector3">
              <a:avLst>
                <a:gd name="adj1" fmla="val -315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sp>
          <p:nvSpPr>
            <p:cNvPr id="176" name=""/>
            <p:cNvSpPr/>
            <p:nvPr/>
          </p:nvSpPr>
          <p:spPr>
            <a:xfrm flipV="1">
              <a:off x="5014800" y="3349800"/>
              <a:ext cx="0" cy="28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11920" y="3346560"/>
              <a:ext cx="720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9400" y="3341880"/>
              <a:ext cx="0" cy="5047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343480" y="1983960"/>
              <a:ext cx="0" cy="1366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3840" y="1984320"/>
              <a:ext cx="14396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84520" y="2127240"/>
              <a:ext cx="71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9920" y="2122560"/>
              <a:ext cx="0" cy="144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95680" y="2127240"/>
              <a:ext cx="0" cy="2890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02040" y="1984320"/>
              <a:ext cx="0" cy="142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214800" y="2678040"/>
            <a:ext cx="2469960" cy="0"/>
          </a:xfrm>
          <a:prstGeom prst="line">
            <a:avLst/>
          </a:prstGeom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267600" y="1990800"/>
            <a:ext cx="2663640" cy="2302920"/>
            <a:chOff x="6267600" y="1990800"/>
            <a:chExt cx="2663640" cy="2302920"/>
          </a:xfrm>
        </p:grpSpPr>
        <p:sp>
          <p:nvSpPr>
            <p:cNvPr id="187" name=""/>
            <p:cNvSpPr/>
            <p:nvPr/>
          </p:nvSpPr>
          <p:spPr>
            <a:xfrm>
              <a:off x="626760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796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4868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8832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0724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6760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8832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2796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cxnSp>
          <p:nvCxnSpPr>
            <p:cNvPr id="195" name=""/>
            <p:cNvCxnSpPr>
              <a:stCxn id="187" idx="0"/>
              <a:endCxn id="188" idx="0"/>
            </p:cNvCxnSpPr>
            <p:nvPr/>
          </p:nvCxnSpPr>
          <p:spPr>
            <a:xfrm flipH="1" rot="16200000">
              <a:off x="6518160" y="3969000"/>
              <a:ext cx="1800" cy="361080"/>
            </a:xfrm>
            <a:prstGeom prst="bentConnector3">
              <a:avLst>
                <a:gd name="adj1" fmla="val -1089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96" name=""/>
            <p:cNvCxnSpPr>
              <a:stCxn id="190" idx="0"/>
              <a:endCxn id="189" idx="0"/>
            </p:cNvCxnSpPr>
            <p:nvPr/>
          </p:nvCxnSpPr>
          <p:spPr>
            <a:xfrm flipH="1" rot="16200000">
              <a:off x="7238880" y="3969000"/>
              <a:ext cx="1800" cy="361080"/>
            </a:xfrm>
            <a:prstGeom prst="bentConnector3">
              <a:avLst>
                <a:gd name="adj1" fmla="val -1181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97" name=""/>
            <p:cNvCxnSpPr/>
            <p:nvPr/>
          </p:nvCxnSpPr>
          <p:spPr>
            <a:xfrm rot="5400000">
              <a:off x="8678520" y="3965760"/>
              <a:ext cx="1800" cy="361080"/>
            </a:xfrm>
            <a:prstGeom prst="bentConnector3">
              <a:avLst>
                <a:gd name="adj1" fmla="val -192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98" name=""/>
            <p:cNvCxnSpPr>
              <a:stCxn id="191" idx="0"/>
              <a:endCxn id="192" idx="0"/>
            </p:cNvCxnSpPr>
            <p:nvPr/>
          </p:nvCxnSpPr>
          <p:spPr>
            <a:xfrm flipH="1" rot="16200000">
              <a:off x="7958160" y="3969000"/>
              <a:ext cx="1800" cy="361080"/>
            </a:xfrm>
            <a:prstGeom prst="bentConnector3">
              <a:avLst>
                <a:gd name="adj1" fmla="val -315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7954920" y="3355560"/>
              <a:ext cx="0" cy="286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52040" y="3352680"/>
              <a:ext cx="720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69520" y="3348000"/>
              <a:ext cx="0" cy="504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83600" y="1990800"/>
              <a:ext cx="0" cy="1366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43960" y="1990800"/>
              <a:ext cx="14396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4640" y="2133360"/>
              <a:ext cx="71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0040" y="2128680"/>
              <a:ext cx="0" cy="1440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35800" y="2133360"/>
              <a:ext cx="0" cy="2887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2160" y="1990800"/>
              <a:ext cx="0" cy="142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307200" y="2055960"/>
            <a:ext cx="2469960" cy="0"/>
          </a:xfrm>
          <a:prstGeom prst="line">
            <a:avLst/>
          </a:prstGeom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70160" y="438768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os grup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D32-BCF1-4250-86D4-B138FDDCFC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643040" y="1295280"/>
          <a:ext cx="6039000" cy="48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295280"/>
                    <a:ext cx="60390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8B2-9F16-4DC2-B6C0-9B0385ED5A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04880" y="1339920"/>
          <a:ext cx="3848040" cy="30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339920"/>
                    <a:ext cx="384804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010120" y="3282840"/>
          <a:ext cx="3848040" cy="30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328284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7034040" y="437184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86760" y="4138560"/>
            <a:ext cx="9972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96280" y="452916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086240" y="4186080"/>
            <a:ext cx="243000" cy="243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6419880" y="3519360"/>
            <a:ext cx="790560" cy="7905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29600" y="4191120"/>
            <a:ext cx="233280" cy="3999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7081920" y="4433760"/>
            <a:ext cx="480960" cy="147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915240" y="4509720"/>
            <a:ext cx="395280" cy="1452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438680" y="3753000"/>
            <a:ext cx="1157400" cy="6141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017200">
            <a:off x="4373640" y="3279600"/>
            <a:ext cx="844560" cy="749520"/>
          </a:xfrm>
          <a:prstGeom prst="rightArrow">
            <a:avLst>
              <a:gd name="adj1" fmla="val 50000"/>
              <a:gd name="adj2" fmla="val 28170"/>
            </a:avLst>
          </a:prstGeom>
          <a:solidFill>
            <a:srgbClr val="dddddd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A58-386E-4E74-B4D8-FAD1236464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5010120" y="3282840"/>
          <a:ext cx="384804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0120" y="328284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091200" y="432432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39120" y="429084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40540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858000" y="3533400"/>
            <a:ext cx="14400" cy="1319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29360" y="4844880"/>
            <a:ext cx="747720" cy="951120"/>
          </a:xfrm>
          <a:custGeom>
            <a:avLst/>
            <a:gdLst/>
            <a:ahLst/>
            <a:rect l="l" t="t" r="r" b="b"/>
            <a:pathLst>
              <a:path w="669" h="845">
                <a:moveTo>
                  <a:pt x="0" y="845"/>
                </a:moveTo>
                <a:lnTo>
                  <a:pt x="669" y="0"/>
                </a:ln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43760" y="4343400"/>
            <a:ext cx="1461960" cy="1123920"/>
          </a:xfrm>
          <a:custGeom>
            <a:avLst/>
            <a:gdLst/>
            <a:ahLst/>
            <a:rect l="l" t="t" r="r" b="b"/>
            <a:pathLst>
              <a:path w="921" h="708">
                <a:moveTo>
                  <a:pt x="0" y="18"/>
                </a:moveTo>
                <a:lnTo>
                  <a:pt x="912" y="0"/>
                </a:lnTo>
                <a:lnTo>
                  <a:pt x="921" y="708"/>
                </a:lnTo>
                <a:lnTo>
                  <a:pt x="0" y="18"/>
                </a:lnTo>
                <a:close/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93800" y="1403280"/>
          <a:ext cx="3848040" cy="30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140328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960560" y="259236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13000" y="220680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27280" y="322092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417760" y="1653840"/>
            <a:ext cx="371520" cy="1204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86000" y="2895480"/>
            <a:ext cx="514440" cy="10670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814840" y="2453760"/>
            <a:ext cx="1499760" cy="4359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08080" y="2259000"/>
            <a:ext cx="1571760" cy="1019160"/>
          </a:xfrm>
          <a:custGeom>
            <a:avLst/>
            <a:gdLst/>
            <a:ahLst/>
            <a:rect l="l" t="t" r="r" b="b"/>
            <a:pathLst>
              <a:path w="990" h="642">
                <a:moveTo>
                  <a:pt x="0" y="243"/>
                </a:moveTo>
                <a:lnTo>
                  <a:pt x="792" y="0"/>
                </a:lnTo>
                <a:lnTo>
                  <a:pt x="990" y="642"/>
                </a:lnTo>
                <a:lnTo>
                  <a:pt x="0" y="243"/>
                </a:lnTo>
                <a:close/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872400" y="4843080"/>
            <a:ext cx="1581120" cy="9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017200">
            <a:off x="4246200" y="3360240"/>
            <a:ext cx="984240" cy="749520"/>
          </a:xfrm>
          <a:prstGeom prst="rightArrow">
            <a:avLst>
              <a:gd name="adj1" fmla="val 50000"/>
              <a:gd name="adj2" fmla="val 32829"/>
            </a:avLst>
          </a:prstGeom>
          <a:solidFill>
            <a:srgbClr val="dddddd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1AF-567A-4E5B-A27B-097CDE2E91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5010120" y="3282840"/>
          <a:ext cx="384804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0120" y="328284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100920" y="4334040"/>
            <a:ext cx="9972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39120" y="429084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43800" y="540540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6858000" y="3533400"/>
            <a:ext cx="14400" cy="1319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29360" y="4844880"/>
            <a:ext cx="747720" cy="951120"/>
          </a:xfrm>
          <a:custGeom>
            <a:avLst/>
            <a:gdLst/>
            <a:ahLst/>
            <a:rect l="l" t="t" r="r" b="b"/>
            <a:pathLst>
              <a:path w="669" h="845">
                <a:moveTo>
                  <a:pt x="0" y="845"/>
                </a:moveTo>
                <a:lnTo>
                  <a:pt x="669" y="0"/>
                </a:ln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43760" y="4343400"/>
            <a:ext cx="1461960" cy="1123920"/>
          </a:xfrm>
          <a:custGeom>
            <a:avLst/>
            <a:gdLst/>
            <a:ahLst/>
            <a:rect l="l" t="t" r="r" b="b"/>
            <a:pathLst>
              <a:path w="921" h="708">
                <a:moveTo>
                  <a:pt x="0" y="18"/>
                </a:moveTo>
                <a:lnTo>
                  <a:pt x="912" y="0"/>
                </a:lnTo>
                <a:lnTo>
                  <a:pt x="921" y="708"/>
                </a:lnTo>
                <a:lnTo>
                  <a:pt x="0" y="18"/>
                </a:lnTo>
                <a:close/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872400" y="4843080"/>
            <a:ext cx="1581120" cy="9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14920" y="400536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43720" y="4024440"/>
            <a:ext cx="9972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38840" y="409104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76960" y="446256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10160" y="450072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0280" y="395280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67320" y="4143240"/>
            <a:ext cx="100080" cy="109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76840" y="4286160"/>
            <a:ext cx="100080" cy="109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72120" y="466740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2360" y="4838760"/>
            <a:ext cx="9972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0680" y="4786200"/>
            <a:ext cx="100080" cy="109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5486400"/>
            <a:ext cx="9972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72480" y="5334120"/>
            <a:ext cx="9972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443720" y="515304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00960" y="532440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62960" y="498636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82040" y="4924440"/>
            <a:ext cx="9972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67800" y="5005440"/>
            <a:ext cx="9972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5514840"/>
            <a:ext cx="99720" cy="1098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1400" y="581508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34160" y="583416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5786280"/>
            <a:ext cx="99720" cy="1098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34040" y="4367160"/>
            <a:ext cx="10008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291440" y="4143240"/>
            <a:ext cx="100080" cy="1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67560" y="4052880"/>
            <a:ext cx="10008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00960" y="4533840"/>
            <a:ext cx="10008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43960" y="4133880"/>
            <a:ext cx="9972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91400" y="4286160"/>
            <a:ext cx="100080" cy="1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819920" y="4371840"/>
            <a:ext cx="100080" cy="1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20000" y="4371840"/>
            <a:ext cx="100080" cy="1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881840" y="4133880"/>
            <a:ext cx="10008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87440" y="1282680"/>
          <a:ext cx="3848040" cy="30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440" y="128268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568520" y="232416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16080" y="229068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21120" y="340524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2334960" y="1533600"/>
            <a:ext cx="14040" cy="13190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6680" y="2844720"/>
            <a:ext cx="747720" cy="951120"/>
          </a:xfrm>
          <a:custGeom>
            <a:avLst/>
            <a:gdLst/>
            <a:ahLst/>
            <a:rect l="l" t="t" r="r" b="b"/>
            <a:pathLst>
              <a:path w="669" h="845">
                <a:moveTo>
                  <a:pt x="0" y="845"/>
                </a:moveTo>
                <a:lnTo>
                  <a:pt x="669" y="0"/>
                </a:ln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20720" y="2343240"/>
            <a:ext cx="1462320" cy="1123920"/>
          </a:xfrm>
          <a:custGeom>
            <a:avLst/>
            <a:gdLst/>
            <a:ahLst/>
            <a:rect l="l" t="t" r="r" b="b"/>
            <a:pathLst>
              <a:path w="921" h="708">
                <a:moveTo>
                  <a:pt x="0" y="18"/>
                </a:moveTo>
                <a:lnTo>
                  <a:pt x="912" y="0"/>
                </a:lnTo>
                <a:lnTo>
                  <a:pt x="921" y="708"/>
                </a:lnTo>
                <a:lnTo>
                  <a:pt x="0" y="18"/>
                </a:lnTo>
                <a:close/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349360" y="2843280"/>
            <a:ext cx="1581120" cy="9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2017200">
            <a:off x="3943080" y="3331800"/>
            <a:ext cx="1344600" cy="749160"/>
          </a:xfrm>
          <a:prstGeom prst="rightArrow">
            <a:avLst>
              <a:gd name="adj1" fmla="val 50000"/>
              <a:gd name="adj2" fmla="val 44870"/>
            </a:avLst>
          </a:prstGeom>
          <a:solidFill>
            <a:srgbClr val="dddddd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4E0-3DD6-450F-9757-ADFCC2F380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6666"/>
                </a:solidFill>
                <a:latin typeface="Arial"/>
              </a:rPr>
              <a:t>Métodos jerárquicos: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336666"/>
                </a:solidFill>
                <a:latin typeface="Arial"/>
              </a:rPr>
              <a:t>De una iteración a otra, se modifica el valor de pertenencia a grupos de un único objeto.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requiere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fijar un número de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6666"/>
                </a:solidFill>
                <a:latin typeface="Arial"/>
              </a:rPr>
              <a:t>Métodos no jerárquicos:</a:t>
            </a:r>
            <a:r>
              <a:rPr b="0" lang="es-ES_tradnl" sz="26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336666"/>
                </a:solidFill>
                <a:latin typeface="Arial"/>
              </a:rPr>
              <a:t>Se tiene un número de grupos predefinidos y cada objeto se ubica en un grupo hasta alcanzar estabilidad.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ere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fijar un número de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4BC-C86F-4DA2-A731-B8AF2762BB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08:32Z</dcterms:created>
  <dc:creator>Gonzalo León O.</dc:creator>
  <dc:description/>
  <dc:language>en-US</dc:language>
  <cp:lastModifiedBy>Gonzalo</cp:lastModifiedBy>
  <dcterms:modified xsi:type="dcterms:W3CDTF">2007-10-29T03:51:18Z</dcterms:modified>
  <cp:revision>37</cp:revision>
  <dc:subject/>
  <dc:title>Diapositiva 1</dc:title>
</cp:coreProperties>
</file>