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D3E65-49B5-4E16-8C62-12659C353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20311-544D-4110-9D29-2253808AF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C2A7A-D904-4DA3-AC8F-7CE46A95C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43003-1CC5-44AA-BE9F-9ECD203D5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8A94C9-F4E0-48DF-B48E-CA9A237866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053CF1-F690-4DE6-BADF-5F4C5A9969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F3ACE2-6B54-4500-9A8B-98BA3DFC33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FE61EC-8A58-4345-BEEC-9A4E433086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550B09-61B5-41C3-9CDE-4EF48E3FCB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69780F-BE3B-44C7-84B2-CC0E20F3F1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3577B-FBAC-4183-A266-C1292F85EC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8E821-4F01-405A-AA87-0B07F819C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F78A2-409F-42D6-9EE1-6A4C10D98F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4FD42-4B3E-4D45-B300-130FACF193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139D7B-046A-481E-99D3-6F5A8F42A7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A69B24-FC6B-411A-B311-805D16F3AF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061587-7068-4422-900E-18024F2154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20BAA-4730-4839-AAA9-776CABB31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05CDB-C495-4971-8A0C-725792F4D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C9F18-3D1E-4F3E-80F6-A670A7FB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03CEE-00AF-4547-B085-5B07E357A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98F24-3EEC-49AF-A80F-AFF2D2C7F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6131-55A6-4BDA-84ED-A1011729A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32B47-3DAF-43EF-800D-DFFCA1A38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FAC5-5E3D-4B12-BFF5-B091642CA6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A9B7-2076-4A49-A9E8-04F9F5ABCA24}"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Modelo de Clasificación Socio-Económica</a:t>
            </a:r>
            <a:br>
              <a:rPr sz="2800"/>
            </a:br>
            <a:r>
              <a:rPr b="1" lang="es-ES" sz="2800" spc="-1" strike="noStrike">
                <a:solidFill>
                  <a:srgbClr val="ff3300"/>
                </a:solidFill>
                <a:latin typeface="Arial"/>
              </a:rPr>
              <a:t> ESOMAR</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F3ADC2ED-D78E-4222-820F-6A284A90027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Qué es Esomar</a:t>
            </a:r>
            <a:endParaRPr b="1" lang="en-US" sz="2400" spc="-1" strike="noStrike">
              <a:solidFill>
                <a:srgbClr val="ff3300"/>
              </a:solidFill>
              <a:latin typeface="Arial"/>
            </a:endParaRPr>
          </a:p>
        </p:txBody>
      </p:sp>
      <p:sp>
        <p:nvSpPr>
          <p:cNvPr id="83" name="PlaceHolder 2"/>
          <p:cNvSpPr>
            <a:spLocks noGrp="1"/>
          </p:cNvSpPr>
          <p:nvPr>
            <p:ph/>
          </p:nvPr>
        </p:nvSpPr>
        <p:spPr>
          <a:xfrm>
            <a:off x="456840" y="144936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 un nuevo método para definir y medir los niveles socioeconómicos en Chile.</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 basa en el sistema desarrollado originalmente por Esomar (World Association of Market Research), para unificar los criterios de los países europeos en torno al tema de los NSE, el cual ha sido adaptado a nuestra realidad, y validado mediante un estudio empírico.</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1368BB4-D45D-4494-A34B-3A57D2A6B7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ntajas Esomar</a:t>
            </a:r>
            <a:endParaRPr b="1" lang="en-US" sz="2400" spc="-1" strike="noStrike">
              <a:solidFill>
                <a:srgbClr val="ff3300"/>
              </a:solidFill>
              <a:latin typeface="Arial"/>
            </a:endParaRPr>
          </a:p>
        </p:txBody>
      </p:sp>
      <p:sp>
        <p:nvSpPr>
          <p:cNvPr id="85" name="PlaceHolder 2"/>
          <p:cNvSpPr>
            <a:spLocks noGrp="1"/>
          </p:cNvSpPr>
          <p:nvPr>
            <p:ph/>
          </p:nvPr>
        </p:nvSpPr>
        <p:spPr>
          <a:xfrm>
            <a:off x="456840" y="1449000"/>
            <a:ext cx="8002440" cy="464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tá basado en la idea que las personas se diferencian más por sus características socio-económicas (educación, ocupación) que por variables netamente económicas (ingreso, tenencia de bienes).</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Tiene claras ventajas:</a:t>
            </a:r>
            <a:endParaRPr b="0" lang="en-US" sz="20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ple.</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ácil de medir.</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apaz de discriminar.</a:t>
            </a:r>
            <a:endParaRPr b="0" lang="en-US" sz="18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A88E3340-F2B1-457F-BEB8-0FB55881CE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ómo aplicar Esomar</a:t>
            </a:r>
            <a:endParaRPr b="1" lang="en-US" sz="2400" spc="-1" strike="noStrike">
              <a:solidFill>
                <a:srgbClr val="ff3300"/>
              </a:solidFill>
              <a:latin typeface="Arial"/>
            </a:endParaRPr>
          </a:p>
        </p:txBody>
      </p:sp>
      <p:sp>
        <p:nvSpPr>
          <p:cNvPr id="87" name="PlaceHolder 2"/>
          <p:cNvSpPr>
            <a:spLocks noGrp="1"/>
          </p:cNvSpPr>
          <p:nvPr>
            <p:ph/>
          </p:nvPr>
        </p:nvSpPr>
        <p:spPr>
          <a:xfrm>
            <a:off x="437760" y="1449360"/>
            <a:ext cx="7937640" cy="45259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l NSE Esomar se basa en sólo dos variables:</a:t>
            </a:r>
            <a:endParaRPr b="0" lang="en-US" sz="20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l nivel de educación alcanzado por el principal sostenedor del hog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La categoría ocupacional del principal sostenedor del hogar.</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mbas variables se combinan en una “Matriz de Clasificación Socio-Económica”, según modelo adjunto, la que determina el NSE de cada familia de acuerdo a las combinaciones entre ambas variables. Se generan 6 grupos:</a:t>
            </a:r>
            <a:endParaRPr b="0" lang="en-US" sz="1800" spc="-1" strike="noStrike">
              <a:solidFill>
                <a:srgbClr val="000099"/>
              </a:solidFill>
              <a:latin typeface="Arial"/>
            </a:endParaRPr>
          </a:p>
        </p:txBody>
      </p:sp>
      <p:sp>
        <p:nvSpPr>
          <p:cNvPr id="88" name=""/>
          <p:cNvSpPr/>
          <p:nvPr/>
        </p:nvSpPr>
        <p:spPr>
          <a:xfrm>
            <a:off x="2195640" y="5013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547640" y="4684680"/>
            <a:ext cx="2160720" cy="17956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 Muy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 = Medio-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b = Medi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 Medio-Baj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 Bajo</a:t>
            </a:r>
            <a:endParaRPr b="0" lang="en-US" sz="1800" spc="-1" strike="noStrike">
              <a:solidFill>
                <a:srgbClr val="000000"/>
              </a:solidFill>
              <a:latin typeface="Arial"/>
            </a:endParaRPr>
          </a:p>
        </p:txBody>
      </p:sp>
      <p:sp>
        <p:nvSpPr>
          <p:cNvPr id="90" name=""/>
          <p:cNvSpPr/>
          <p:nvPr/>
        </p:nvSpPr>
        <p:spPr>
          <a:xfrm>
            <a:off x="3348000" y="4591080"/>
            <a:ext cx="503280" cy="576360"/>
          </a:xfrm>
          <a:custGeom>
            <a:avLst/>
            <a:gdLst>
              <a:gd name="textAreaLeft" fmla="*/ 0 w 503280"/>
              <a:gd name="textAreaRight" fmla="*/ 181800 w 50328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887640" y="4697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BC1</a:t>
            </a:r>
            <a:endParaRPr b="0" lang="en-US" sz="1800" spc="-1" strike="noStrike">
              <a:solidFill>
                <a:srgbClr val="000000"/>
              </a:solidFill>
              <a:latin typeface="Arial"/>
            </a:endParaRPr>
          </a:p>
        </p:txBody>
      </p:sp>
      <p:sp>
        <p:nvSpPr>
          <p:cNvPr id="92" name=""/>
          <p:cNvSpPr/>
          <p:nvPr/>
        </p:nvSpPr>
        <p:spPr>
          <a:xfrm>
            <a:off x="3321000" y="522144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94120" y="51991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2</a:t>
            </a:r>
            <a:endParaRPr b="0" lang="en-US" sz="1800" spc="-1" strike="noStrike">
              <a:solidFill>
                <a:srgbClr val="000000"/>
              </a:solidFill>
              <a:latin typeface="Arial"/>
            </a:endParaRPr>
          </a:p>
        </p:txBody>
      </p:sp>
      <p:sp>
        <p:nvSpPr>
          <p:cNvPr id="94" name=""/>
          <p:cNvSpPr/>
          <p:nvPr/>
        </p:nvSpPr>
        <p:spPr>
          <a:xfrm>
            <a:off x="3348000" y="554688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89440" y="55483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B614E7-BBF8-431C-ACBE-31C3D749C4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educacional</a:t>
            </a:r>
            <a:endParaRPr b="1" lang="en-US" sz="2400" spc="-1" strike="noStrike">
              <a:solidFill>
                <a:srgbClr val="ff3300"/>
              </a:solidFill>
              <a:latin typeface="Arial"/>
            </a:endParaRPr>
          </a:p>
        </p:txBody>
      </p:sp>
      <p:sp>
        <p:nvSpPr>
          <p:cNvPr id="97" name="PlaceHolder 2"/>
          <p:cNvSpPr>
            <a:spLocks noGrp="1"/>
          </p:cNvSpPr>
          <p:nvPr>
            <p:ph/>
          </p:nvPr>
        </p:nvSpPr>
        <p:spPr>
          <a:xfrm>
            <a:off x="456840" y="1449000"/>
            <a:ext cx="8147160" cy="464364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5335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	</a:t>
            </a:r>
            <a:r>
              <a:rPr b="1" lang="es-ES" sz="2000" spc="-1" strike="noStrike">
                <a:solidFill>
                  <a:srgbClr val="000099"/>
                </a:solidFill>
                <a:latin typeface="Arial"/>
              </a:rPr>
              <a:t>¿Cuál es el nivel educacional del jefe (principal sostenedor) de su hogar?</a:t>
            </a:r>
            <a:endParaRPr b="0" lang="en-US" sz="2000" spc="-1" strike="noStrike">
              <a:solidFill>
                <a:srgbClr val="000099"/>
              </a:solidFill>
              <a:latin typeface="Arial"/>
            </a:endParaRPr>
          </a:p>
          <a:p>
            <a:pPr lvl="1" marL="105552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533520" indent="-76320">
              <a:spcBef>
                <a:spcPts val="499"/>
              </a:spcBef>
              <a:buClr>
                <a:srgbClr val="0000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___ Educación básica in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2) ___ Básica 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3) ___ Media incompleta </a:t>
            </a:r>
            <a:r>
              <a:rPr b="0" lang="es-CL"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4) ___ Media completa o técnica completa</a:t>
            </a:r>
            <a:r>
              <a:rPr b="0" lang="es-ES"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5) ___ Universitaria incompleta o técnic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6) ___ Universitari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7) ___ Postgrado </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EECCB01-DE09-493E-97CD-BFDDBA3F8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976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ocupacional</a:t>
            </a:r>
            <a:endParaRPr b="1" lang="en-US" sz="2400" spc="-1" strike="noStrike">
              <a:solidFill>
                <a:srgbClr val="ff3300"/>
              </a:solidFill>
              <a:latin typeface="Arial"/>
            </a:endParaRPr>
          </a:p>
        </p:txBody>
      </p:sp>
      <p:sp>
        <p:nvSpPr>
          <p:cNvPr id="99" name="PlaceHolder 2"/>
          <p:cNvSpPr>
            <a:spLocks noGrp="1"/>
          </p:cNvSpPr>
          <p:nvPr>
            <p:ph/>
          </p:nvPr>
        </p:nvSpPr>
        <p:spPr>
          <a:xfrm>
            <a:off x="456840" y="1125360"/>
            <a:ext cx="8147160" cy="539928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uál es la profesión o trabajo del jefe (principal sostenedor) de su hogar?</a:t>
            </a:r>
            <a:endParaRPr b="0" lang="en-US" sz="16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1) ___ Trabajos menores ocasionales e informales (lavado, aseo, servicio doméstico ocasional, “pololos”, cuidador de autos, limosna)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2) ___ Oficio menor, obrero no calificado, jornalero, servicio doméstico con contrat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3) ___ Obrero calificado, capataz, junior, micro empresario (kiosko, taxi, comercio menor, ambulante)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4)</a:t>
            </a:r>
            <a:r>
              <a:rPr b="1" lang="es-ES" sz="1200" spc="-1" strike="noStrike">
                <a:solidFill>
                  <a:srgbClr val="000099"/>
                </a:solidFill>
                <a:latin typeface="Arial"/>
              </a:rPr>
              <a:t>	</a:t>
            </a:r>
            <a:r>
              <a:rPr b="1" lang="es-ES" sz="1200" spc="-1" strike="noStrike">
                <a:solidFill>
                  <a:srgbClr val="000099"/>
                </a:solidFill>
                <a:latin typeface="Arial"/>
              </a:rPr>
              <a:t>___ Empleado administrativo medio y bajo, vendedor, secretaria, jefe de sección. Técnic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especializado. Profesional independiente de carreras técnicas (contador, analista de sistemas, diseñador, músico) Profesor primario o secundar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5) ___ Ejecutivo medio, ejecutivo medio-alto, gerentes, subgerentes, gerente general de empresa media o pequeña. Profesional independiente de carreras tradicionales (abogado, médico, arquitecto, ingeniero, agrónom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6) ___ Alto ejecutivo (gerente general) de empresa grande. Directores de grandes empresas. Empresarios propietarios de empresas medianas y grandes. Profesionales independientes de gran prestig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1CE8411C-8B0D-40AD-A457-6DD570DD6A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27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atriz Esomar</a:t>
            </a:r>
            <a:endParaRPr b="1" lang="en-US" sz="2400" spc="-1" strike="noStrike">
              <a:solidFill>
                <a:srgbClr val="ff3300"/>
              </a:solidFill>
              <a:latin typeface="Arial"/>
            </a:endParaRPr>
          </a:p>
        </p:txBody>
      </p:sp>
      <p:pic>
        <p:nvPicPr>
          <p:cNvPr id="101" name="" descr=""/>
          <p:cNvPicPr/>
          <p:nvPr/>
        </p:nvPicPr>
        <p:blipFill>
          <a:blip r:embed="rId1"/>
          <a:stretch/>
        </p:blipFill>
        <p:spPr>
          <a:xfrm>
            <a:off x="136440" y="963720"/>
            <a:ext cx="8893440" cy="5046480"/>
          </a:xfrm>
          <a:prstGeom prst="rect">
            <a:avLst/>
          </a:prstGeom>
          <a:ln w="0">
            <a:noFill/>
          </a:ln>
        </p:spPr>
      </p:pic>
      <p:sp>
        <p:nvSpPr>
          <p:cNvPr id="3" name="PlaceHolder 2"/>
          <p:cNvSpPr>
            <a:spLocks noGrp="1"/>
          </p:cNvSpPr>
          <p:nvPr>
            <p:ph type="sldNum" idx="3"/>
          </p:nvPr>
        </p:nvSpPr>
        <p:spPr/>
        <p:txBody>
          <a:bodyPr/>
          <a:p>
            <a:fld id="{B86100AD-CA88-4689-BA67-29C99F6087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La batería de bienes</a:t>
            </a:r>
            <a:endParaRPr b="1" lang="en-US" sz="2400" spc="-1" strike="noStrike">
              <a:solidFill>
                <a:srgbClr val="ff3300"/>
              </a:solidFill>
              <a:latin typeface="Arial"/>
            </a:endParaRPr>
          </a:p>
        </p:txBody>
      </p:sp>
      <p:sp>
        <p:nvSpPr>
          <p:cNvPr id="103" name="PlaceHolder 2"/>
          <p:cNvSpPr>
            <a:spLocks noGrp="1"/>
          </p:cNvSpPr>
          <p:nvPr>
            <p:ph/>
          </p:nvPr>
        </p:nvSpPr>
        <p:spPr>
          <a:xfrm>
            <a:off x="457200" y="1052640"/>
            <a:ext cx="8075520" cy="5148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algunos casos en los cuales no es posible aplicar la matriz (ejemplo: jubilados, cesante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estos casos, para determinar el NSE se ocupa una batería de bienes en vez de la ocupación. </a:t>
            </a:r>
            <a:r>
              <a:rPr b="0" lang="es-ES" sz="1800" spc="-1" strike="noStrike">
                <a:solidFill>
                  <a:srgbClr val="000099"/>
                </a:solidFill>
                <a:latin typeface="Arial"/>
              </a:rPr>
              <a:t>Los bienes seleccionados actualmente son:</a:t>
            </a:r>
            <a:endParaRPr b="0" lang="en-US" sz="18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utomóvil</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utad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Horno microond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V Col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frigerad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vadora automátic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uch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V Cable o satelital</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ámara de video filmador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alifont u otro sistema de agua caliente</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rnet</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87707920-6BE9-4A95-9518-AD510576CE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75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lgunas consideraciones </a:t>
            </a:r>
            <a:endParaRPr b="1" lang="en-US" sz="2400" spc="-1" strike="noStrike">
              <a:solidFill>
                <a:srgbClr val="ff3300"/>
              </a:solidFill>
              <a:latin typeface="Arial"/>
            </a:endParaRPr>
          </a:p>
        </p:txBody>
      </p:sp>
      <p:sp>
        <p:nvSpPr>
          <p:cNvPr id="105" name="PlaceHolder 2"/>
          <p:cNvSpPr>
            <a:spLocks noGrp="1"/>
          </p:cNvSpPr>
          <p:nvPr>
            <p:ph/>
          </p:nvPr>
        </p:nvSpPr>
        <p:spPr>
          <a:xfrm>
            <a:off x="456840" y="1372680"/>
            <a:ext cx="8002440" cy="4792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lgunas empresas de investigación de mercados asumen que la categoría ocupacional es una variable difícil de medir, por lo que siempre  reemplazan esa dimensión de la matriz por la batería de bien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tra empresas de investigación de mercados, asumen que si bien las variables sociales son las más relevantes, las variables económicas también deben ser consideradas en el modelo. Por ejemplo:</a:t>
            </a:r>
            <a:endParaRPr b="0" lang="en-US" sz="1800" spc="-1" strike="noStrike">
              <a:solidFill>
                <a:srgbClr val="000099"/>
              </a:solidFill>
              <a:latin typeface="Arial"/>
            </a:endParaRPr>
          </a:p>
          <a:p>
            <a:pPr marL="343080" indent="0" algn="just">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i="1" lang="es-CL" sz="1600" spc="-1" strike="noStrike">
                <a:solidFill>
                  <a:srgbClr val="000099"/>
                </a:solidFill>
                <a:latin typeface="Arial"/>
              </a:rPr>
              <a:t>NSE final = 0,7*NSE Esomar + 0,2 * NSE tenencia de bienes + 0,1* NSE ingreso</a:t>
            </a:r>
            <a:endParaRPr b="0" lang="en-US" sz="1600" spc="-1" strike="noStrike">
              <a:solidFill>
                <a:srgbClr val="000099"/>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batería de bienes se debe ir modificando periódicamente (por ejemplo cada dos año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D3B00C6-375E-492F-8DCA-8C01CB0D41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7-10-15T21:41:21Z</dcterms:modified>
  <cp:revision>317</cp:revision>
  <dc:subject/>
  <dc:title>IN627</dc:title>
</cp:coreProperties>
</file>