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8514-6C4E-49A2-B441-0B5173E22C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9A35-A153-440A-A79B-2B7C77211A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6151-F5E1-40B0-A063-5C358B277F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30C2-4340-47D8-9E9A-1DC1167B34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4DDB-C009-4EE8-9B51-10DDF507F9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C827-A55D-4A0C-A28A-0896E81604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CA41-9691-4AA1-B030-9C549084FC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46EF-3E57-4BC3-96ED-FFAEEDB020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54B9-112F-42AC-8014-6324215716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96F9-DA16-4CE1-8FBF-EDB65D40F0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169E-5610-4DF2-97E3-D4E099E81F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0FC-F41E-48F0-A435-DB06326700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782E-8D3F-4409-93CD-AB758E02EE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BA0E-4A52-4991-8F76-6D1F3D92A1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E8B3-1E9B-4D78-B34A-D47A4B3BB5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E3E8-BECC-4DB9-A012-C461D6A0A3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9B60-A288-4124-BE87-AE93C8A225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BB7A-9CD2-4ED9-AF39-2ACA0598F1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B25A-548B-4CAF-A4E4-ABF98463BB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CDB5-C3D1-431B-8DC3-6E020CA808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9CD2-9BFD-4189-A91F-D0DE4A419F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2E5F0-F73F-47C8-B711-E7C7A932F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D67A6-B998-4D00-9434-DE8BE0F8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C7AE6-A4A2-44FF-BA4B-989188817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72C69-F65D-4A11-886D-D4C4EA15F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97173D-F694-4850-8B13-890E9F246D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5E463-F0BE-40A2-BEEA-A10352F30B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7DA1D-5454-478A-BCD0-6D9E68EEB4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473388-C523-4ADA-8A43-88A3EB7FE4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0A285-9536-43ED-96E7-A42584045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DCFA2-F975-4197-A1B6-CF251D3A00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8F412-65B8-410F-BF99-03E8F51324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0D13-42A8-4B95-BDA0-FB0628B19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C86C8-318B-495F-A2D1-E5F4DFD9AE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603E7-FFAE-4394-AFCA-0AA16EE805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72F78E-B0B3-44D9-940F-91C51920C9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4BBF7-A79B-4B98-A40F-88415F0FF9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849BA1-231D-4221-8E9D-491521007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9CB78-3C59-4020-8F11-5621A305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9D16A-E366-4685-A3F0-CC1E787E7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FB81-4CB7-467D-8793-727FEC41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27375-7EB1-4CA0-B39B-43305634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CA74-5D23-47AF-BC7D-127935B50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937D-DC1B-449C-A1AD-4023E2957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E9CE-9C54-44C2-9E3F-42264AECF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E1D5-FD3F-44F8-9591-EA3C6EE89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3DA2-6B57-45D9-86F9-FCFB8471A019}"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C1288C0-95FC-4827-B5BF-66222FA91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100EB68-7E44-41E2-94B9-EA78AAC48E1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818A101-16D1-4BFC-9EC3-21605A51C4C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CF2B1059-A4F1-406E-861A-580DFC93644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1C78215-AEBB-4112-B88B-94CAE4A79D3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A2F78969-82EB-472F-9ED5-ECABF99BAB8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13A060-9309-4862-AB5D-A914BFC5C591}"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3AD94B7-0B29-427F-A9B9-DBC0AB5F3A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70086C0-945E-476E-8082-386B784377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9B1AC7-4598-46CE-AB51-983FA3CC5823}"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76A4FB-E01F-46BD-B59F-21B17AE8A040}"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2A9B26B2-39F6-42BC-A1F8-A6B4EA0863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A2CBB46-1967-451E-AE55-7933E5721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E9CF3053-188A-412A-8693-DE924EE332FF}"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75572116-771F-404E-B3E8-E9B488D2BE56}"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8DE854A4-1131-46DD-84AC-DB375E63FEF1}"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38EC6D51-1EE7-4C60-A9C1-855312FAA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2A60E52D-DE1A-4107-8D9B-F5002F72B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1967E82-5B8E-4264-B469-92DFE659A4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37AEE90-A5DB-4FDF-9C6E-4312C5C68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45C6C41-3BFA-4BF3-B7AE-090EBD5C5744}"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19855AE-944D-406E-A61A-0FA417FE6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A5BB1C3-0B45-4521-BC7C-ED04698216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B247B47-5E98-415E-9012-B78CFBBFFC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A93D1F-9AAE-4541-9E48-0A8268A65A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5E74217-817D-4A00-8D00-05CC4B837EDF}"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CFB2D7E-BB13-4780-B786-968329CE7D3B}"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8436977E-C92C-45AD-BA60-99FD0DE23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1C55F80-32CC-43A7-ABD0-EDF9FA2F5127}"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A715C68-EC20-4D61-9018-C2B66D40EE69}"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56D650D-C7E5-44EF-8043-F3434C7A4185}"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F148A81-0C8E-4E8A-A0E4-936FF728E903}"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5CB2331-167A-4F61-94EE-308C51AD41C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C54133C0-1F87-48D8-996F-0FA4E149F61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B59821CC-FFB9-4759-97CB-84CC2C0BE7A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2C26954-47A2-4AB6-B4B0-387A45918C6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01B0F30-AC54-4D74-AC25-D6F99A2F42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19361A0-EECC-484E-9E3D-3920E30D0E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1DE27C-9E75-4977-A8B5-6F2B202E0A5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AA64FC16-0FB8-45ED-A281-2C44D996162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C04A4B-8028-44CD-BC48-9186912BE370}"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B051DD2-4CE6-4CBA-B8AB-6CA703A9300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D05B33-BBCE-4F54-821D-7D8424E28663}"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83B25ECB-305C-4272-A0C0-E1E778A4678E}"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4737AF41-4102-4B46-AF04-8388C49170F5}"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90AB7BA0-F8FB-4D52-B0B8-E7A8836E09DF}"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B5B989BA-1E51-4FEC-9AC0-81D00A2C4C58}"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E52C204B-7C23-4A83-9F8D-262EE6F970A6}"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6149F65-63AC-4169-9BB2-7A90C0DA915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2EAF7A-265A-475C-9EB2-9C67DD413F17}"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82E8644-8BFA-48CD-BDBE-5D58424A9EE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A19998B-7038-485E-AADB-44F66E44B86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9E07DA30-0C74-42AB-84BB-CE61DB7E580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7B424C9-F325-4ACC-9A5A-6E497A44BF2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510BFBB-325C-4258-B8FE-3F203440D82B}"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D9E495F-FC15-4D1C-8D4D-F19A1E04B40D}"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2D2B40B-88F8-4645-A2A3-22635580069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466CC5A7-CF1D-475F-A3C0-2A8A8CAFD1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A96EEB4-E4EB-48AF-BC37-8A9D5AC4994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0255261-8DE6-4090-BA66-967C5DFBF32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C566910-E5F4-4CDA-856D-EEFFBD316B29}"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A6FD1A-A750-4DB8-B161-D1EF8371FDB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6AF93E1-6C82-4BBA-BCD2-5E3E6D0250D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C18F4E-254A-410E-A318-7FFEE1976EF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E67228-759E-4ED9-BF45-B930ACD1F3AF}"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B419D0-C878-4C92-A40E-497E6514EA1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FE0CD4-6BA9-46AD-B1F3-6858B3011BC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ABB703AB-4889-4992-9728-F9AE18454FAC}"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36D2933-B403-4953-8266-2EB8FEAA788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589040B0-DA9D-40E4-B22A-83C0E44ADFC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A18CA36E-F8E3-4B9D-8622-3C845C81DC2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B7422A1-0AF8-4E0D-81AB-177996BA8DE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2E79ACF0-964A-4C8F-B613-9902F51EC5C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30CA98E-7E9E-4996-AE3B-3AEFE09B925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DD7A200-6F08-4B03-97DD-C19A7437E24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10B3E9-E1BA-44D7-9876-C651A940FEE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8A807FE-FA4D-4071-8EF2-9B1CDBF9E27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A14C36B-A7DF-4106-A986-159B0BA869F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E1F9FEA-2244-4F9C-9B0A-D783F20B87F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E389BFF-6B66-4ADB-8F10-61C2F6065FC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A7A039B-99B9-4885-93B8-A09632B53E9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7737CBF-F6C5-4D32-9DA2-3B8C7201E26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5826159-9223-4F6B-8FC3-74CD2E2D55B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5E9BB70-285E-4E95-91EA-A88A81BF377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Acudir a las fuentes más cercanas (amigos, compañeros, familiares, etc.) o a especialistas e indagar: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C47986E5-BCD1-4342-9BC2-09AA8895FC2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DBC0923-9005-42A4-83CB-9B63F330A86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E810CDA-4BB0-4AAA-9020-6654A7264DD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25A8107-ACF1-4CCA-91CE-02424854A8F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A9621B4-1C0D-43CC-B340-4ED5190A522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5FF4C5B-5720-4C58-AE1E-04CA3A8E6DE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98D4761-045C-454F-BDCA-11BC485B346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8CD027FF-EC84-4A72-B123-E944BF5D5B9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9E83FF-E10A-401B-9542-5F1EC9EF631F}"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934749B-E1B5-4A1B-AB9C-1E8284993C1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04A90F-47D1-4865-B556-3B0A0AB69672}"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5821ED-F000-4F9C-BA7F-E798B9A68E10}"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16B877-FD22-4FE6-9B1F-FD2563062307}"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7DF597-8BC2-4B51-BA9A-BAD487BA5B70}"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59568E-7A0E-4422-B512-DCBDDD3F4889}"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46B703-F67B-427A-B20B-E53BE4D6ACEF}"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72E9470-3DA7-43F0-9BF3-AF3EA04244A3}"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326F6132-5791-4BB6-87CC-0AABFABD291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9C6E823A-FB6E-4CE8-8F4C-38B62C0AA67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F201E200-8ECE-404C-98A3-6193BDC7CD1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9-26T04:14:32Z</dcterms:modified>
  <cp:revision>310</cp:revision>
  <dc:subject/>
  <dc:title>IN627</dc:title>
</cp:coreProperties>
</file>