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93E2-0811-450C-8019-EA495DD743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6FC2-35D5-4422-B250-F4895BC4ED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3878-C02B-4250-BEE4-3358EBF26A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EC0A-DAF1-45E3-B420-E3A3128566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6ABC-75FC-44EC-BDDD-9E2D28D1A9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1019-6A37-4619-BEE8-E060197E8E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809B-6A1C-493A-9EEF-354F030F18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4710-9ED4-48C2-A579-00F5BA4DD4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3E65-D947-4B2A-8568-B7A39255F1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00A3-7C0E-4124-B4C4-B3135DC6CA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E78C-FFAC-4663-83AB-B2DFC71B86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BDE3-7723-46FC-9CB5-136CD0ABEF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ED8F-C82B-444B-BCC0-1E178683F4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39CC-FA98-4EDD-8ED5-AD4F386882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992F-FB9A-4993-8595-3CC54FA4AB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5B5E-4088-47D4-8BA7-C1E5FB6D0F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AAAA-D7CD-460E-A2DF-17550BF866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C6B7-6E74-4850-80EE-9578267225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871C-D4AD-4FE9-B701-FDB4146A32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7246-DE9B-4E67-AA36-E3EEB3143A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57F5-2401-4E8F-B407-4980AA649A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944CB-314F-4037-A643-0686EF0B3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45FB-5E31-4C93-BC21-BA76BC67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957F-437F-4597-9085-D16153FF9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1E206-83F7-402F-96EF-9E27FFA9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256B3F-8A6C-4FBD-9C6D-C1C892A213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AA31E-BBC5-4F88-91A0-21ADE5B7F8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358E4-E560-43D2-B973-3CAAC1175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4C2FD-11C2-4A4F-8BFC-C5D157885B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038CB-CD4A-4BD0-933C-E0FF93606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43398-9DF1-4FB9-95AD-8D3A1D2BE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82EF6-4B99-45CA-B506-C4E83E8184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610E-CA09-4477-BF92-80E9DCB9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20946-0AB2-4648-8817-47D5308D6D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E76E3-5939-46D7-8B65-A5A5EE4C14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6D2D0-8173-4024-8E50-82AD69EF74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C0D198-0951-42A6-9DA6-A6958303F3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6D2B00-B6F2-4D0C-AF99-B1690B14D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6E0F-55B8-4B18-9C7D-96410FB8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967F-91B6-4E46-B575-A2BA01DC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B88A-02A6-45CE-A0A8-568719EA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B609-191F-445B-9152-42103E30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DA2C-3139-4414-A8C7-46AAF9E6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B6E0-5CDA-45B7-A8D4-40767A32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3058-E6C2-48CA-B83C-4C15AC8ED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DA33-CD2C-4A99-9632-7273F7D5E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5EF0-6B63-40CB-8E74-81528C29FA9D}"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EC1DBE5-D196-4056-AEE4-F83052287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2265534-E386-431A-B109-2A037718730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CB7F2BE-0B1F-4F8A-9C9E-BF369D0C249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438D6540-9DC8-49DD-9E04-CAC464517E6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53BB3E2-44D7-46DB-9CD2-F3F36CC93B1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E6B7A2C4-D0F6-499E-9069-0FE87BE98A6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B428622-C97E-49A8-86D5-88C85619E730}"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A7EA955-BE78-4C5A-8D4F-1FC77FBF69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7EFC85B0-7CFA-4402-AC02-8453C4AF79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DB94F6-C069-4ED5-90CF-03644B0D94E2}"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B98BE3-6101-406F-9171-01A33EC0EE0D}"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BD34020-BEC5-415E-9DB5-16ED585043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8F96ED9-1751-44F2-9818-9B526FC35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AB634FA2-185D-40B9-81F7-48694E3E7631}"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FB01F276-815D-4467-ACB6-4261108A7547}"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EDA7D993-57D0-4C34-8746-E30825CC3781}"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F2B54137-C592-4348-9998-BB3B36D006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D9F47D2-60B4-4F43-83CE-E278900FE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82DF7EB-7346-4447-9F43-C58C588B6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8CC7AD1-A38F-432B-B8EC-9DF9C6ECC5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CE146D1-DB69-4F36-89BA-4532F82CE605}"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3279E990-5892-4B67-BBA8-8A4E18BF2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E839222-CB20-4B33-89D0-85F807F72E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AB19FFA-4A1D-42C2-B24B-BD92D7E91B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C5BC46-98B7-4BDD-8495-9A136B1703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F5822E0-1428-443F-89E9-DE6E96690E41}"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0C92471-2A12-4EB9-BDBC-E9EF0E6EC21A}"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BD13512-3F42-45A7-B2B9-11145E18AE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96B49EE-BE0C-43C7-BBF3-74AF22D87B94}"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652BFDD-8437-4609-9C02-515E8DDEA54D}"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5132946-4E73-4C02-8929-CADFC6E85181}"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93002ED-2979-4033-80CD-1B3EE1530E55}"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D343BF5-C30A-4B76-AB34-52343E6F6C3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1A6F6EB4-D0D2-408B-838B-F067E6B565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65E7039-B727-4D0D-ACAC-7C01ADCC34A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C19D985-C739-45CD-9524-A6648F761D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5F1481-309F-4644-B104-7DA1BF61E2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E48525A-6821-4942-BF7C-7957D34E2C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B68BF9-87C3-440A-B5E2-BB94B60DDBB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F4AE0E23-A4F0-47C9-9F16-394F9C16018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3AC436-E7F5-46D1-960E-272B1F4D46F1}"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02478B4-AF28-466D-A732-6D27EA7333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AF13EC-AB8B-4561-BB5D-933F33661843}"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7028AC1A-6DF3-434A-8502-6773A163634A}"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7A12C675-4F5A-434D-AD30-4C582CFBDB84}"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86AFC84-3D3F-492E-97E3-343008D9AEEA}"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F7FB495-9D28-45F9-9CBE-0E7EFFEF4BC6}"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2BC57D93-BA5C-41ED-9B78-C9618C720FE0}"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A543DD7-376A-48B8-904F-164AF0E22D5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2F98D8-4295-40FB-BFF1-618B65DCD24E}"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1B1C767-887C-4B4E-8E0F-D0DF63D657B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CB6423A-F22D-4FC7-ADA8-1B82376C4A9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2F3157FD-7698-4E3F-9678-4044AC8C0B7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FEDAE49-AE4D-4D6A-BC6E-F76E2DCA83E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3627F89-FDE4-457F-8028-4EB83E33AC80}"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C189D57-1615-4118-8696-7EB9BBB71EE5}"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617BA2A-B181-414F-B151-636AD2D7709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20B43B3B-B714-4882-BBE0-32DD0831D11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B22F259-2A53-4C44-8811-70CA9A43AE6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EB9D71D3-085E-4167-9DC2-E548C244E58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0B46499-5FA4-4F6F-8E5B-99C83631E571}"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5F6558-6892-4020-B7AA-83A115629A1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480E1F-CB22-44F8-8978-B69744D5855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47339B-AD86-4DFF-B95B-388B4655AF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02F2F86-B8A0-43C4-866F-07C696EABF6F}"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C538C0-1E4F-47A5-9EA0-5CC192C6FD7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0C772C-8118-4F64-970C-4C0A2429527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2FAC8AD4-A038-46CE-BD10-300DB6E94CF4}"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4303EE2-4BF1-4049-87D8-A7817572B8D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539F1ABE-A0B8-49B4-BC93-3480F1BA44F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1F40CF5-0CE8-4DA3-9D5D-15AB2DD8E4D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AA9B806-4175-4DA1-9899-199FCD12848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7906109-2D51-4AF5-9456-0E0BBFCFA3B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EF8857F-83FB-4A06-AC7C-597208F7D2B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A34F664-5591-493C-91DA-0CDE842B630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69B0F4-7DC3-4E1B-9704-119C9649B64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7976927-1F87-4A9D-8BB9-C1BCFDEB527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643D75D-8735-49D4-800C-553E026379A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0107CC7-73F7-4C29-8D03-455412D5DEE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42895D9-2E7A-46B0-AD1A-0EB0B974EE9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352E19D-5BC3-4F72-B0BF-5C3E6FE4862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C55F94E-E5BC-4F6E-99B8-7E765CD37F5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8E62AEF-DCCF-4C95-8C52-486811F9D49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9D6524D-B58E-47A2-8B5C-D8D9972F2B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Acudir a las fuentes más cercanas (amigos, compañeros, familiares, etc.) o a especialistas e indagar: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1962442F-B2B2-48C0-A933-DECC4BDA44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8A6B3ED-0C1C-4822-941C-5F2F35CE4FD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60E4B9D-322C-4349-A4FF-49CBE026619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278F546-6D26-40A1-87AF-E4ABC4831CC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D622019-5BF1-479E-AED2-CA6F902F3B3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E53760F-A484-43C6-B9AD-ED480833384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1B01670-F6FF-480B-B26C-6315E8EE548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71C535C1-8B98-4263-8C1E-8ADE32F2F9A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9E0A86-B550-4D05-A105-CB99E5F5E72C}"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09E0027-DF95-4E0E-98A0-206B2BF70FF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61B7B8-B87D-4895-B637-AAC2ECF6FFD0}"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EC437A-F35F-49B8-AFE8-6838FDFE8AE7}"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61699A-2B58-4752-8310-16C2E1CB0582}"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070A94-1400-47D7-9BF3-4E33F9C5FB24}"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952440-796F-4091-8440-7FA187E4B262}"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345D62-844F-4C37-B7C3-6A6590BE29C8}"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FE3A5A-D51F-412A-8616-97281F29C422}"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E67F7102-B5BF-400D-BBF2-D8D7CFD0A88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EF73BDFF-0D88-4C19-AA45-209E28191F3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49C6B2AE-8FE0-4E59-81B7-DD6EE4E86EE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9-26T04:14:32Z</dcterms:modified>
  <cp:revision>310</cp:revision>
  <dc:subject/>
  <dc:title>IN627</dc:title>
</cp:coreProperties>
</file>