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2C58-EDC7-4AF5-8119-AF7100B50E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E1B4-988B-4FF7-B5B2-0E608E57E1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270F-CF63-42B6-873E-D559EA718F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7AE5-5A04-4133-8254-B82AB7483B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32C3-D359-4E52-8E16-AABF7B4725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08F8-4B7B-41E8-B554-D2E3FC51399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286D-F882-4581-B88F-C0987916FB8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362D-A2FE-4774-9B05-7CE87E183E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9225-04D7-4120-97FC-322715302B4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39CB-E9AC-4E09-8BBD-976A43117B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1AE9-46A4-464E-A805-DF55AD8562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2492-E49D-432D-A1FA-BCB7C80CA0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6734-17F2-49E3-9526-31039D4C74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5E3A-7EC0-45E9-AAEC-DDA46AF389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1923-5ABD-4206-AC1C-1E5881AC76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ABB7-950B-486E-A18F-7C995B6798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659A-34AD-4ABB-BA63-5FD7E1B762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81F8-41BF-4D72-A654-5C84C3AFCD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3000-3B4B-4D4D-844E-3A4E06C60E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C885-6D5F-4308-A9DD-F495B55DEC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F3F7-84B8-44FE-B2E0-1EB1D1C021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3CD69-DF60-4D22-A1E7-A921C4BBE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B3439-FB3A-4BF2-B5DB-22A3FE79F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3C20B-A019-4589-AD4F-ADEDC79FB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3E1E8-EDE4-47C7-B358-C77C4F15F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FAA3E0-9DD6-4D48-B4C2-45FDB62A52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902FB3-79C6-48AF-A181-C8F9B0B952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DB690D-B40B-46BD-BEC0-D008B3945C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024DA1-B26E-4328-A579-5C02596C2F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89137-990B-449A-9BFB-3915EB5C33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3CCAA-400E-4BAA-898C-B9C42B68BC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EDF732-2A94-446E-A721-68D409DB8F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31FD2-E641-4316-B25A-DBB652C7C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90EDF-D298-4C07-9A53-9FA54FD013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1B1ED-2EDF-4286-A07E-D9820767B1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FF267-F100-4349-9233-FB461F1998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199841-017F-4F13-8F3A-C95F728DEB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72C135-6C19-41D6-B456-2A8DE8EB74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7F5F0-CFAA-460F-8E22-359DA705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9557-BCC8-4331-8DE2-30120B232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60D1-986D-46A9-A01B-B161FAB9A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1EF39-D4BE-4179-A5A7-B5FCEFA71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1B7C-6737-432C-8416-83A869773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E8D51-C71C-4877-A533-9DA27CEDB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DA7BA-1250-4E3C-9154-4E72041C7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1428-BA46-4ED6-971D-8FB335C0A2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35E5-5B48-4A11-9123-A6E6BCD4EC24}"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F8E55542-2E09-4774-BD4C-804877801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E6E5CDF-22C1-474F-BEB7-05A5E364357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267B5D2-00D7-4740-8107-F2D1139B554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E05040B8-D033-4C2A-8E5E-C97E26E96BA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8003CE6-2A3A-46DA-A9FD-4450DE8A708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09BF6F5B-5E57-449B-922C-EE1BD42320D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7F73B2F-855E-4577-9C06-9A4DC7206A97}"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5259AFC2-0006-4A87-8AB8-E0870CB78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D194D7D5-AB39-48A2-A271-290979851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5C83FF-512C-4FCD-A405-62CB53BDA181}"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A588E0-85B3-4D39-8A66-9DF99BD60408}"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CE58F5C-5B23-4353-96EF-EF3BF6FE35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D75902D-A502-467A-9D1C-910E06B5B8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81ED8173-7A29-468E-977D-CF92E443CCAB}"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88C4967F-3FE5-4627-8F09-59A536BD85BF}"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EBA9FEE0-387C-4B71-8119-62E7412EBA17}"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4DF5D40F-A61E-4644-8DB8-C35293F9FC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EE69285B-B155-4F88-85AF-EB98DBF102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83B1DBF-9283-4B0D-8B4A-D9BCA3DBD5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EE0A607-9BB0-4394-8C70-FAD4BFFF27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6BD203D1-CBD7-4816-BB30-0EF0A95C7399}"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7756FDEC-5953-47EB-8264-50A306F1CF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073C244-5038-48E0-A50A-F531263AD3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1BD31B6E-857A-4A34-8B87-3B1C37F9E2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F950E74-E8F8-4CD3-9B7D-84F9DF1D5E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C71CC01-439A-4E8F-BC43-23DBE32F7D4D}"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0F798777-AA9A-4AE3-B0CF-33C1A2E94F69}"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ECDE69D1-3152-44B3-9EE8-52F78809EB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1BD1971-E259-4FF6-AB2E-8B529656EF05}"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41DBD99-C577-40E5-B418-C1D043C42095}"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DD4D3CE-67CB-42C0-8FCB-2E9E1D2178EE}"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01E875F-80A0-4741-ADA2-0ED783B8902E}"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93B2DBD-08E5-4FC5-99EB-5F1A7296C13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31430DFC-9FC6-4D98-8404-8C4F4E7FA59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DFA9D67C-2275-4696-9ABA-5208D42B65B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C526B37-2944-4BB0-8EDF-1ABC41A79C3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35E4EF9-9BEA-4BB2-BBC1-9719990255F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4759FF0-13F3-4281-9B64-8B790ABE8CA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8F3811-9A36-4224-A874-446CFD68A64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52A2DFF8-A4C8-433D-9431-D4DA8BF27E2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8B4EF2D-D836-44E5-B547-D47585E306E3}"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140B6B0-4279-407C-8D00-EE3DE53019F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4DB853D-8B03-4506-A461-A8C101DB5CB9}"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303FAFCB-2377-44C8-A476-6503162C35D1}"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587A4B48-E41F-43B6-8DA5-2B066D5481AD}"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C07D041D-393B-44FD-9D90-657C2A539DE1}"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4DD34016-B833-4DD7-BDC6-C67CBF34C9E3}"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DAFA67E2-E721-4CE4-860E-586D122CACC7}"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281F004-0E2A-4F6F-882C-F8CFBCFC34F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628E76-C322-4D8A-BDDC-A31A26272A2D}"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805E2B5-756D-4840-A143-B650B5DB0EA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485DD29-AE6B-42BA-8347-539DF381C48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6B32F75-EB01-407B-8646-918974DCC97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DEC9B62-78BE-42B8-A928-6F745CC57DA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D4B2366-AA9D-4856-9EA0-030542D752A9}"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5912174-F0A4-4E3F-A573-831D34E86192}"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307D79E-9FBF-4401-88BA-2C651E5C4DF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66C16A0D-7AA6-4D84-A48A-D54A17549CC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39ACFD8-BEE8-47AC-95D8-14E684F1103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89B9093A-2E20-4336-BA0D-EF4062F0640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8E0F62F0-A26F-4B96-A2EA-BE4E6BA9F941}"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1B3C7F0-2935-4CCA-82D8-8B262460525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A2E3EB2-D5D6-4805-9BF4-44D0AE52597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3006C8-ABDE-4CF2-A5D9-FBF9F6AA703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614EAF1-F4B5-4C3E-8E83-A10068A5FA06}"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6A6F5FB-35A0-4AEF-B78A-772BAE8462D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D1FB493-6E9B-40F2-9583-BBF2F2BB4E3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2856E952-32F6-4756-BB0F-56433E4CB9F6}"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BAB47595-FB84-4F33-B607-1BB58D8EDDD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50B8B161-7801-417A-B849-B28810788DF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FEDA048-E06B-4CA9-BA0C-8657E4E8F3A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BD09220-BFD0-4BCA-A821-34212FA0E99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31E1136F-582C-4DA2-A1F6-AC2CB66A311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B551963-3A7C-4EB8-AE62-A4EB9E95895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047DF2B2-C0CB-4603-BA69-3AEC98E7DFC5}"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CB209A3-74C1-4300-8529-EE47A597E91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C69393C-1BF4-4CF9-80D8-06301DBCDCA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23DC3FE-11E0-411E-8AB7-BCB7CCF2823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2DFABF3-3661-4A91-95F5-03D8D78E369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DEB1928-ADDA-4858-AD28-7A32B95FFB2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94347AB-8AD1-4F56-903A-47F26B5B4F4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9FD8912-372E-4C06-8C73-17DF22A6155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027BE03-3BD6-4E3F-BA73-AFCDCAA8275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2F9E1A0-989B-4859-8AC7-EBC197A9875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Acudir a las fuentes más cercanas (amigos, compañeros, familiares, etc.) o a especialistas e indagar: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82CDEB32-D63D-4E1E-AAD3-CA62B4E5DCB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F87AACE-8CAB-4CCA-B9BF-C9B8F80BBA0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FA82217F-6454-45FE-A47D-65624F032C4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478A47C-B4F7-4498-A16A-B6B5197C27D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DBB8B40-5B7F-4E22-AD5C-1286D816940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B3FB7DB-7BF0-4642-AD43-85F444209C5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D8733530-71A1-4D54-86C1-F0EE477AC25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355664A6-73BF-4A05-86EE-7B62B89DFCA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F4A86AB-7144-4A5A-9796-53048689E4D4}"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CC04F85-6BCE-41EB-A44E-731A7434861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EE9BCF-4DC3-42BB-B4E7-43C60ECD1CAC}"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88D627-9ABD-4939-8C00-53C7344A72A0}"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FD59982-108C-4330-A102-CBAF73D3769E}"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74BBAE3-31F0-4D5D-A7CE-30637F13DBC3}"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F9F0142-5D09-43C0-84D4-F955805C082E}"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7319F1-0383-4E5D-A926-42D1D277556F}"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6720738-1C9B-4845-B58D-4819E4C4AA05}"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8F65D8D0-8327-4706-BA40-C260283BE1E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9D93F376-91EE-4614-961D-0BBA02F4EA2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E405D679-8BC0-40B5-BD0A-9C44DFA9A35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9-26T04:14:32Z</dcterms:modified>
  <cp:revision>310</cp:revision>
  <dc:subject/>
  <dc:title>IN627</dc:title>
</cp:coreProperties>
</file>