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4920" y="378360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38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7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9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4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97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9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aditione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75960"/>
            <a:ext cx="7620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aditione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aditione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38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94920" y="378360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38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7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9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94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7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9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75960"/>
            <a:ext cx="7620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aditione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38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-14400"/>
            <a:ext cx="8229600" cy="776520"/>
          </a:xfrm>
          <a:prstGeom prst="rect">
            <a:avLst/>
          </a:prstGeom>
          <a:solidFill>
            <a:srgbClr val="bdd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81807" t="0" r="-287" b="0"/>
          <a:stretch/>
        </p:blipFill>
        <p:spPr>
          <a:xfrm>
            <a:off x="0" y="-14400"/>
            <a:ext cx="990720" cy="67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883"/>
                </a:solidFill>
                <a:latin typeface="TraditionellSans"/>
              </a:rPr>
              <a:t>Click to edit the title text format</a:t>
            </a: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1" marL="743040" indent="-285840">
              <a:spcBef>
                <a:spcPts val="601"/>
              </a:spcBef>
              <a:buClr>
                <a:srgbClr val="183883"/>
              </a:buClr>
              <a:buFont typeface="Traditione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2" marL="11430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3" marL="16002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4" marL="20574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924680" y="-304920"/>
            <a:ext cx="1014120" cy="990360"/>
            <a:chOff x="7924680" y="-304920"/>
            <a:chExt cx="1014120" cy="990360"/>
          </a:xfrm>
        </p:grpSpPr>
        <p:sp>
          <p:nvSpPr>
            <p:cNvPr id="5" name=""/>
            <p:cNvSpPr/>
            <p:nvPr/>
          </p:nvSpPr>
          <p:spPr>
            <a:xfrm>
              <a:off x="8082720" y="-234000"/>
              <a:ext cx="781560" cy="739440"/>
            </a:xfrm>
            <a:prstGeom prst="ellipse">
              <a:avLst/>
            </a:prstGeom>
            <a:noFill/>
            <a:ln w="28440">
              <a:solidFill>
                <a:srgbClr val="006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388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57040" y="27360"/>
              <a:ext cx="232920" cy="216000"/>
            </a:xfrm>
            <a:prstGeom prst="ellipse">
              <a:avLst/>
            </a:prstGeom>
            <a:noFill/>
            <a:ln w="12600">
              <a:solidFill>
                <a:srgbClr val="006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3883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924680" y="-304920"/>
              <a:ext cx="1014120" cy="990360"/>
              <a:chOff x="7924680" y="-304920"/>
              <a:chExt cx="1014120" cy="990360"/>
            </a:xfrm>
          </p:grpSpPr>
          <p:sp>
            <p:nvSpPr>
              <p:cNvPr id="8" name=""/>
              <p:cNvSpPr/>
              <p:nvPr/>
            </p:nvSpPr>
            <p:spPr>
              <a:xfrm>
                <a:off x="8007840" y="-304920"/>
                <a:ext cx="930960" cy="880920"/>
              </a:xfrm>
              <a:prstGeom prst="ellipse">
                <a:avLst/>
              </a:prstGeom>
              <a:solidFill>
                <a:srgbClr val="96b8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388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81880" y="48960"/>
                <a:ext cx="182880" cy="173160"/>
              </a:xfrm>
              <a:prstGeom prst="ellipse">
                <a:avLst/>
              </a:prstGeom>
              <a:solidFill>
                <a:srgbClr val="0067ac"/>
              </a:solidFill>
              <a:ln w="57240">
                <a:solidFill>
                  <a:srgbClr val="0067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83883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7924680" y="261000"/>
                <a:ext cx="432360" cy="424440"/>
                <a:chOff x="7924680" y="261000"/>
                <a:chExt cx="432360" cy="4244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7924680" y="261000"/>
                  <a:ext cx="432360" cy="424440"/>
                </a:xfrm>
                <a:prstGeom prst="ellipse">
                  <a:avLst/>
                </a:prstGeom>
                <a:solidFill>
                  <a:srgbClr val="96b8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3883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959240" y="294840"/>
                  <a:ext cx="362880" cy="356400"/>
                </a:xfrm>
                <a:prstGeom prst="ellipse">
                  <a:avLst/>
                </a:prstGeom>
                <a:noFill/>
                <a:ln w="12600">
                  <a:solidFill>
                    <a:srgbClr val="0067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3883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086680" y="421200"/>
                  <a:ext cx="108000" cy="103680"/>
                </a:xfrm>
                <a:prstGeom prst="ellipse">
                  <a:avLst/>
                </a:prstGeom>
                <a:noFill/>
                <a:ln w="6480">
                  <a:solidFill>
                    <a:srgbClr val="0067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183883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098200" y="431280"/>
                  <a:ext cx="84960" cy="83160"/>
                </a:xfrm>
                <a:prstGeom prst="ellipse">
                  <a:avLst/>
                </a:prstGeom>
                <a:solidFill>
                  <a:srgbClr val="0067ac"/>
                </a:solidFill>
                <a:ln w="12600">
                  <a:solidFill>
                    <a:srgbClr val="0067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18388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 579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22572" t="0" r="0" b="0"/>
          <a:stretch/>
        </p:blipFill>
        <p:spPr>
          <a:xfrm>
            <a:off x="-1440" y="-14400"/>
            <a:ext cx="9216720" cy="6624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599160"/>
            <a:ext cx="9144000" cy="27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3581280"/>
            <a:ext cx="5715000" cy="1447920"/>
          </a:xfrm>
          <a:prstGeom prst="rect">
            <a:avLst/>
          </a:prstGeom>
          <a:solidFill>
            <a:srgbClr val="d4e3f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83883"/>
                </a:solidFill>
                <a:latin typeface="TraditionellSans"/>
              </a:rPr>
              <a:t>Click to edit the title text format</a:t>
            </a:r>
            <a:endParaRPr b="1" i="1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3883"/>
                </a:solidFill>
                <a:latin typeface="TraditionellSans"/>
              </a:rPr>
              <a:t>CTP 2 - IN579</a:t>
            </a: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spcBef>
                <a:spcPts val="499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83883"/>
                </a:solidFill>
                <a:latin typeface="TraditionellSans"/>
              </a:rPr>
              <a:t>La cadena de restaurantes Gytsba, que cuenta con 9 locales en todo el país, esta iniciando un proceso de implementación de una Plataforma Tecnológica para la gestión de venta y administración financiera de todos sus locales en tiempo real (on-line). Esta implementación estará a cargo de la consultora Efesis especialista en este tipo de Plataformas</a:t>
            </a:r>
            <a:endParaRPr b="0" lang="en-US" sz="2000" spc="-1" strike="noStrike">
              <a:solidFill>
                <a:srgbClr val="183883"/>
              </a:solidFill>
              <a:latin typeface="TraditionellSans"/>
            </a:endParaRPr>
          </a:p>
          <a:p>
            <a:pPr marL="438840" indent="-438840" algn="just">
              <a:spcBef>
                <a:spcPts val="499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83883"/>
                </a:solidFill>
                <a:latin typeface="TraditionellSans"/>
              </a:rPr>
              <a:t>Usted es consultor de Efesis y se le ha asignado el rol de Jefe de Proyecto para la implementación de la Plataforma en la Cadena de Restaurantes.</a:t>
            </a:r>
            <a:endParaRPr b="0" lang="en-US" sz="2000" spc="-1" strike="noStrike">
              <a:solidFill>
                <a:srgbClr val="183883"/>
              </a:solidFill>
              <a:latin typeface="TraditionellSans"/>
            </a:endParaRPr>
          </a:p>
          <a:p>
            <a:pPr lvl="1" marL="8042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TraditionellSans"/>
            </a:endParaRPr>
          </a:p>
          <a:p>
            <a:pPr lvl="1" marL="804240" indent="-365400" algn="just">
              <a:spcBef>
                <a:spcPts val="451"/>
              </a:spcBef>
              <a:buClr>
                <a:srgbClr val="183883"/>
              </a:buClr>
              <a:buFont typeface="Traditione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83883"/>
                </a:solidFill>
                <a:latin typeface="TraditionellSans"/>
              </a:rPr>
              <a:t>En base a la metodología del paper “Project Management Manual” de HBS, realice el plan de administración del proyecto.</a:t>
            </a:r>
            <a:endParaRPr b="0" lang="en-US" sz="1800" spc="-1" strike="noStrike">
              <a:solidFill>
                <a:srgbClr val="183883"/>
              </a:solidFill>
              <a:latin typeface="TraditionellSans"/>
            </a:endParaRPr>
          </a:p>
          <a:p>
            <a:pPr lvl="1" marL="8042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TraditionellSans"/>
            </a:endParaRPr>
          </a:p>
          <a:p>
            <a:pPr lvl="1" marL="804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83883"/>
                </a:solidFill>
                <a:latin typeface="TraditionellSans"/>
              </a:rPr>
              <a:t>Indicaciones:</a:t>
            </a:r>
            <a:endParaRPr b="0" lang="en-US" sz="1800" spc="-1" strike="noStrike">
              <a:solidFill>
                <a:srgbClr val="183883"/>
              </a:solidFill>
              <a:latin typeface="TraditionellSans"/>
            </a:endParaRPr>
          </a:p>
          <a:p>
            <a:pPr lvl="2" marL="1207080" indent="-329040" algn="just">
              <a:spcBef>
                <a:spcPts val="400"/>
              </a:spcBef>
              <a:buClr>
                <a:srgbClr val="183883"/>
              </a:buClr>
              <a:buFont typeface="Traditione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83883"/>
                </a:solidFill>
                <a:latin typeface="TraditionellSans"/>
              </a:rPr>
              <a:t>CTP individual</a:t>
            </a:r>
            <a:endParaRPr b="0" lang="en-US" sz="1600" spc="-1" strike="noStrike">
              <a:solidFill>
                <a:srgbClr val="183883"/>
              </a:solidFill>
              <a:latin typeface="TraditionellSans"/>
            </a:endParaRPr>
          </a:p>
          <a:p>
            <a:pPr lvl="2" marL="1207080" indent="-329040" algn="just">
              <a:spcBef>
                <a:spcPts val="400"/>
              </a:spcBef>
              <a:buClr>
                <a:srgbClr val="183883"/>
              </a:buClr>
              <a:buFont typeface="Traditione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83883"/>
                </a:solidFill>
                <a:latin typeface="TraditionellSans"/>
              </a:rPr>
              <a:t>Entrega: Lunes 13, antes de las 12:00 hrs. en U-Cursos</a:t>
            </a:r>
            <a:endParaRPr b="0" lang="en-US" sz="1600" spc="-1" strike="noStrike">
              <a:solidFill>
                <a:srgbClr val="183883"/>
              </a:solidFill>
              <a:latin typeface="TraditionellSans"/>
            </a:endParaRPr>
          </a:p>
          <a:p>
            <a:pPr lvl="2" marL="1207080" indent="-329040" algn="just">
              <a:spcBef>
                <a:spcPts val="400"/>
              </a:spcBef>
              <a:buClr>
                <a:srgbClr val="183883"/>
              </a:buClr>
              <a:buFont typeface="Traditione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83883"/>
                </a:solidFill>
                <a:latin typeface="TraditionellSans"/>
              </a:rPr>
              <a:t>No más de dos planas</a:t>
            </a:r>
            <a:endParaRPr b="0" lang="en-US" sz="1600" spc="-1" strike="noStrike">
              <a:solidFill>
                <a:srgbClr val="183883"/>
              </a:solidFill>
              <a:latin typeface="TraditionellSans"/>
            </a:endParaRPr>
          </a:p>
          <a:p>
            <a:pPr lvl="2" marL="1207080" indent="-329040" algn="just">
              <a:spcBef>
                <a:spcPts val="400"/>
              </a:spcBef>
              <a:buClr>
                <a:srgbClr val="183883"/>
              </a:buClr>
              <a:buFont typeface="Traditione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83883"/>
                </a:solidFill>
                <a:latin typeface="TraditionellSans"/>
              </a:rPr>
              <a:t>Sea específico en su respuesta, lleve a la práctica la metodología.</a:t>
            </a:r>
            <a:endParaRPr b="0" lang="en-US" sz="1600" spc="-1" strike="noStrike">
              <a:solidFill>
                <a:srgbClr val="183883"/>
              </a:solidFill>
              <a:latin typeface="TraditionellSans"/>
            </a:endParaRPr>
          </a:p>
          <a:p>
            <a:pPr lvl="2" marL="120708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Retina</dc:creator>
  <dc:description/>
  <dc:language>en-US</dc:language>
  <cp:lastModifiedBy>rhasbun</cp:lastModifiedBy>
  <dcterms:modified xsi:type="dcterms:W3CDTF">2007-08-09T13:41:14Z</dcterms:modified>
  <cp:revision>2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