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76964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4920" y="3783600"/>
            <a:ext cx="76964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38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4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38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9700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908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492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89700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908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94920" y="838080"/>
            <a:ext cx="76964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aditione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76964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8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2640" y="75960"/>
            <a:ext cx="7620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aditione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8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94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4920" y="838080"/>
            <a:ext cx="76964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aditionell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38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38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38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94920" y="3783600"/>
            <a:ext cx="76964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76964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94920" y="3783600"/>
            <a:ext cx="76964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38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94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238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9700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9908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9492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9700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9908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76964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8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42640" y="75960"/>
            <a:ext cx="7620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aditionell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8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4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8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38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8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3783600"/>
            <a:ext cx="76964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-14400"/>
            <a:ext cx="8229600" cy="776520"/>
          </a:xfrm>
          <a:prstGeom prst="rect">
            <a:avLst/>
          </a:prstGeom>
          <a:solidFill>
            <a:srgbClr val="bdd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81807" t="0" r="-287" b="0"/>
          <a:stretch/>
        </p:blipFill>
        <p:spPr>
          <a:xfrm>
            <a:off x="0" y="-14400"/>
            <a:ext cx="990720" cy="670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883"/>
                </a:solidFill>
                <a:latin typeface="TraditionellSans"/>
              </a:rPr>
              <a:t>Click to edit the title text format</a:t>
            </a: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94920" y="838080"/>
            <a:ext cx="76964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83883"/>
              </a:buClr>
              <a:buFont typeface="Traditione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TraditionellSans"/>
              </a:rPr>
              <a:t>Click to edit the outline text format</a:t>
            </a: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  <a:p>
            <a:pPr lvl="1" marL="743040" indent="-285840">
              <a:spcBef>
                <a:spcPts val="601"/>
              </a:spcBef>
              <a:buClr>
                <a:srgbClr val="183883"/>
              </a:buClr>
              <a:buFont typeface="Traditione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TraditionellSans"/>
              </a:rPr>
              <a:t>Second Outline Level</a:t>
            </a: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  <a:p>
            <a:pPr lvl="2" marL="1143000" indent="-228600">
              <a:spcBef>
                <a:spcPts val="601"/>
              </a:spcBef>
              <a:buClr>
                <a:srgbClr val="183883"/>
              </a:buClr>
              <a:buFont typeface="Traditione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TraditionellSans"/>
              </a:rPr>
              <a:t>Third Outline Level</a:t>
            </a: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  <a:p>
            <a:pPr lvl="3" marL="1600200" indent="-228600">
              <a:spcBef>
                <a:spcPts val="601"/>
              </a:spcBef>
              <a:buClr>
                <a:srgbClr val="183883"/>
              </a:buClr>
              <a:buFont typeface="Traditione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TraditionellSans"/>
              </a:rPr>
              <a:t>Fourth Outline Level</a:t>
            </a: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  <a:p>
            <a:pPr lvl="4" marL="2057400" indent="-228600">
              <a:spcBef>
                <a:spcPts val="601"/>
              </a:spcBef>
              <a:buClr>
                <a:srgbClr val="183883"/>
              </a:buClr>
              <a:buFont typeface="Traditionell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TraditionellSans"/>
              </a:rPr>
              <a:t>Fifth Outline Level</a:t>
            </a: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  <a:p>
            <a:pPr lvl="5" marL="2057400" indent="-228600">
              <a:spcBef>
                <a:spcPts val="601"/>
              </a:spcBef>
              <a:buClr>
                <a:srgbClr val="183883"/>
              </a:buClr>
              <a:buFont typeface="Traditionell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TraditionellSans"/>
              </a:rPr>
              <a:t>Sixth Outline Level</a:t>
            </a: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  <a:p>
            <a:pPr lvl="6" marL="2057400" indent="-228600">
              <a:spcBef>
                <a:spcPts val="601"/>
              </a:spcBef>
              <a:buClr>
                <a:srgbClr val="183883"/>
              </a:buClr>
              <a:buFont typeface="Traditionell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TraditionellSans"/>
              </a:rPr>
              <a:t>Seventh Outline Level</a:t>
            </a: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924680" y="-304920"/>
            <a:ext cx="1014120" cy="990360"/>
            <a:chOff x="7924680" y="-304920"/>
            <a:chExt cx="1014120" cy="990360"/>
          </a:xfrm>
        </p:grpSpPr>
        <p:sp>
          <p:nvSpPr>
            <p:cNvPr id="5" name=""/>
            <p:cNvSpPr/>
            <p:nvPr/>
          </p:nvSpPr>
          <p:spPr>
            <a:xfrm>
              <a:off x="8082720" y="-234000"/>
              <a:ext cx="781560" cy="739440"/>
            </a:xfrm>
            <a:prstGeom prst="ellipse">
              <a:avLst/>
            </a:prstGeom>
            <a:noFill/>
            <a:ln w="28440">
              <a:solidFill>
                <a:srgbClr val="0067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388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57040" y="27360"/>
              <a:ext cx="232920" cy="216000"/>
            </a:xfrm>
            <a:prstGeom prst="ellipse">
              <a:avLst/>
            </a:prstGeom>
            <a:noFill/>
            <a:ln w="12600">
              <a:solidFill>
                <a:srgbClr val="0067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83883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924680" y="-304920"/>
              <a:ext cx="1014120" cy="990360"/>
              <a:chOff x="7924680" y="-304920"/>
              <a:chExt cx="1014120" cy="990360"/>
            </a:xfrm>
          </p:grpSpPr>
          <p:sp>
            <p:nvSpPr>
              <p:cNvPr id="8" name=""/>
              <p:cNvSpPr/>
              <p:nvPr/>
            </p:nvSpPr>
            <p:spPr>
              <a:xfrm>
                <a:off x="8007840" y="-304920"/>
                <a:ext cx="930960" cy="880920"/>
              </a:xfrm>
              <a:prstGeom prst="ellipse">
                <a:avLst/>
              </a:prstGeom>
              <a:solidFill>
                <a:srgbClr val="96b8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8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83883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81880" y="48960"/>
                <a:ext cx="182880" cy="173160"/>
              </a:xfrm>
              <a:prstGeom prst="ellipse">
                <a:avLst/>
              </a:prstGeom>
              <a:solidFill>
                <a:srgbClr val="0067ac"/>
              </a:solidFill>
              <a:ln w="57240">
                <a:solidFill>
                  <a:srgbClr val="0067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83883"/>
                  </a:solidFill>
                  <a:latin typeface="Arial"/>
                </a:endParaRPr>
              </a:p>
            </p:txBody>
          </p:sp>
          <p:grpSp>
            <p:nvGrpSpPr>
              <p:cNvPr id="10" name=""/>
              <p:cNvGrpSpPr/>
              <p:nvPr/>
            </p:nvGrpSpPr>
            <p:grpSpPr>
              <a:xfrm>
                <a:off x="7924680" y="261000"/>
                <a:ext cx="432360" cy="424440"/>
                <a:chOff x="7924680" y="261000"/>
                <a:chExt cx="432360" cy="42444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7924680" y="261000"/>
                  <a:ext cx="432360" cy="424440"/>
                </a:xfrm>
                <a:prstGeom prst="ellipse">
                  <a:avLst/>
                </a:prstGeom>
                <a:solidFill>
                  <a:srgbClr val="96b8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98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83883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959240" y="294840"/>
                  <a:ext cx="362880" cy="356400"/>
                </a:xfrm>
                <a:prstGeom prst="ellipse">
                  <a:avLst/>
                </a:prstGeom>
                <a:noFill/>
                <a:ln w="12600">
                  <a:solidFill>
                    <a:srgbClr val="0067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83883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8086680" y="421200"/>
                  <a:ext cx="108000" cy="103680"/>
                </a:xfrm>
                <a:prstGeom prst="ellipse">
                  <a:avLst/>
                </a:prstGeom>
                <a:noFill/>
                <a:ln w="6480">
                  <a:solidFill>
                    <a:srgbClr val="0067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183883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098200" y="431280"/>
                  <a:ext cx="84960" cy="83160"/>
                </a:xfrm>
                <a:prstGeom prst="ellipse">
                  <a:avLst/>
                </a:prstGeom>
                <a:solidFill>
                  <a:srgbClr val="0067ac"/>
                </a:solidFill>
                <a:ln w="12600">
                  <a:solidFill>
                    <a:srgbClr val="0067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183883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 579</a:t>
            </a:r>
            <a:endParaRPr b="0" lang="en-US" sz="1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rcRect l="22572" t="0" r="0" b="0"/>
          <a:stretch/>
        </p:blipFill>
        <p:spPr>
          <a:xfrm>
            <a:off x="-1440" y="-14400"/>
            <a:ext cx="9216720" cy="6624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599160"/>
            <a:ext cx="9144000" cy="270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8640" y="3581280"/>
            <a:ext cx="5715000" cy="1447920"/>
          </a:xfrm>
          <a:prstGeom prst="rect">
            <a:avLst/>
          </a:prstGeom>
          <a:solidFill>
            <a:srgbClr val="d4e3f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83883"/>
                </a:solidFill>
                <a:latin typeface="TraditionellSans"/>
              </a:rPr>
              <a:t>Click to edit the title text format</a:t>
            </a:r>
            <a:endParaRPr b="1" i="1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83883"/>
                </a:solidFill>
                <a:latin typeface="TraditionellSans"/>
              </a:rPr>
              <a:t>Publicaciones sobre Industria BPO</a:t>
            </a:r>
            <a:endParaRPr b="0" lang="en-US" sz="2800" spc="-1" strike="noStrike">
              <a:solidFill>
                <a:srgbClr val="183883"/>
              </a:solidFill>
              <a:latin typeface="Traditionell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76964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83883"/>
              </a:solidFill>
              <a:latin typeface="TraditionellSans"/>
            </a:endParaRPr>
          </a:p>
          <a:p>
            <a:pPr marL="343080" indent="-343080">
              <a:spcBef>
                <a:spcPts val="601"/>
              </a:spcBef>
              <a:buClr>
                <a:srgbClr val="183883"/>
              </a:buClr>
              <a:buFont typeface="Traditione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83883"/>
                </a:solidFill>
                <a:latin typeface="TraditionellSans"/>
              </a:rPr>
              <a:t>slideshow  of newcomers (Bangalore wannabes):</a:t>
            </a: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  <a:p>
            <a:pPr lvl="1" marL="743040" indent="-285840">
              <a:spcBef>
                <a:spcPts val="499"/>
              </a:spcBef>
              <a:buClr>
                <a:srgbClr val="183883"/>
              </a:buClr>
              <a:buFont typeface="Traditione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83883"/>
                </a:solidFill>
                <a:latin typeface="TraditionellSans"/>
              </a:rPr>
              <a:t>http://images.businessweek.com/ss/07/07/0731_outsourcing/index_01.htm</a:t>
            </a:r>
            <a:endParaRPr b="0" lang="en-US" sz="2000" spc="-1" strike="noStrike">
              <a:solidFill>
                <a:srgbClr val="183883"/>
              </a:solidFill>
              <a:latin typeface="Traditionell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TraditionellSans"/>
            </a:endParaRPr>
          </a:p>
          <a:p>
            <a:pPr marL="343080" indent="-343080">
              <a:spcBef>
                <a:spcPts val="601"/>
              </a:spcBef>
              <a:buClr>
                <a:srgbClr val="183883"/>
              </a:buClr>
              <a:buFont typeface="Traditione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83883"/>
                </a:solidFill>
                <a:latin typeface="TraditionellSans"/>
              </a:rPr>
              <a:t>Article:</a:t>
            </a: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  <a:p>
            <a:pPr lvl="1" marL="743040" indent="-285840">
              <a:spcBef>
                <a:spcPts val="499"/>
              </a:spcBef>
              <a:buClr>
                <a:srgbClr val="183883"/>
              </a:buClr>
              <a:buFont typeface="Traditione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83883"/>
                </a:solidFill>
                <a:latin typeface="TraditionellSans"/>
              </a:rPr>
              <a:t>http://www.businessweek.com/technology/content/jul2007/tc20070730_998591.htm?link_position=link1</a:t>
            </a:r>
            <a:endParaRPr b="0" lang="en-US" sz="2000" spc="-1" strike="noStrike">
              <a:solidFill>
                <a:srgbClr val="183883"/>
              </a:solidFill>
              <a:latin typeface="Traditionell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TraditionellSans"/>
            </a:endParaRPr>
          </a:p>
          <a:p>
            <a:pPr marL="343080" indent="-343080">
              <a:spcBef>
                <a:spcPts val="601"/>
              </a:spcBef>
              <a:buClr>
                <a:srgbClr val="183883"/>
              </a:buClr>
              <a:buFont typeface="Traditione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83883"/>
                </a:solidFill>
                <a:latin typeface="TraditionellSans"/>
              </a:rPr>
              <a:t> </a:t>
            </a:r>
            <a:r>
              <a:rPr b="0" lang="es-ES" sz="2400" spc="-1" strike="noStrike">
                <a:solidFill>
                  <a:srgbClr val="183883"/>
                </a:solidFill>
                <a:latin typeface="TraditionellSans"/>
              </a:rPr>
              <a:t>Ranking:</a:t>
            </a:r>
            <a:endParaRPr b="0" lang="en-US" sz="2400" spc="-1" strike="noStrike">
              <a:solidFill>
                <a:srgbClr val="183883"/>
              </a:solidFill>
              <a:latin typeface="TraditionellSans"/>
            </a:endParaRPr>
          </a:p>
          <a:p>
            <a:pPr lvl="1" marL="743040" indent="-285840">
              <a:spcBef>
                <a:spcPts val="499"/>
              </a:spcBef>
              <a:buClr>
                <a:srgbClr val="183883"/>
              </a:buClr>
              <a:buFont typeface="Traditione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83883"/>
                </a:solidFill>
                <a:latin typeface="TraditionellSans"/>
              </a:rPr>
              <a:t>http://bwnt.businessweek.com/interactive_reports/global_outsourcing/index.asp?sortCol=overall_score&amp;sortOrder=DESC&amp;pageNum=1&amp;resultNum=50</a:t>
            </a:r>
            <a:endParaRPr b="0" lang="en-US" sz="2000" spc="-1" strike="noStrike">
              <a:solidFill>
                <a:srgbClr val="183883"/>
              </a:solidFill>
              <a:latin typeface="Traditionell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Traditionell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4:06:28Z</dcterms:created>
  <dc:creator>Retina</dc:creator>
  <dc:description/>
  <dc:language>en-US</dc:language>
  <cp:lastModifiedBy>rhasbun</cp:lastModifiedBy>
  <dcterms:modified xsi:type="dcterms:W3CDTF">2007-08-03T16:39:00Z</dcterms:modified>
  <cp:revision>12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Presentation Helper</vt:lpwstr>
  </property>
</Properties>
</file>