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29C-737E-42BD-92BA-B3B5B0DA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EB5-CDB9-4610-B3BA-AD2508A7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EB9-2203-4F59-900B-8D5FC00D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833-BE00-4D58-A0EB-66883287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046-BDB6-46CD-8511-D7A8923E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D00-1136-41BE-B042-E8BC2C20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51F-F483-40AF-823F-CC8B983C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87E-2D86-4501-A597-6456EA46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238-D3EE-4F97-BA2B-07CB33C5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E00-EF15-4146-BE34-D2839CF8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6E4-8FC3-4F64-8074-558A0FA7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644-F1EC-46D3-B511-C7BF31AA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193A-AFF9-4BD0-A760-5ADDBF6C7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92720" y="4869000"/>
            <a:ext cx="335268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eficacia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404640"/>
            <a:ext cx="83059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Lucida Sans Unicode"/>
                <a:ea typeface="Lucida Sans Unicode"/>
              </a:rPr>
              <a:t>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úmero de suscriptores:  Estimados = 50.000 líneas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ales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0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Arriendo (Costo 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 (Costos 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marketing (Costos 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fabr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1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2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Arriendo (Costo 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 (Costos 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marketing (Costos 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fabr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3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0960" y="457200"/>
            <a:ext cx="33537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os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es y Mano de O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de Fabricación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Adm.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ostos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rend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reciaciones de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Adm.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ostos Fij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380880"/>
            <a:ext cx="190476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SU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ST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25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0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2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380880"/>
            <a:ext cx="190476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RESULTADO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.288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92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36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.4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778.4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6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9.5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9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4.5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85.1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28960" y="5167440"/>
            <a:ext cx="296964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F- :  Variación 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D- : Variación des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51040" y="205740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51400" y="236232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8954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040" y="25909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12952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5257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riación  To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favor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 39.9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94680" y="457200"/>
            <a:ext cx="2504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de Fab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Admón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Admón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00.0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Times New Roman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95760" y="5243400"/>
            <a:ext cx="1250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9120" y="1219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8040" y="25909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9120" y="1905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9840" y="22096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840" y="26668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4382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120" y="342900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3160" y="4648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4648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5029200"/>
            <a:ext cx="546552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F- :  Variación 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D-: Variación des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ff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ipos de Presupuestos</a:t>
            </a: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038480"/>
            <a:ext cx="829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el horizonte, de los objetivos y la incertidumbr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los presupuestos pueden 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esupuesto Maestr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fija las metas  y objetivos globales 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financieros proyec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períodos entre 5 y 10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indica las inversiones que debe ha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mpresa para las instalaciones, equipos y demás in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largo plazo para el cumplimento de los objetivos propues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canzar los resultados y la posición finan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os presupuest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xpresa de forma cuantitativa los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todas las subunidades para el primer año de operaciones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n de largo plazo, por tanto incluye proyecciones de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peraciones de la empresa (presupuesto de ventas, compr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sto de produc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gastos,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esultados)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supuestos financiero (presupuesto de capital, de efectivo y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racterísticas del  Presupuesto Flex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Control Presupuestar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Desviación</a:t>
            </a:r>
            <a:r>
              <a:rPr b="0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l análisis de las desviaciones es importante p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eficiencia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</cp:lastModifiedBy>
  <dcterms:modified xsi:type="dcterms:W3CDTF">2007-08-24T02:04:35Z</dcterms:modified>
  <cp:revision>24</cp:revision>
  <dc:subject/>
  <dc:title>Presentación de PowerPoint</dc:title>
</cp:coreProperties>
</file>