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50D-5CDC-4E5E-968F-131EC849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F94-6FAB-4381-864A-BA69FB4A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B8D-0328-40FE-AC22-A88552DC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23F-6F0D-4D31-91E9-6CFB85C5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565-F9AD-457A-8598-E77C5246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425-02CC-4E37-9D82-B2FA7A3D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007-49CC-4532-86A2-D8D609B1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F0F-9186-4917-9C19-45ABF469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092-43D4-488E-9F55-0327057E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6AC-37AE-40C5-A0B6-720936BE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4C8-C3C5-4024-AD41-CA81BCF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B1C-97D1-4102-8270-C2C7B6DE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3B41-6C15-44A5-B13B-F22D764DC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2200" y="692280"/>
          <a:ext cx="8496360" cy="5335560"/>
        </p:xfrm>
        <a:graphic>
          <a:graphicData uri="http://schemas.openxmlformats.org/drawingml/2006/table">
            <a:tbl>
              <a:tblPr/>
              <a:tblGrid>
                <a:gridCol w="1368360"/>
                <a:gridCol w="71280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FINANCIER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DEL CLIEN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INTER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PECTIVA DE APRENDIZAJE Y CRECI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63640" y="92088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: Return on capital empl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1365120"/>
            <a:ext cx="129708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CIMIENTO REN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99280" y="1352520"/>
            <a:ext cx="1297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2306520"/>
            <a:ext cx="1008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AR IMAGEN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1840" y="2289240"/>
            <a:ext cx="1081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EÑO DE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228924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IDAD AJUSTE CONS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2289240"/>
            <a:ext cx="1008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DUCCION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200" y="316080"/>
            <a:ext cx="8496360" cy="337320"/>
          </a:xfrm>
          <a:prstGeom prst="rect">
            <a:avLst/>
          </a:prstGeom>
          <a:gradFill rotWithShape="0">
            <a:gsLst>
              <a:gs pos="0">
                <a:srgbClr val="473424"/>
              </a:gs>
              <a:gs pos="50000">
                <a:srgbClr val="9c7150">
                  <a:alpha val="0"/>
                </a:srgbClr>
              </a:gs>
              <a:gs pos="100000">
                <a:srgbClr val="47342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JEMPLO: MAPA DE BSC DE UN FABRICANTE DE 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289240"/>
            <a:ext cx="10796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0844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862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O  ACE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908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48360" y="17002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58920" y="17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2289240"/>
            <a:ext cx="9367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ECIO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98920" y="1784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8920" y="17845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883640" y="1700280"/>
            <a:ext cx="14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6764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3602160"/>
            <a:ext cx="1079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PAÑA PUBLICI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3602160"/>
            <a:ext cx="9367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PROCESO DE DIS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86320"/>
            <a:ext cx="11527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RAS DE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3586320"/>
            <a:ext cx="1224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3586320"/>
            <a:ext cx="11509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328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94836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360216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2764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892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4416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5168880"/>
            <a:ext cx="122364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COMPETE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4305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27680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17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56000" y="4952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64000" y="45208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168880"/>
            <a:ext cx="122400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INEACIÓN DE OBJETI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5186520"/>
            <a:ext cx="122400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EVALUACION DE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5178600"/>
            <a:ext cx="165564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REMUNERACION POR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EMPEÑO ESTRATE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OTIVACION DE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307280" y="19288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0560" y="20001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07280" y="1784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40000" y="14241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4241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2503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5280" y="5456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2920" y="293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22920" y="1699920"/>
            <a:ext cx="144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8099280" y="3152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948000" y="31528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2792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4519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4000" y="49528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49528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291280" y="4303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867280" y="43034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43960" y="333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jemplo: Empresa Servicios Voz y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8" idx="1"/>
            <a:endCxn id="269" idx="3"/>
          </p:cNvCxnSpPr>
          <p:nvPr/>
        </p:nvCxnSpPr>
        <p:spPr>
          <a:xfrm flipV="1" rot="16200000">
            <a:off x="3477960" y="1398240"/>
            <a:ext cx="1953000" cy="327096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71" idx="0"/>
            <a:endCxn id="272" idx="3"/>
          </p:cNvCxnSpPr>
          <p:nvPr/>
        </p:nvCxnSpPr>
        <p:spPr>
          <a:xfrm flipH="1" flipV="1" rot="5400000">
            <a:off x="7580520" y="3015000"/>
            <a:ext cx="2059920" cy="153000"/>
          </a:xfrm>
          <a:prstGeom prst="curvedConnector5">
            <a:avLst>
              <a:gd name="adj1" fmla="val 45166"/>
              <a:gd name="adj2" fmla="val 125000"/>
              <a:gd name="adj3" fmla="val 45166"/>
            </a:avLst>
          </a:prstGeom>
          <a:ln w="25560">
            <a:solidFill>
              <a:srgbClr val="ff9900"/>
            </a:solidFill>
            <a:miter/>
            <a:tailEnd len="med" type="stealth" w="med"/>
          </a:ln>
        </p:spPr>
      </p:cxnSp>
      <p:cxnSp>
        <p:nvCxnSpPr>
          <p:cNvPr id="273" name=""/>
          <p:cNvCxnSpPr/>
          <p:nvPr/>
        </p:nvCxnSpPr>
        <p:spPr>
          <a:xfrm flipH="1" flipV="1" rot="5400000">
            <a:off x="17280" y="2934720"/>
            <a:ext cx="1803960" cy="162720"/>
          </a:xfrm>
          <a:prstGeom prst="curvedConnector2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cxnSp>
        <p:nvCxnSpPr>
          <p:cNvPr id="274" name=""/>
          <p:cNvCxnSpPr/>
          <p:nvPr/>
        </p:nvCxnSpPr>
        <p:spPr>
          <a:xfrm flipH="1" flipV="1" rot="5400000">
            <a:off x="2587320" y="2421720"/>
            <a:ext cx="1678680" cy="1367640"/>
          </a:xfrm>
          <a:prstGeom prst="curvedConnector5">
            <a:avLst>
              <a:gd name="adj1" fmla="val 47490"/>
              <a:gd name="adj2" fmla="val 50000"/>
              <a:gd name="adj3" fmla="val 47490"/>
            </a:avLst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2057040" y="2037600"/>
            <a:ext cx="1816920" cy="2181960"/>
          </a:xfrm>
          <a:prstGeom prst="curvedConnector5">
            <a:avLst>
              <a:gd name="adj1" fmla="val 58997"/>
              <a:gd name="adj2" fmla="val 50000"/>
              <a:gd name="adj3" fmla="val 58997"/>
            </a:avLst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sp>
        <p:nvSpPr>
          <p:cNvPr id="276" name=""/>
          <p:cNvSpPr/>
          <p:nvPr/>
        </p:nvSpPr>
        <p:spPr>
          <a:xfrm>
            <a:off x="152280" y="3505320"/>
            <a:ext cx="533520" cy="1666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-136800" y="411192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59636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9564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48320" y="5211360"/>
            <a:ext cx="0" cy="30492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516640"/>
            <a:ext cx="53352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-324000" y="5916240"/>
            <a:ext cx="14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9840" y="5657760"/>
            <a:ext cx="16761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943600"/>
            <a:ext cx="1447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Fomentar cultura de orienta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467480" y="3561840"/>
            <a:ext cx="0" cy="349560"/>
          </a:xfrm>
          <a:prstGeom prst="line">
            <a:avLst/>
          </a:prstGeom>
          <a:ln w="24120">
            <a:solidFill>
              <a:srgbClr val="99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3561840"/>
            <a:ext cx="0" cy="295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05240" y="3484440"/>
            <a:ext cx="0" cy="524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066680" y="3333600"/>
            <a:ext cx="0" cy="45720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81480" y="3451320"/>
            <a:ext cx="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1840" y="3462480"/>
            <a:ext cx="0" cy="436320"/>
          </a:xfrm>
          <a:prstGeom prst="line">
            <a:avLst/>
          </a:prstGeom>
          <a:ln w="223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1771560"/>
            <a:ext cx="1904760" cy="569880"/>
            <a:chOff x="990720" y="1771560"/>
            <a:chExt cx="1904760" cy="569880"/>
          </a:xfrm>
        </p:grpSpPr>
        <p:sp>
          <p:nvSpPr>
            <p:cNvPr id="292" name=""/>
            <p:cNvSpPr/>
            <p:nvPr/>
          </p:nvSpPr>
          <p:spPr>
            <a:xfrm>
              <a:off x="990720" y="1771560"/>
              <a:ext cx="1904760" cy="56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6920" y="1782720"/>
              <a:ext cx="172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ptimizar la estructura de costos de la mezcla de ca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9880" y="1752480"/>
            <a:ext cx="1981080" cy="533520"/>
            <a:chOff x="3809880" y="1752480"/>
            <a:chExt cx="1981080" cy="533520"/>
          </a:xfrm>
        </p:grpSpPr>
        <p:sp>
          <p:nvSpPr>
            <p:cNvPr id="294" name=""/>
            <p:cNvSpPr/>
            <p:nvPr/>
          </p:nvSpPr>
          <p:spPr>
            <a:xfrm>
              <a:off x="3886200" y="1752480"/>
              <a:ext cx="19047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1827000"/>
              <a:ext cx="198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igrar costos fijos a gastos vari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3560" y="2800440"/>
            <a:ext cx="2419200" cy="672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2895480"/>
            <a:ext cx="2362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ar la base de clientes de los servicios de voz mediante la combinación de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50292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TENCIO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6924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1194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stimular la atención vía Centros de Llam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4092480"/>
            <a:ext cx="1079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ducir los tiempos de aten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9240" y="4983120"/>
            <a:ext cx="129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DIRECTA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45000" y="3886200"/>
            <a:ext cx="1085760" cy="78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6960" y="3809880"/>
            <a:ext cx="993960" cy="105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96540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ercializar nuevos productos y servic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638680"/>
            <a:ext cx="2787480" cy="76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867280"/>
            <a:ext cx="2743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ctualizar permanentemente  las capacidades de atención, ventas y de negoci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5638680"/>
            <a:ext cx="1981080" cy="68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5791320"/>
            <a:ext cx="138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jorar la motiv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l per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4933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A TRAVÉS DE TERCERO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924360"/>
            <a:ext cx="1025640" cy="933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71680" y="400356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ilizar Procesos Pagos de comis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3701880"/>
            <a:ext cx="1314360" cy="1087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6400" y="385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cesos rápidos para realizar la ventas a través de AA y C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544840"/>
            <a:ext cx="53352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4320" y="293040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649520"/>
            <a:ext cx="533520" cy="895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13680" y="19335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1789200"/>
            <a:ext cx="2057040" cy="533160"/>
            <a:chOff x="6629400" y="1789200"/>
            <a:chExt cx="2057040" cy="533160"/>
          </a:xfrm>
        </p:grpSpPr>
        <p:sp>
          <p:nvSpPr>
            <p:cNvPr id="320" name=""/>
            <p:cNvSpPr/>
            <p:nvPr/>
          </p:nvSpPr>
          <p:spPr>
            <a:xfrm>
              <a:off x="6708600" y="1789200"/>
              <a:ext cx="197784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1863360"/>
              <a:ext cx="205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Garantizar e incrementar los ingresos de la un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29000" y="2819520"/>
            <a:ext cx="2419200" cy="707760"/>
            <a:chOff x="3429000" y="2819520"/>
            <a:chExt cx="2419200" cy="707760"/>
          </a:xfrm>
        </p:grpSpPr>
        <p:sp>
          <p:nvSpPr>
            <p:cNvPr id="322" name=""/>
            <p:cNvSpPr/>
            <p:nvPr/>
          </p:nvSpPr>
          <p:spPr>
            <a:xfrm>
              <a:off x="3429000" y="2819520"/>
              <a:ext cx="241920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57440" y="2886120"/>
              <a:ext cx="2362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crementar la penetración de los servicios de datos y de valor agregado, sobre la base de los clientes actu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324480" y="2800440"/>
            <a:ext cx="2419560" cy="672840"/>
            <a:chOff x="6324480" y="2800440"/>
            <a:chExt cx="2419560" cy="672840"/>
          </a:xfrm>
        </p:grpSpPr>
        <p:sp>
          <p:nvSpPr>
            <p:cNvPr id="325" name=""/>
            <p:cNvSpPr/>
            <p:nvPr/>
          </p:nvSpPr>
          <p:spPr>
            <a:xfrm>
              <a:off x="6324480" y="2800440"/>
              <a:ext cx="241956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3280" y="2886120"/>
              <a:ext cx="23619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mentar la satisfacción y conocimiento de los clientes y mercados potenc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035920" y="39304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41212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btención sistematizada de opinión del 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04" idx="1"/>
            <a:endCxn id="296" idx="4"/>
          </p:cNvCxnSpPr>
          <p:nvPr/>
        </p:nvCxnSpPr>
        <p:spPr>
          <a:xfrm flipV="1" rot="16200000">
            <a:off x="3232080" y="2212920"/>
            <a:ext cx="491400" cy="3010680"/>
          </a:xfrm>
          <a:prstGeom prst="curvedConnector5">
            <a:avLst>
              <a:gd name="adj1" fmla="val 65689"/>
              <a:gd name="adj2" fmla="val 50000"/>
              <a:gd name="adj3" fmla="val 65689"/>
            </a:avLst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0"/>
            <a:endCxn id="320" idx="3"/>
          </p:cNvCxnSpPr>
          <p:nvPr/>
        </p:nvCxnSpPr>
        <p:spPr>
          <a:xfrm flipH="1" flipV="1" rot="5400000">
            <a:off x="4206960" y="9720"/>
            <a:ext cx="556560" cy="5025240"/>
          </a:xfrm>
          <a:prstGeom prst="curvedConnector5">
            <a:avLst>
              <a:gd name="adj1" fmla="val 42847"/>
              <a:gd name="adj2" fmla="val 50000"/>
              <a:gd name="adj3" fmla="val 4284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7"/>
            <a:endCxn id="320" idx="4"/>
          </p:cNvCxnSpPr>
          <p:nvPr/>
        </p:nvCxnSpPr>
        <p:spPr>
          <a:xfrm flipH="1" flipV="1" rot="5400000">
            <a:off x="6297840" y="1517760"/>
            <a:ext cx="596160" cy="2204280"/>
          </a:xfrm>
          <a:prstGeom prst="curvedConnector5">
            <a:avLst>
              <a:gd name="adj1" fmla="val 58126"/>
              <a:gd name="adj2" fmla="val 50000"/>
              <a:gd name="adj3" fmla="val 58126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5" idx="7"/>
            <a:endCxn id="320" idx="5"/>
          </p:cNvCxnSpPr>
          <p:nvPr/>
        </p:nvCxnSpPr>
        <p:spPr>
          <a:xfrm flipV="1">
            <a:off x="8389800" y="2243880"/>
            <a:ext cx="8640" cy="654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657600" y="40384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Simplificar los procesos de v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76720" y="6095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62320" y="1523880"/>
            <a:ext cx="3962160" cy="1332720"/>
            <a:chOff x="2362320" y="1523880"/>
            <a:chExt cx="3962160" cy="1332720"/>
          </a:xfrm>
        </p:grpSpPr>
        <p:sp>
          <p:nvSpPr>
            <p:cNvPr id="337" name=""/>
            <p:cNvSpPr/>
            <p:nvPr/>
          </p:nvSpPr>
          <p:spPr>
            <a:xfrm>
              <a:off x="2362320" y="1523880"/>
              <a:ext cx="3962160" cy="12189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1599840"/>
              <a:ext cx="39621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ción 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asa de readmis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l valor de las horas trabaj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4724280"/>
            <a:ext cx="3733560" cy="1828800"/>
            <a:chOff x="2514600" y="4724280"/>
            <a:chExt cx="3733560" cy="1828800"/>
          </a:xfrm>
        </p:grpSpPr>
        <p:sp>
          <p:nvSpPr>
            <p:cNvPr id="340" name=""/>
            <p:cNvSpPr/>
            <p:nvPr/>
          </p:nvSpPr>
          <p:spPr>
            <a:xfrm>
              <a:off x="2514600" y="4724280"/>
              <a:ext cx="3733560" cy="1828800"/>
            </a:xfrm>
            <a:prstGeom prst="rect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560" y="4800600"/>
              <a:ext cx="358164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quipos de Mejoramiento continuo de la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habilidades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ncontrar oportunidades para fortalecer procesos cla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nº pasos en procesos cl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867280" y="3048120"/>
            <a:ext cx="3124080" cy="1447560"/>
            <a:chOff x="5867280" y="3048120"/>
            <a:chExt cx="3124080" cy="1447560"/>
          </a:xfrm>
        </p:grpSpPr>
        <p:sp>
          <p:nvSpPr>
            <p:cNvPr id="343" name=""/>
            <p:cNvSpPr/>
            <p:nvPr/>
          </p:nvSpPr>
          <p:spPr>
            <a:xfrm>
              <a:off x="5867280" y="3048120"/>
              <a:ext cx="3047760" cy="1447560"/>
            </a:xfrm>
            <a:prstGeom prst="rect">
              <a:avLst/>
            </a:prstGeom>
            <a:solidFill>
              <a:srgbClr val="ea280e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3124080"/>
              <a:ext cx="31240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IN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predicción de result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eventos adve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iempo de estad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control de síntom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920" y="2971800"/>
            <a:ext cx="2590560" cy="1531800"/>
            <a:chOff x="304920" y="2971800"/>
            <a:chExt cx="2590560" cy="1531800"/>
          </a:xfrm>
        </p:grpSpPr>
        <p:sp>
          <p:nvSpPr>
            <p:cNvPr id="346" name=""/>
            <p:cNvSpPr/>
            <p:nvPr/>
          </p:nvSpPr>
          <p:spPr>
            <a:xfrm>
              <a:off x="304920" y="2971800"/>
              <a:ext cx="2590560" cy="152388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3033720"/>
              <a:ext cx="2514600" cy="1469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atisfacción del cli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traer metas mutu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umentar compromiso paciente/familia en toma de decisiones y tratami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57600" y="312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60360" y="692280"/>
            <a:ext cx="648180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L PLAN PARA OPERAR  EL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359080"/>
            <a:ext cx="1800000" cy="12708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claración del destino estratégic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SION, VISION, OBJETIVOS ESTRATE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9080" y="3006720"/>
            <a:ext cx="1800000" cy="946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aboración del MAPA ESTRATEGICO y las RU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583080"/>
            <a:ext cx="1800360" cy="1798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ción de OBJETIVOS, INDICADORES METAS E INICIATIVAS  para cada estrategia integrante de cada 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564080"/>
            <a:ext cx="1800360" cy="946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eneración de INICIATIVAS para alcanzar cada una de las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944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9440" y="429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2108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005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7340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65800" y="5374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5373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51640" y="58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3803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80360" y="321264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65308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308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92720" y="263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0800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49800" y="198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908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94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03640" y="765000"/>
            <a:ext cx="2519280" cy="57636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vantGarde Bk BT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836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184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0200" y="2847960"/>
            <a:ext cx="64908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656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84360" y="3284640"/>
            <a:ext cx="403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ones de So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62200" y="1341360"/>
            <a:ext cx="1873080" cy="856800"/>
            <a:chOff x="3562200" y="1341360"/>
            <a:chExt cx="1873080" cy="856800"/>
          </a:xfrm>
        </p:grpSpPr>
        <p:sp>
          <p:nvSpPr>
            <p:cNvPr id="381" name=""/>
            <p:cNvSpPr/>
            <p:nvPr/>
          </p:nvSpPr>
          <p:spPr>
            <a:xfrm>
              <a:off x="3562200" y="1875960"/>
              <a:ext cx="1873080" cy="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98560" y="1341360"/>
              <a:ext cx="0" cy="8568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6220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528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27640" y="692280"/>
            <a:ext cx="2303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l BSC CORPORATIVO define las estrategias y los objetivos estratég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1052640"/>
            <a:ext cx="43200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9440" y="2133720"/>
            <a:ext cx="2303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ada Unidad Estratégica de Negocio elabora  su BSC en forma consistente con el BSC CORPOR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256536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508640"/>
            <a:ext cx="23036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Area y Departamento de la empresa elabora su BSC en forma consistente con el BSC de la Unidad de Negocio a la que perten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4149720"/>
            <a:ext cx="1655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4508640"/>
            <a:ext cx="2303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Unidad de Soporte elabora su BSC en forma consistente con el BSC CORPORATIVO y el BSC de las Unidades Estratégicas a las que apo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1871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2040" y="534600"/>
            <a:ext cx="7264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Medición de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2209680"/>
            <a:ext cx="8077320" cy="3340800"/>
            <a:chOff x="685800" y="2209680"/>
            <a:chExt cx="8077320" cy="3340800"/>
          </a:xfrm>
        </p:grpSpPr>
        <p:sp>
          <p:nvSpPr>
            <p:cNvPr id="397" name=""/>
            <p:cNvSpPr/>
            <p:nvPr/>
          </p:nvSpPr>
          <p:spPr>
            <a:xfrm>
              <a:off x="762120" y="2514600"/>
              <a:ext cx="1752480" cy="11430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6880" y="2362320"/>
              <a:ext cx="3124440" cy="144756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8680" y="2209680"/>
              <a:ext cx="3124440" cy="175284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26067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bjetivos estraté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5880" y="26827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ff"/>
                  </a:solidFill>
                  <a:latin typeface="Arial"/>
                </a:rPr>
                <a:t>Indicadores y Medi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43592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BSC traduce la Visión y objetivos estratégicos en indicadores/mediciones del desempeño de la organ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AS IDEAS A LA IMPLE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197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expresiones cualitativas o cuantitativas que sirven para medir el avance o logro de una actividad, en un period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pr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ndicadores o medidas bla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que se usan para medir el logro de objetivos que son por naturaleza un tanto intangibles e imprecisos y que es inevitable el uso de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xpresan en una escala de naturaleza cualit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didas bla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840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age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tisfacción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ima 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ción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competenci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intele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ción intra-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 ger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869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Se caracterizan por ser indicadores compuestos, no estructurados y es inevitable el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BSC como sistema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BSC pone énfasis que los indicadores financieros y no financieros deben formar parte del sistema de información para los empleados, en todos lo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larar y traducir la visión y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r y vincular los objetivos e indicadore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, establecer objetivos y alinear las iniciativ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el feedback y formación estraté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Obstáculos para la Imple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97000"/>
            <a:ext cx="8533800" cy="5105520"/>
            <a:chOff x="250920" y="1197000"/>
            <a:chExt cx="8533800" cy="5105520"/>
          </a:xfrm>
        </p:grpSpPr>
        <p:sp>
          <p:nvSpPr>
            <p:cNvPr id="417" name=""/>
            <p:cNvSpPr/>
            <p:nvPr/>
          </p:nvSpPr>
          <p:spPr>
            <a:xfrm>
              <a:off x="479160" y="1501920"/>
              <a:ext cx="35049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rrores en l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un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a v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7760" y="279720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rentes no se involucran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en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36360" y="4092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planes estratégicos no incorpor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esupuestos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para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360" y="538812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centivos al personal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no están diseñados para apoyar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9760" y="14698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Gran parte de los empleados no conoce, o no comprende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3800" y="273384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directivos le dedican menos de una hora mensual a discutir estrateg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79760" y="3984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arte importante de las empresas no vincula los presupuest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3800" y="541656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as empresas habitualmente no tienen incentivos relacionad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920" y="11970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920" y="249228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0920" y="50832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920" y="3787920"/>
              <a:ext cx="4419360" cy="121896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560 h 1218960"/>
                <a:gd name="textAreaBottom" fmla="*/ 9144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27480" y="14256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7480" y="39402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7480" y="2720880"/>
              <a:ext cx="365724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27480" y="53118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4560" y="4557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8000"/>
                </a:solidFill>
                <a:latin typeface="Arial"/>
              </a:rPr>
              <a:t>Recomendaciones para la Impla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413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ar con el compromiso de la Alta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ar el tiempo para el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iciente claridad conceptual del equip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nocer que es un sistema de aprendizaje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ender que el Control no es el fin del CMI y que tampoco es una simple tabla de indic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¿Cómo se expresa un Balanced Scorec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059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Mapa de relaciones caus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nectan las 4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Tablero balance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objetivos, mediciones/indicadores, metas, inici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0160" y="49860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Base Conceptual de la 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49568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3868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19920" y="4952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588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508360" y="4149360"/>
            <a:ext cx="28260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77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94360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79640" y="2895480"/>
            <a:ext cx="2087640" cy="3048120"/>
            <a:chOff x="1979640" y="2895480"/>
            <a:chExt cx="2087640" cy="3048120"/>
          </a:xfrm>
        </p:grpSpPr>
        <p:sp>
          <p:nvSpPr>
            <p:cNvPr id="64" name=""/>
            <p:cNvSpPr/>
            <p:nvPr/>
          </p:nvSpPr>
          <p:spPr>
            <a:xfrm>
              <a:off x="1981080" y="2895480"/>
              <a:ext cx="2086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0680" y="293544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ccionis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3960" y="380844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040" y="45705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6320" y="52563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79640" y="357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5157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16200000">
            <a:off x="7079400" y="410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ausa -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7672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516720" y="4941720"/>
            <a:ext cx="214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1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588000" y="4149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Mapa de relaciones cau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mayor rentab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guiendo que los clientes repitan y expandan sus compras, es decir, generar clientes le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clientes le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ándole lo que mas valora, ejemplo entrega oport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lograr entrega oportu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ndo el ciclo del proceso y su calidad para evitar re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mejorar los procesos in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nando a los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22680" y="1219320"/>
            <a:ext cx="4419360" cy="4919400"/>
            <a:chOff x="4522680" y="1219320"/>
            <a:chExt cx="4419360" cy="4919400"/>
          </a:xfrm>
        </p:grpSpPr>
        <p:sp>
          <p:nvSpPr>
            <p:cNvPr id="82" name=""/>
            <p:cNvSpPr/>
            <p:nvPr/>
          </p:nvSpPr>
          <p:spPr>
            <a:xfrm>
              <a:off x="5791320" y="1785960"/>
              <a:ext cx="144756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1828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28638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Lealtad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27432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553080" y="231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8400" y="377820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Entrega a tiem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36576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553080" y="3309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607000"/>
              <a:ext cx="25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99"/>
                  </a:solidFill>
                  <a:latin typeface="Arial"/>
                </a:rPr>
                <a:t>Habilidades de emple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5410080"/>
              <a:ext cx="2666880" cy="7286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2680" y="4648320"/>
              <a:ext cx="197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lidad del 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5200" y="464832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iclo y du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040" y="50626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10080" y="4300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7086600" y="43005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15200" y="4986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1633680"/>
              <a:ext cx="3733560" cy="182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7240" y="1219320"/>
              <a:ext cx="22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das de resul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380880"/>
            <a:ext cx="8534520" cy="5867640"/>
            <a:chOff x="380880" y="380880"/>
            <a:chExt cx="8534520" cy="5867640"/>
          </a:xfrm>
        </p:grpSpPr>
        <p:sp>
          <p:nvSpPr>
            <p:cNvPr id="101" name=""/>
            <p:cNvSpPr/>
            <p:nvPr/>
          </p:nvSpPr>
          <p:spPr>
            <a:xfrm>
              <a:off x="678168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2057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5335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54388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jorar 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257800"/>
              <a:ext cx="1752480" cy="9144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733920" y="5257800"/>
              <a:ext cx="1981080" cy="990720"/>
              <a:chOff x="3733920" y="5257800"/>
              <a:chExt cx="1981080" cy="99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3962520" y="53020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ejorar Ambiente de Trabaj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5257800"/>
                <a:ext cx="1981080" cy="9907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514600" y="4572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419720"/>
              <a:ext cx="2057400" cy="60948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419720" y="3352680"/>
              <a:ext cx="1828800" cy="686880"/>
              <a:chOff x="4419720" y="3352680"/>
              <a:chExt cx="1828800" cy="6868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72360" y="339696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Servicio a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19720" y="3352680"/>
                <a:ext cx="1828800" cy="68580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80880" y="3276720"/>
              <a:ext cx="1904760" cy="761760"/>
              <a:chOff x="380880" y="3276720"/>
              <a:chExt cx="1904760" cy="761760"/>
            </a:xfrm>
          </p:grpSpPr>
          <p:sp>
            <p:nvSpPr>
              <p:cNvPr id="116" name=""/>
              <p:cNvSpPr/>
              <p:nvPr/>
            </p:nvSpPr>
            <p:spPr>
              <a:xfrm>
                <a:off x="53316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Necesidades de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3276720"/>
                <a:ext cx="190476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362320" y="3276720"/>
              <a:ext cx="1981080" cy="761760"/>
              <a:chOff x="2362320" y="3276720"/>
              <a:chExt cx="1981080" cy="76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259092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Diseño de Solucio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62320" y="327672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1905120"/>
              <a:ext cx="1752480" cy="761760"/>
              <a:chOff x="2514600" y="190512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590920" y="19810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Generar Confian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1905120"/>
                <a:ext cx="17524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38280" y="380880"/>
              <a:ext cx="1981080" cy="761760"/>
              <a:chOff x="2438280" y="380880"/>
              <a:chExt cx="1981080" cy="761760"/>
            </a:xfrm>
          </p:grpSpPr>
          <p:sp>
            <p:nvSpPr>
              <p:cNvPr id="125" name=""/>
              <p:cNvSpPr/>
              <p:nvPr/>
            </p:nvSpPr>
            <p:spPr>
              <a:xfrm>
                <a:off x="2666880" y="456840"/>
                <a:ext cx="1600200" cy="642600"/>
              </a:xfrm>
              <a:prstGeom prst="rect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Arial"/>
                  </a:rPr>
                  <a:t>Maximizar Va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38280" y="38088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35268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52680" y="11426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343040" y="4800600"/>
              <a:ext cx="30492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4876920"/>
              <a:ext cx="53352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62520" y="403848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76160" y="403848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371600" y="2514240"/>
              <a:ext cx="1295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114440" y="2590920"/>
              <a:ext cx="12193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5493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ximizar valor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058840"/>
            <a:ext cx="21607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 particip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77812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er alian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10160" y="2562120"/>
            <a:ext cx="2085840" cy="43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grar alt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satisfacción 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8592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ir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8577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mper si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857760"/>
            <a:ext cx="223236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arrollar mercadotec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7800" y="5083200"/>
            <a:ext cx="187020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r un ambiente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bajo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lear sistem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ngu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472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raer y re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0"/>
            <a:endCxn id="142" idx="2"/>
          </p:cNvCxnSpPr>
          <p:nvPr/>
        </p:nvCxnSpPr>
        <p:spPr>
          <a:xfrm flipH="1" flipV="1">
            <a:off x="4571280" y="4362120"/>
            <a:ext cx="73800" cy="72144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41" idx="2"/>
          </p:cNvCxnSpPr>
          <p:nvPr/>
        </p:nvCxnSpPr>
        <p:spPr>
          <a:xfrm flipH="1" flipV="1" rot="5400000">
            <a:off x="5436720" y="3571560"/>
            <a:ext cx="720000" cy="2304000"/>
          </a:xfrm>
          <a:prstGeom prst="curvedConnector5">
            <a:avLst>
              <a:gd name="adj1" fmla="val 49874"/>
              <a:gd name="adj2" fmla="val 49992"/>
              <a:gd name="adj3" fmla="val 4987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6" idx="2"/>
          </p:cNvCxnSpPr>
          <p:nvPr/>
        </p:nvCxnSpPr>
        <p:spPr>
          <a:xfrm flipV="1" rot="16200000">
            <a:off x="4535640" y="3031920"/>
            <a:ext cx="2520" cy="5112720"/>
          </a:xfrm>
          <a:prstGeom prst="curvedConnector5">
            <a:avLst>
              <a:gd name="adj1" fmla="val -14300000"/>
              <a:gd name="adj2" fmla="val 49996"/>
              <a:gd name="adj3" fmla="val -143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40" idx="1"/>
          </p:cNvCxnSpPr>
          <p:nvPr/>
        </p:nvCxnSpPr>
        <p:spPr>
          <a:xfrm flipH="1" rot="10800000">
            <a:off x="3707280" y="2778840"/>
            <a:ext cx="2520" cy="255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1"/>
          </p:cNvCxnSpPr>
          <p:nvPr/>
        </p:nvCxnSpPr>
        <p:spPr>
          <a:xfrm rot="10800000">
            <a:off x="538920" y="3353760"/>
            <a:ext cx="288000" cy="75636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38" idx="2"/>
          </p:cNvCxnSpPr>
          <p:nvPr/>
        </p:nvCxnSpPr>
        <p:spPr>
          <a:xfrm flipH="1" flipV="1" rot="5400000">
            <a:off x="1692720" y="2994120"/>
            <a:ext cx="1221480" cy="362520"/>
          </a:xfrm>
          <a:prstGeom prst="curvedConnector5">
            <a:avLst>
              <a:gd name="adj1" fmla="val 14033"/>
              <a:gd name="adj2" fmla="val 50000"/>
              <a:gd name="adj3" fmla="val 14033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endCxn id="138" idx="3"/>
          </p:cNvCxnSpPr>
          <p:nvPr/>
        </p:nvCxnSpPr>
        <p:spPr>
          <a:xfrm flipV="1" rot="16200000">
            <a:off x="3366360" y="2509200"/>
            <a:ext cx="538920" cy="14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8" idx="0"/>
          </p:cNvCxnSpPr>
          <p:nvPr/>
        </p:nvCxnSpPr>
        <p:spPr>
          <a:xfrm flipH="1" flipV="1" rot="5400000">
            <a:off x="3852000" y="258840"/>
            <a:ext cx="432360" cy="3168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0"/>
            <a:endCxn id="137" idx="1"/>
          </p:cNvCxnSpPr>
          <p:nvPr/>
        </p:nvCxnSpPr>
        <p:spPr>
          <a:xfrm flipH="1" flipV="1" rot="5400000">
            <a:off x="2467440" y="817920"/>
            <a:ext cx="1257840" cy="122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1" idx="0"/>
            <a:endCxn id="157" idx="2"/>
          </p:cNvCxnSpPr>
          <p:nvPr/>
        </p:nvCxnSpPr>
        <p:spPr>
          <a:xfrm flipH="1" flipV="1" rot="5400000">
            <a:off x="6679080" y="3265920"/>
            <a:ext cx="862560" cy="324720"/>
          </a:xfrm>
          <a:prstGeom prst="curvedConnector5">
            <a:avLst>
              <a:gd name="adj1" fmla="val 49895"/>
              <a:gd name="adj2" fmla="val 49944"/>
              <a:gd name="adj3" fmla="val 49895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867280" y="11970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492280"/>
            <a:ext cx="194328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ver alto valo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el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0" idx="0"/>
            <a:endCxn id="158" idx="1"/>
          </p:cNvCxnSpPr>
          <p:nvPr/>
        </p:nvCxnSpPr>
        <p:spPr>
          <a:xfrm flipH="1" flipV="1" rot="5400000">
            <a:off x="4753440" y="1447920"/>
            <a:ext cx="1113120" cy="11149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1"/>
            <a:endCxn id="140" idx="3"/>
          </p:cNvCxnSpPr>
          <p:nvPr/>
        </p:nvCxnSpPr>
        <p:spPr>
          <a:xfrm flipV="1" rot="10800000">
            <a:off x="5795280" y="2743560"/>
            <a:ext cx="505440" cy="356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9" idx="0"/>
            <a:endCxn id="138" idx="1"/>
          </p:cNvCxnSpPr>
          <p:nvPr/>
        </p:nvCxnSpPr>
        <p:spPr>
          <a:xfrm flipH="1" flipV="1" rot="5400000">
            <a:off x="1134720" y="2509560"/>
            <a:ext cx="465840" cy="72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 flipV="1">
            <a:off x="7740720" y="299736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380360" y="170028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8000" y="4365360"/>
            <a:ext cx="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3280" y="299736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9080" y="62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8160" y="2060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3680" y="3860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6200" y="57340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333360"/>
          <a:ext cx="9143640" cy="6469200"/>
        </p:xfrm>
        <a:graphic>
          <a:graphicData uri="http://schemas.openxmlformats.org/drawingml/2006/table">
            <a:tbl>
              <a:tblPr/>
              <a:tblGrid>
                <a:gridCol w="1472400"/>
                <a:gridCol w="1657800"/>
                <a:gridCol w="1502280"/>
                <a:gridCol w="1800720"/>
                <a:gridCol w="1469520"/>
                <a:gridCol w="1240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 estraté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ar el valor de las ac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ingre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n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ro del top 50 del S&amp;P 500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 más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en tre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Fin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8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zar altos niveles de 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efectivas con distribui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alto valor de relación con el pre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ción de canales de distribu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reclamos de los clientes un 25%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 de Desarrollo de Negoc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finir estrategias de ca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a Excele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mercadotecnia efec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r sistemas de vanguar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costo de ope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imiento de campañas publicita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áreas soportadas por siste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jor en 5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50% en 3 añ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60% en un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ercadotec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un E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ar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cimiento y 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er y retener personal califi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per silos 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recer un ambiente de trabajo atrac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reten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 de equipos multi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cción de emple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de todos los equip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en do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nuevas estrategias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68360" y="83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049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7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661000"/>
            <a:ext cx="122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762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6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3800" y="404640"/>
            <a:ext cx="12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68360" y="903240"/>
          <a:ext cx="2951280" cy="496908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 Y DESARRO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635280" y="903240"/>
          <a:ext cx="5040360" cy="49467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25892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n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ar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 crecimiento de ma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plan de 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greg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uencia y permanencia de 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ensual  contin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administración de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e inno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oport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s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ística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de desperd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12 horas máx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 sistema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tud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ciación del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9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87280" y="1273320"/>
            <a:ext cx="1440000" cy="27648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949400"/>
            <a:ext cx="1296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cimiento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194940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 Mg. con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7636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34000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99232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99232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ideliz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208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476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68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068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idad 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000680"/>
            <a:ext cx="1152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rega oport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216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8000" y="32083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5229360"/>
            <a:ext cx="115236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arrollo de h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5229360"/>
            <a:ext cx="115272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itud de serv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511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08000" y="42159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762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0464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ALVAREZ</cp:lastModifiedBy>
  <dcterms:modified xsi:type="dcterms:W3CDTF">2007-11-16T14:06:37Z</dcterms:modified>
  <cp:revision>21</cp:revision>
  <dc:subject/>
  <dc:title>Diapositiva 1</dc:title>
</cp:coreProperties>
</file>