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1B39-EAA0-45CD-A3BF-E1372BA2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24BF-936C-4828-B0BE-C4ADAB40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BA61-9E2A-4A77-A437-4E5520FB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3B19-202D-40B0-B47E-EFBA0BA8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18E1-0D77-48EA-ADE3-1F42D913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ADBC-AE4D-4232-B984-C6F72AB5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732C-DEB4-4F33-B1AB-0C7BB993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7500-65D6-4FB3-AC39-B2637F02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9CDA-1DCC-41B1-A6EC-75563D17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3F70-8D7C-45C1-B720-31B6BA88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0510-792E-4FD2-A998-E4CA11BF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D326-F240-4A63-97EE-6E7A61C2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7EFC-63C3-442E-A091-624F1FC9E87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420640"/>
            <a:ext cx="6781680" cy="15526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L BALANCED SCORE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 un vacío entre misión-visión-estrategia y la acción diaria de los empl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90720" y="2057400"/>
            <a:ext cx="7238880" cy="4038480"/>
            <a:chOff x="990720" y="2057400"/>
            <a:chExt cx="7238880" cy="4038480"/>
          </a:xfrm>
        </p:grpSpPr>
        <p:grpSp>
          <p:nvGrpSpPr>
            <p:cNvPr id="100" name=""/>
            <p:cNvGrpSpPr/>
            <p:nvPr/>
          </p:nvGrpSpPr>
          <p:grpSpPr>
            <a:xfrm>
              <a:off x="990720" y="2057400"/>
              <a:ext cx="7238880" cy="4038480"/>
              <a:chOff x="990720" y="2057400"/>
              <a:chExt cx="7238880" cy="403848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3276360" y="2057400"/>
                <a:ext cx="2819160" cy="533160"/>
                <a:chOff x="3276360" y="2057400"/>
                <a:chExt cx="2819160" cy="5331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580920" y="2057400"/>
                  <a:ext cx="213336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276360" y="205740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MISION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Porqué existimos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124080" y="2590920"/>
                <a:ext cx="3123720" cy="533160"/>
                <a:chOff x="3124080" y="2590920"/>
                <a:chExt cx="3123720" cy="5331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124080" y="2590920"/>
                  <a:ext cx="31237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276000" y="259092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VALO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</a:t>
                  </a:r>
                  <a:r>
                    <a:rPr b="0" lang="es-ES_tradnl" sz="1300" spc="-1" strike="noStrike">
                      <a:solidFill>
                        <a:srgbClr val="000000"/>
                      </a:solidFill>
                      <a:latin typeface="Arial"/>
                    </a:rPr>
                    <a:t>Qué es importante para nosotros?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2514600" y="3124080"/>
                <a:ext cx="4266720" cy="533160"/>
                <a:chOff x="2514600" y="3124080"/>
                <a:chExt cx="4266720" cy="5331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2514600" y="3124080"/>
                  <a:ext cx="42667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504960" y="3124080"/>
                  <a:ext cx="22856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VI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Qué queremos s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1904760" y="3657600"/>
                <a:ext cx="5410080" cy="533520"/>
                <a:chOff x="1904760" y="3657600"/>
                <a:chExt cx="5410080" cy="5335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276360" y="365760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ESTRATE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Nuestro Pla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04760" y="3657600"/>
                  <a:ext cx="541008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1447560" y="5029200"/>
                <a:ext cx="6324480" cy="533160"/>
                <a:chOff x="1447560" y="5029200"/>
                <a:chExt cx="6324480" cy="5331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675800" y="5029200"/>
                  <a:ext cx="59432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MEJORA DE LA CALIDA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En qué debemos mejora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447560" y="5029200"/>
                  <a:ext cx="63244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990720" y="5562720"/>
                <a:ext cx="7238880" cy="533160"/>
                <a:chOff x="990720" y="5562720"/>
                <a:chExt cx="7238880" cy="5331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71600" y="5562720"/>
                  <a:ext cx="6553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OBJETIVOS PERSONALES/EMPOWER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Yo, qué necesito hac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990720" y="5562720"/>
                  <a:ext cx="72388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" name=""/>
            <p:cNvSpPr/>
            <p:nvPr/>
          </p:nvSpPr>
          <p:spPr>
            <a:xfrm>
              <a:off x="3886200" y="4419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1840"/>
            <a:ext cx="822960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ncular la misión-visión-estrategia y la acción diaria de los empl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71640" y="1628640"/>
            <a:ext cx="7238880" cy="4955400"/>
            <a:chOff x="971640" y="1628640"/>
            <a:chExt cx="7238880" cy="4955400"/>
          </a:xfrm>
        </p:grpSpPr>
        <p:grpSp>
          <p:nvGrpSpPr>
            <p:cNvPr id="122" name=""/>
            <p:cNvGrpSpPr/>
            <p:nvPr/>
          </p:nvGrpSpPr>
          <p:grpSpPr>
            <a:xfrm>
              <a:off x="971640" y="1628640"/>
              <a:ext cx="7238880" cy="4267080"/>
              <a:chOff x="971640" y="1628640"/>
              <a:chExt cx="7238880" cy="426708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3257640" y="1628640"/>
                <a:ext cx="2819160" cy="533160"/>
                <a:chOff x="3257640" y="1628640"/>
                <a:chExt cx="2819160" cy="5331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562200" y="1628640"/>
                  <a:ext cx="213336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257640" y="162864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MISION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Porqué existimos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3105000" y="2162160"/>
                <a:ext cx="3124080" cy="533520"/>
                <a:chOff x="3105000" y="2162160"/>
                <a:chExt cx="3124080" cy="5335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3105000" y="2162160"/>
                  <a:ext cx="312408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257280" y="2162160"/>
                  <a:ext cx="281952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9900"/>
                      </a:solidFill>
                      <a:latin typeface="Arial"/>
                    </a:rPr>
                    <a:t>VALO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300" spc="-1" strike="noStrike">
                      <a:solidFill>
                        <a:srgbClr val="000000"/>
                      </a:solidFill>
                      <a:latin typeface="Arial"/>
                    </a:rPr>
                    <a:t>¿Qué es importante para nosotros?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2495520" y="2695680"/>
                <a:ext cx="4267080" cy="533160"/>
                <a:chOff x="2495520" y="2695680"/>
                <a:chExt cx="4267080" cy="53316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495520" y="2695680"/>
                  <a:ext cx="42670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86240" y="2695680"/>
                  <a:ext cx="22860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VI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Qué queremos s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114640" y="3228840"/>
                <a:ext cx="5105160" cy="533520"/>
                <a:chOff x="2114640" y="3228840"/>
                <a:chExt cx="5105160" cy="53352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3408840" y="3228840"/>
                  <a:ext cx="26600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ESTRATE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Nuestro Pla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14640" y="3228840"/>
                  <a:ext cx="510516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1276200" y="4829040"/>
                <a:ext cx="6705360" cy="533160"/>
                <a:chOff x="1276200" y="4829040"/>
                <a:chExt cx="6705360" cy="5331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518480" y="4829040"/>
                  <a:ext cx="6301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333399"/>
                      </a:solidFill>
                      <a:latin typeface="Arial"/>
                    </a:rPr>
                    <a:t>MEJORA DE LA CALIDA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En qué debemos mejora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276200" y="4829040"/>
                  <a:ext cx="670536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971640" y="5362560"/>
                <a:ext cx="7238880" cy="533160"/>
                <a:chOff x="971640" y="5362560"/>
                <a:chExt cx="7238880" cy="5331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52520" y="5362560"/>
                  <a:ext cx="6553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333399"/>
                      </a:solidFill>
                      <a:latin typeface="Arial"/>
                    </a:rPr>
                    <a:t>OBJETIVOS PERSONALES/EMPOWER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Yo, qué necesito hac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971640" y="5362560"/>
                  <a:ext cx="72388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581120" y="4295880"/>
                <a:ext cx="6171840" cy="533160"/>
                <a:chOff x="1581120" y="4295880"/>
                <a:chExt cx="6171840" cy="5331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581120" y="4295880"/>
                  <a:ext cx="6171840" cy="5331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971360" y="4295880"/>
                  <a:ext cx="53906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Arial"/>
                    </a:rPr>
                    <a:t>INICIATIVAS ESTRATEGIC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ffffff"/>
                      </a:solidFill>
                      <a:latin typeface="Arial"/>
                    </a:rPr>
                    <a:t>¿Cuáles son las prioridades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733400" y="3762360"/>
                <a:ext cx="5790960" cy="533520"/>
                <a:chOff x="1733400" y="3762360"/>
                <a:chExt cx="5790960" cy="5335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809360" y="3762360"/>
                  <a:ext cx="5715000" cy="5335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733400" y="3778200"/>
                  <a:ext cx="5790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Balanced Scorecar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" name=""/>
            <p:cNvSpPr/>
            <p:nvPr/>
          </p:nvSpPr>
          <p:spPr>
            <a:xfrm>
              <a:off x="1504800" y="6276960"/>
              <a:ext cx="640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RESULTADOS ESTRATEG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00640" y="5972040"/>
              <a:ext cx="45720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6880" y="47628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Las cuatro perspec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0360" y="1844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93160" y="5805360"/>
            <a:ext cx="195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90880" y="3573360"/>
            <a:ext cx="18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3440" y="364500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73640" y="4208400"/>
            <a:ext cx="30456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666880" y="2666880"/>
            <a:ext cx="3763800" cy="3138480"/>
            <a:chOff x="2666880" y="2666880"/>
            <a:chExt cx="3763800" cy="3138480"/>
          </a:xfrm>
        </p:grpSpPr>
        <p:sp>
          <p:nvSpPr>
            <p:cNvPr id="156" name=""/>
            <p:cNvSpPr/>
            <p:nvPr/>
          </p:nvSpPr>
          <p:spPr>
            <a:xfrm>
              <a:off x="2666880" y="2666880"/>
              <a:ext cx="3763800" cy="3138480"/>
            </a:xfrm>
            <a:custGeom>
              <a:avLst/>
              <a:gdLst>
                <a:gd name="textAreaLeft" fmla="*/ 1550880 w 3763800"/>
                <a:gd name="textAreaRight" fmla="*/ 2212920 w 3763800"/>
                <a:gd name="textAreaTop" fmla="*/ 1293120 h 3138480"/>
                <a:gd name="textAreaBottom" fmla="*/ 1845360 h 31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22320" y="4020840"/>
              <a:ext cx="25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808080"/>
                  </a:solidFill>
                  <a:latin typeface="Arial"/>
                </a:rPr>
                <a:t>Estra     tégicos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3408120" y="3590640"/>
              <a:ext cx="24685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808080"/>
                  </a:solidFill>
                  <a:latin typeface="Arial"/>
                </a:rPr>
                <a:t>Linea     mien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financiera o de los accion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blece objetivos financie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fi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financiera vincula los objetivos de cada unidad del negocio con la estrategia de la empre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rve de enfoque para todos los objetivos e indicadores de todas las demás persp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47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cli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523520"/>
            <a:ext cx="807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 los segmentos de cliente y mercado donde se va a compet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de las propuestas de valor que se orientan a los clientes y merc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valúa las necesidades de los clientes, como su satisfacción, lealtad, adquisición y rentabilidad con el fin de alinear los productos y servicios con sus preferenc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procesos intern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 la cadena de valor de los procesos necesarios para entregar a los clientes soluciones a sus neces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objetivos e indicadores de esta perspectiva se derivan de estrategias explícitas para satisfacer las expectativas de los clientes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no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per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rvicio posven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aprendizaje y crecimient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072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actuación del personal se refuerza con agentes motivadores que estimulen sus intereses hacia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mide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 capacidades d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emplead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s sistemas de informació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l clima organizacional para medir la motivación y las iniciativas del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2880" y="385920"/>
            <a:ext cx="7575480" cy="38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Perspectivas del B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600" y="1066680"/>
            <a:ext cx="8686800" cy="5105520"/>
            <a:chOff x="228600" y="1066680"/>
            <a:chExt cx="8686800" cy="5105520"/>
          </a:xfrm>
        </p:grpSpPr>
        <p:sp>
          <p:nvSpPr>
            <p:cNvPr id="169" name=""/>
            <p:cNvSpPr/>
            <p:nvPr/>
          </p:nvSpPr>
          <p:spPr>
            <a:xfrm>
              <a:off x="3505320" y="3047760"/>
              <a:ext cx="190512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53040" y="335268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isión y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8600" y="2895480"/>
              <a:ext cx="2438640" cy="13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FINANZ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¿Qué objetivos financieros se debe perseguir para ser exitoso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8600" y="2819160"/>
              <a:ext cx="2438640" cy="14479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43200" y="3504960"/>
              <a:ext cx="6098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248520" y="2895480"/>
              <a:ext cx="2666880" cy="1295280"/>
              <a:chOff x="6248520" y="2895480"/>
              <a:chExt cx="2666880" cy="1295280"/>
            </a:xfrm>
          </p:grpSpPr>
          <p:sp>
            <p:nvSpPr>
              <p:cNvPr id="175" name=""/>
              <p:cNvSpPr/>
              <p:nvPr/>
            </p:nvSpPr>
            <p:spPr>
              <a:xfrm>
                <a:off x="6248520" y="3047760"/>
                <a:ext cx="2666880" cy="87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Arial"/>
                  </a:rPr>
                  <a:t>PROCESOS INTERN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¿En qué procesos debemos ser los mejores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248520" y="2895480"/>
                <a:ext cx="2590560" cy="12952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5562720" y="3504960"/>
              <a:ext cx="6094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276720" y="1066680"/>
              <a:ext cx="2514600" cy="1218960"/>
              <a:chOff x="3276720" y="1066680"/>
              <a:chExt cx="2514600" cy="1218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276720" y="1142640"/>
                <a:ext cx="2514600" cy="93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33399"/>
                    </a:solidFill>
                    <a:latin typeface="Arial"/>
                  </a:rPr>
                  <a:t>CLIENT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333399"/>
                    </a:solidFill>
                    <a:latin typeface="Arial"/>
                  </a:rPr>
                  <a:t>¿Cómo me deben ver mis clientes para ser exitoso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53040" y="1066680"/>
                <a:ext cx="2361960" cy="121896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4489200" y="2361960"/>
              <a:ext cx="11160" cy="6098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276720" y="4800600"/>
              <a:ext cx="2514600" cy="1371600"/>
              <a:chOff x="3276720" y="4800600"/>
              <a:chExt cx="2514600" cy="1371600"/>
            </a:xfrm>
          </p:grpSpPr>
          <p:sp>
            <p:nvSpPr>
              <p:cNvPr id="183" name=""/>
              <p:cNvSpPr/>
              <p:nvPr/>
            </p:nvSpPr>
            <p:spPr>
              <a:xfrm>
                <a:off x="3276720" y="4843440"/>
                <a:ext cx="2514600" cy="11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33399"/>
                    </a:solidFill>
                    <a:latin typeface="Arial"/>
                  </a:rPr>
                  <a:t>APRENDIZAJ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333399"/>
                    </a:solidFill>
                    <a:latin typeface="Arial"/>
                  </a:rPr>
                  <a:t>¿Cómo mantener la capacidad de cambio y mejora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352680" y="4800600"/>
                <a:ext cx="2286000" cy="137160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 flipV="1">
              <a:off x="4496040" y="4114440"/>
              <a:ext cx="0" cy="6094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71600" y="4343400"/>
              <a:ext cx="1828800" cy="121896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791320" y="4343040"/>
              <a:ext cx="1828800" cy="11430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295640" y="1447200"/>
              <a:ext cx="1981080" cy="121932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67640" y="1447560"/>
              <a:ext cx="1752480" cy="129564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11280" y="549360"/>
            <a:ext cx="3349440" cy="5047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ISION Y 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4720" y="1477800"/>
            <a:ext cx="3600360" cy="28764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100000">
                <a:srgbClr val="c7b199">
                  <a:alpha val="0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INAN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44720" y="1765440"/>
            <a:ext cx="3600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satisfacer a nuestros accionis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¿Qué objetivos financieros debo logr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71640" y="2565360"/>
            <a:ext cx="3600720" cy="287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71640" y="2852640"/>
            <a:ext cx="3600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lograr la rentabilidad ¿Cómo debem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tisfacer los requerimientos de los client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57440" y="3718080"/>
            <a:ext cx="3816360" cy="287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CESOS INTER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57440" y="4005360"/>
            <a:ext cx="381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satisfacer a nuestros clientes ¿En qu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cesos internos debemos de ser excelent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76720" y="4870440"/>
            <a:ext cx="4392720" cy="287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PRENDIZAJE Y CRE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76720" y="5156280"/>
            <a:ext cx="4392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asegurar la eficiencia en nues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cesos ¿cómo debemos desarrollar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uestro personal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936000" y="1593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1872000" y="2816640"/>
            <a:ext cx="792000" cy="72108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440 h 721080"/>
              <a:gd name="textAreaBottom" fmla="*/ 617760 h 721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2520360" y="3825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3241080" y="5049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7560360" y="3969000"/>
            <a:ext cx="792360" cy="720720"/>
          </a:xfrm>
          <a:custGeom>
            <a:avLst/>
            <a:gdLst>
              <a:gd name="textAreaLeft" fmla="*/ 264240 w 792360"/>
              <a:gd name="textAreaRight" fmla="*/ 678600 w 79236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6481080" y="274392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5616000" y="1593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4283640" y="547920"/>
            <a:ext cx="647640" cy="792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39640" y="1414440"/>
            <a:ext cx="4537080" cy="4392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11280" y="4653000"/>
            <a:ext cx="5184720" cy="122400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onocimientos, Habilidades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Actitudes, Principios Eticos en el person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87280" y="3645000"/>
            <a:ext cx="381636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apacidad de Proces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03280" y="2637000"/>
            <a:ext cx="33116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Beneficios a l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92360" y="1701720"/>
            <a:ext cx="280836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financier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08" idx="2"/>
            <a:endCxn id="209" idx="2"/>
          </p:cNvCxnSpPr>
          <p:nvPr/>
        </p:nvCxnSpPr>
        <p:spPr>
          <a:xfrm flipH="1" rot="10800000">
            <a:off x="591120" y="3967920"/>
            <a:ext cx="595800" cy="1297800"/>
          </a:xfrm>
          <a:prstGeom prst="curvedConnector5">
            <a:avLst>
              <a:gd name="adj1" fmla="val -35187"/>
              <a:gd name="adj2" fmla="val 50000"/>
              <a:gd name="adj3" fmla="val -3518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9" idx="2"/>
            <a:endCxn id="210" idx="2"/>
          </p:cNvCxnSpPr>
          <p:nvPr/>
        </p:nvCxnSpPr>
        <p:spPr>
          <a:xfrm flipH="1" rot="10800000">
            <a:off x="1186920" y="2959920"/>
            <a:ext cx="216720" cy="1008720"/>
          </a:xfrm>
          <a:prstGeom prst="curvedConnector5">
            <a:avLst>
              <a:gd name="adj1" fmla="val -105823"/>
              <a:gd name="adj2" fmla="val 49982"/>
              <a:gd name="adj3" fmla="val -105823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10" idx="2"/>
            <a:endCxn id="211" idx="2"/>
          </p:cNvCxnSpPr>
          <p:nvPr/>
        </p:nvCxnSpPr>
        <p:spPr>
          <a:xfrm flipH="1" rot="10800000">
            <a:off x="1401840" y="2025000"/>
            <a:ext cx="289440" cy="935640"/>
          </a:xfrm>
          <a:prstGeom prst="curvedConnector5">
            <a:avLst>
              <a:gd name="adj1" fmla="val -79202"/>
              <a:gd name="adj2" fmla="val 50000"/>
              <a:gd name="adj3" fmla="val -79202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5218200" y="1268280"/>
            <a:ext cx="3457440" cy="4394160"/>
          </a:xfrm>
          <a:prstGeom prst="upArrow">
            <a:avLst>
              <a:gd name="adj1" fmla="val 50000"/>
              <a:gd name="adj2" fmla="val 31773"/>
            </a:avLst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27640" y="2133720"/>
            <a:ext cx="15112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estrategias deb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adenarse p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usa –ef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 lograr los resultados dese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79640" y="620640"/>
            <a:ext cx="2089080" cy="576360"/>
          </a:xfrm>
          <a:prstGeom prst="ellipse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68360" y="836640"/>
            <a:ext cx="1582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00360" y="1341360"/>
            <a:ext cx="576360" cy="2872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b5146"/>
              </a:gs>
              <a:gs pos="100000">
                <a:srgbClr val="c7b199">
                  <a:alpha val="0"/>
                </a:srgbClr>
              </a:gs>
            </a:gsLst>
            <a:lin ang="5400000"/>
          </a:gra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86080" y="549360"/>
            <a:ext cx="4513320" cy="3456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32040" y="4359240"/>
            <a:ext cx="531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4508640"/>
            <a:ext cx="8064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¿Qué camino debo seguir?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- preguntó Al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Según a donde quieras llegar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- observó el Gato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Me es absolutamente igual un sitio que otro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...- dijo Ali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Entonces también da lo mismo un camino que otro-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añadió el Ga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60360" y="619200"/>
            <a:ext cx="7272360" cy="28872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FINANC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60360" y="907920"/>
            <a:ext cx="7272360" cy="86364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60360" y="1987560"/>
            <a:ext cx="7272360" cy="2890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DEL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60360" y="2276640"/>
            <a:ext cx="7272360" cy="8632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60360" y="3355920"/>
            <a:ext cx="7272360" cy="2890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DE PROCESOS INTER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60360" y="3645000"/>
            <a:ext cx="7272360" cy="86364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60360" y="4724280"/>
            <a:ext cx="7272360" cy="2890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DE APRENDIZAJE Y CRE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60360" y="5013360"/>
            <a:ext cx="7272360" cy="86364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979560"/>
            <a:ext cx="216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trategia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gre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99280" y="979560"/>
            <a:ext cx="216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trategia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odu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24360" y="979560"/>
            <a:ext cx="201600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torno d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2920" y="2419200"/>
            <a:ext cx="115272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07280" y="2419200"/>
            <a:ext cx="1152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96000" y="2563920"/>
            <a:ext cx="115236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MA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71640" y="2563920"/>
            <a:ext cx="115272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32000" y="2419200"/>
            <a:ext cx="1152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struir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0508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acer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rvir 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7672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tregar 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19280" y="5156280"/>
            <a:ext cx="2160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51280" y="5156280"/>
            <a:ext cx="2160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5156280"/>
            <a:ext cx="2160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li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rganiz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1212200">
            <a:off x="539640" y="4363560"/>
            <a:ext cx="503280" cy="1008360"/>
          </a:xfrm>
          <a:custGeom>
            <a:avLst/>
            <a:gdLst>
              <a:gd name="textAreaLeft" fmla="*/ 67320 w 503280"/>
              <a:gd name="textAreaRight" fmla="*/ 435960 w 50328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1212200">
            <a:off x="539640" y="2995560"/>
            <a:ext cx="503280" cy="1008000"/>
          </a:xfrm>
          <a:custGeom>
            <a:avLst/>
            <a:gdLst>
              <a:gd name="textAreaLeft" fmla="*/ 67320 w 503280"/>
              <a:gd name="textAreaRight" fmla="*/ 435960 w 503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1212200">
            <a:off x="539640" y="1555920"/>
            <a:ext cx="503280" cy="1008000"/>
          </a:xfrm>
          <a:custGeom>
            <a:avLst/>
            <a:gdLst>
              <a:gd name="textAreaLeft" fmla="*/ 67320 w 503280"/>
              <a:gd name="textAreaRight" fmla="*/ 435960 w 503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1339920"/>
            <a:ext cx="35892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012000" y="1339920"/>
            <a:ext cx="28872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3562200" y="2233440"/>
          <a:ext cx="3538800" cy="908280"/>
        </p:xfrm>
        <a:graphic>
          <a:graphicData uri="http://schemas.openxmlformats.org/drawingml/2006/table">
            <a:tbl>
              <a:tblPr/>
              <a:tblGrid>
                <a:gridCol w="885960"/>
                <a:gridCol w="884160"/>
                <a:gridCol w="882720"/>
                <a:gridCol w="8859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2770200" y="836640"/>
          <a:ext cx="3960720" cy="907920"/>
        </p:xfrm>
        <a:graphic>
          <a:graphicData uri="http://schemas.openxmlformats.org/drawingml/2006/table">
            <a:tbl>
              <a:tblPr/>
              <a:tblGrid>
                <a:gridCol w="988920"/>
                <a:gridCol w="992160"/>
                <a:gridCol w="990720"/>
                <a:gridCol w="988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4354560" y="4967280"/>
          <a:ext cx="4032360" cy="909720"/>
        </p:xfrm>
        <a:graphic>
          <a:graphicData uri="http://schemas.openxmlformats.org/drawingml/2006/table">
            <a:tbl>
              <a:tblPr/>
              <a:tblGrid>
                <a:gridCol w="1008000"/>
                <a:gridCol w="1009800"/>
                <a:gridCol w="1006200"/>
                <a:gridCol w="10083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611280" y="620640"/>
            <a:ext cx="63356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693720"/>
            <a:ext cx="1944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satisfacer a nuestros accion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Qué objetivo financiero deb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lcanz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33720" y="646200"/>
            <a:ext cx="157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ERSPECTIVA  FINANCIE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59770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30200" y="2060640"/>
            <a:ext cx="20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alcanzar nuestro objetivos financieros ¿Qué necesidades del cliente debemos satisfac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81720" y="1990800"/>
            <a:ext cx="1467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ERSPECTIVA  CLIE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62200" y="3357720"/>
            <a:ext cx="612144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778200" y="3573360"/>
          <a:ext cx="3889440" cy="908280"/>
        </p:xfrm>
        <a:graphic>
          <a:graphicData uri="http://schemas.openxmlformats.org/drawingml/2006/table">
            <a:tbl>
              <a:tblPr/>
              <a:tblGrid>
                <a:gridCol w="1143000"/>
                <a:gridCol w="917640"/>
                <a:gridCol w="912960"/>
                <a:gridCol w="91584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4786200" y="3359160"/>
            <a:ext cx="209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ERSPECTIVA  PROCESOS INTERN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35280" y="3429000"/>
            <a:ext cx="1800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satisfacer a nuestros accionistas y clientes ¿Cuáles procesos empresariales debemos mejor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09840" y="4724280"/>
            <a:ext cx="61214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49800" y="4727520"/>
            <a:ext cx="252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ERSPECTIVA  APRENDIZAJE Y CRECIMI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82920" y="4838760"/>
            <a:ext cx="180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lograr nuestras metas ¿Cómo debe aprender e innovar nuestra organiz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51" idx="3"/>
            <a:endCxn id="254" idx="3"/>
          </p:cNvCxnSpPr>
          <p:nvPr/>
        </p:nvCxnSpPr>
        <p:spPr>
          <a:xfrm>
            <a:off x="6946560" y="1196640"/>
            <a:ext cx="289440" cy="1369080"/>
          </a:xfrm>
          <a:prstGeom prst="curvedConnector5">
            <a:avLst>
              <a:gd name="adj1" fmla="val 178704"/>
              <a:gd name="adj2" fmla="val 50000"/>
              <a:gd name="adj3" fmla="val 178704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54" idx="3"/>
            <a:endCxn id="257" idx="3"/>
          </p:cNvCxnSpPr>
          <p:nvPr/>
        </p:nvCxnSpPr>
        <p:spPr>
          <a:xfrm>
            <a:off x="7235640" y="2565000"/>
            <a:ext cx="648360" cy="136908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1"/>
            <a:endCxn id="257" idx="1"/>
          </p:cNvCxnSpPr>
          <p:nvPr/>
        </p:nvCxnSpPr>
        <p:spPr>
          <a:xfrm rot="10800000">
            <a:off x="1761480" y="3933000"/>
            <a:ext cx="648360" cy="136764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57" idx="1"/>
            <a:endCxn id="254" idx="1"/>
          </p:cNvCxnSpPr>
          <p:nvPr/>
        </p:nvCxnSpPr>
        <p:spPr>
          <a:xfrm rot="10800000">
            <a:off x="1258200" y="2564640"/>
            <a:ext cx="504000" cy="1369080"/>
          </a:xfrm>
          <a:prstGeom prst="curvedConnector5">
            <a:avLst>
              <a:gd name="adj1" fmla="val 145389"/>
              <a:gd name="adj2" fmla="val 50000"/>
              <a:gd name="adj3" fmla="val 145389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54" idx="1"/>
            <a:endCxn id="252" idx="1"/>
          </p:cNvCxnSpPr>
          <p:nvPr/>
        </p:nvCxnSpPr>
        <p:spPr>
          <a:xfrm rot="10800000">
            <a:off x="610560" y="1196280"/>
            <a:ext cx="648360" cy="136908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57" idx="3"/>
            <a:endCxn id="261" idx="3"/>
          </p:cNvCxnSpPr>
          <p:nvPr/>
        </p:nvCxnSpPr>
        <p:spPr>
          <a:xfrm>
            <a:off x="7883280" y="3933360"/>
            <a:ext cx="648360" cy="136764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324000" y="333360"/>
          <a:ext cx="8496000" cy="5910120"/>
        </p:xfrm>
        <a:graphic>
          <a:graphicData uri="http://schemas.openxmlformats.org/drawingml/2006/table">
            <a:tbl>
              <a:tblPr/>
              <a:tblGrid>
                <a:gridCol w="1971360"/>
                <a:gridCol w="1432080"/>
                <a:gridCol w="622440"/>
                <a:gridCol w="622080"/>
                <a:gridCol w="620640"/>
                <a:gridCol w="1627200"/>
                <a:gridCol w="1600200"/>
              </a:tblGrid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FINANCI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 DEL CLI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 DEL PROCESOS INTERN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 DE APRENDIZAJE Y DESARRO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292720" y="2637000"/>
            <a:ext cx="35989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um. de Horas de capacit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um. de propuestas de mejo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quisición de conocimi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quisición de tecnologí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joramiento Clima Organizacio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2720" y="2205000"/>
            <a:ext cx="3598920" cy="43200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endizaje y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03600" y="836640"/>
            <a:ext cx="331128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O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lumen de ve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rgen de Contribu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Unidades brutas / impue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9640" y="2565360"/>
            <a:ext cx="331164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% de participación en 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de entreg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dice de satisfacción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quilibrio precio/beneficio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8200" y="2205000"/>
            <a:ext cx="3313080" cy="36036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spectiva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000" y="4508640"/>
            <a:ext cx="3674880" cy="36036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spectiva d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56000" y="4869000"/>
            <a:ext cx="367488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rol de proce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pacidad utiliz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de cic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umplimiento de especifica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ceso de distribu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6200000">
            <a:off x="7020360" y="835560"/>
            <a:ext cx="648000" cy="792360"/>
          </a:xfrm>
          <a:custGeom>
            <a:avLst/>
            <a:gdLst>
              <a:gd name="textAreaLeft" fmla="*/ 216000 w 648000"/>
              <a:gd name="textAreaRight" fmla="*/ 555120 w 648000"/>
              <a:gd name="textAreaTop" fmla="*/ 456480 h 792360"/>
              <a:gd name="textAreaBottom" fmla="*/ 6786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1187280" y="980640"/>
            <a:ext cx="648000" cy="792360"/>
          </a:xfrm>
          <a:custGeom>
            <a:avLst/>
            <a:gdLst>
              <a:gd name="textAreaLeft" fmla="*/ 216000 w 648000"/>
              <a:gd name="textAreaRight" fmla="*/ 555120 w 648000"/>
              <a:gd name="textAreaTop" fmla="*/ 456480 h 792360"/>
              <a:gd name="textAreaBottom" fmla="*/ 6786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93080" y="4508640"/>
            <a:ext cx="647640" cy="792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1404000" y="4580640"/>
            <a:ext cx="647640" cy="792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700360" y="476280"/>
            <a:ext cx="3311640" cy="36036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spectiva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El que no sabe dónde está, seguro que está per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Y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 el que no sabe adónde va</a:t>
            </a: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seguro que llega al l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equivocad</a:t>
            </a: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720" y="37620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rol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necesidad de una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das las empresas necesitan tener claro cual es su razón de ser en el mercado, a donde quiere llegar, cuando, cómo y con qué recursos humanos, económicos y materiales, sin embargo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¿ Cómo sabe la empresa si está avanzando en la implementación de la estrategia plantea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¿ Cómo sabe la empresa si está logrando los objetivos estratégicos  plantead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nos del 10% de las estrategias bien formuladas son ejecutadas efectivam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mayoría de los casos (aproximadamente 70%), el problema real no es una mala estrategia sino una mala ejecu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Fortune Magaz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estión estraté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820800"/>
            <a:ext cx="7200720" cy="368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EMPRESAS CON Y SIN ALINE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2565360"/>
            <a:ext cx="3024360" cy="2736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3640" y="2133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3284640"/>
            <a:ext cx="1366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M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328464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195640" y="3211200"/>
            <a:ext cx="21564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56000" y="2707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2700360" y="321264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835280" y="3860280"/>
            <a:ext cx="21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195640" y="393336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771640" y="393336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987640" y="386028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56000" y="393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547640" y="458100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908000" y="4653000"/>
            <a:ext cx="1429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340000" y="4723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627280" y="4723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2987280" y="4652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347640" y="4581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48360" y="2492280"/>
            <a:ext cx="3024000" cy="27370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59640" y="2707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556000" y="321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732720" y="32130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6300360" y="3284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35733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084360" y="3933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516720" y="386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732720" y="3860640"/>
            <a:ext cx="360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8000" y="414972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5435280" y="4365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372360" y="4508640"/>
            <a:ext cx="43164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300720" y="472392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6948360" y="458100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7019640" y="443700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5516640"/>
            <a:ext cx="41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INERGIA – PRODUCTIVIDAD - RE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551664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ISPERSION DE ESFUERZOS Y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600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036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un modelo de gestión que permite a las organizaciones alinear las estrategias hacia su visión y traducirlas en objetivos que dirijan las iniciativas  y actividades del personal, enfocándolo en la creación de va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e una metodología que traduce la Visión y la Estrategia de la organización en objetivos cuantificables y relacionados entre si, utilizando mecanismos de medición que proveen el marco para el seguimiento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mite dar a conocer la estrategia de la empresa a todo su personal, señalándole las prioridades y las relaciones de causa- efecto entre la estrategia y las acciones que emprenda la organización, sinergizando las fuerz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mite delimitar las responsabilidades del equipo directivo, expresándola en indicadores tanto colectivos como individu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749160"/>
            <a:ext cx="7417080" cy="4597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¿ QUE ES EL BALANCED SCORECAR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1628640"/>
            <a:ext cx="813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mite traduce la Estrategia en Objetivos Cuantific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ide a través de Indicadores Claves de Desempeño y Metas claramente defin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pone de un medio sencillo y práctico de seguimiento al cumplimiento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alida que las acciones estén orientadas al logro de objetivos estratég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oma en cuenta perspectiva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749160"/>
            <a:ext cx="7417080" cy="4597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¿ QUE ES EL BALANCED SCORECAR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Dr. Robert Kaplan"/>
          <p:cNvPicPr/>
          <p:nvPr/>
        </p:nvPicPr>
        <p:blipFill>
          <a:blip r:embed="rId1"/>
          <a:stretch/>
        </p:blipFill>
        <p:spPr>
          <a:xfrm>
            <a:off x="1547640" y="1844640"/>
            <a:ext cx="2160720" cy="3024360"/>
          </a:xfrm>
          <a:prstGeom prst="rect">
            <a:avLst/>
          </a:prstGeom>
          <a:ln w="9360">
            <a:solidFill>
              <a:srgbClr val="9c7150"/>
            </a:solidFill>
            <a:miter/>
          </a:ln>
        </p:spPr>
      </p:pic>
      <p:pic>
        <p:nvPicPr>
          <p:cNvPr id="94" name="" descr="David P. Norton"/>
          <p:cNvPicPr/>
          <p:nvPr/>
        </p:nvPicPr>
        <p:blipFill>
          <a:blip r:embed="rId2"/>
          <a:stretch/>
        </p:blipFill>
        <p:spPr>
          <a:xfrm>
            <a:off x="5219640" y="1916280"/>
            <a:ext cx="2665440" cy="2952720"/>
          </a:xfrm>
          <a:prstGeom prst="rect">
            <a:avLst/>
          </a:prstGeom>
          <a:ln w="9360">
            <a:solidFill>
              <a:srgbClr val="9c715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826920" y="749160"/>
            <a:ext cx="7417080" cy="3373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¿ QUIENES SON LOS CREADORES DEL BSC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530064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ROBERT S. KA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14920" y="525312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AVID P. NOR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1:57:48Z</dcterms:created>
  <dc:creator>Ivan Alvarez</dc:creator>
  <dc:description/>
  <dc:language>en-US</dc:language>
  <cp:lastModifiedBy>Ivan Alvarez</cp:lastModifiedBy>
  <dcterms:modified xsi:type="dcterms:W3CDTF">2007-11-12T00:10:16Z</dcterms:modified>
  <cp:revision>18</cp:revision>
  <dc:subject/>
  <dc:title>Diapositiva 1</dc:title>
</cp:coreProperties>
</file>