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03E-DAC7-4644-B975-D4693CFC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AF5-7C84-4129-8A55-B521C0EE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E42-6EF4-4EE0-BE55-2684401B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8A4-9022-4457-AA50-2F446B9C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0B2-CA3C-499F-8BE1-5989E58D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ED1-5AED-4F5E-8F7C-7A984D77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1B5-99B0-4D5E-904E-B5BB094B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B3F-FA78-4034-8363-DB93236C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91C-7961-45B2-9EBC-2D7F6FFC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FA3-5C85-41FA-B679-FB020EDE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5C2-6C1D-4484-A69C-FB7C14CE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FF1-F8B1-469D-847C-5838C5FD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4C0B-2AE3-461A-900E-583BD84B8B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un vacío entre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0720" y="2057400"/>
            <a:ext cx="7238880" cy="4038480"/>
            <a:chOff x="990720" y="2057400"/>
            <a:chExt cx="7238880" cy="4038480"/>
          </a:xfrm>
        </p:grpSpPr>
        <p:grpSp>
          <p:nvGrpSpPr>
            <p:cNvPr id="100" name=""/>
            <p:cNvGrpSpPr/>
            <p:nvPr/>
          </p:nvGrpSpPr>
          <p:grpSpPr>
            <a:xfrm>
              <a:off x="990720" y="2057400"/>
              <a:ext cx="7238880" cy="4038480"/>
              <a:chOff x="990720" y="2057400"/>
              <a:chExt cx="7238880" cy="4038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276360" y="2057400"/>
                <a:ext cx="2819160" cy="533160"/>
                <a:chOff x="3276360" y="2057400"/>
                <a:chExt cx="2819160" cy="533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80920" y="205740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76360" y="20574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124080" y="2590920"/>
                <a:ext cx="3123720" cy="533160"/>
                <a:chOff x="3124080" y="2590920"/>
                <a:chExt cx="3123720" cy="533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124080" y="2590920"/>
                  <a:ext cx="3123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76000" y="259092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</a:t>
                  </a: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514600" y="3124080"/>
                <a:ext cx="4266720" cy="533160"/>
                <a:chOff x="2514600" y="3124080"/>
                <a:chExt cx="4266720" cy="533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14600" y="3124080"/>
                  <a:ext cx="4266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04960" y="3124080"/>
                  <a:ext cx="2285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904760" y="3657600"/>
                <a:ext cx="5410080" cy="533520"/>
                <a:chOff x="1904760" y="3657600"/>
                <a:chExt cx="5410080" cy="5335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76360" y="36576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04760" y="3657600"/>
                  <a:ext cx="5410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447560" y="5029200"/>
                <a:ext cx="6324480" cy="533160"/>
                <a:chOff x="1447560" y="5029200"/>
                <a:chExt cx="6324480" cy="533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675800" y="5029200"/>
                  <a:ext cx="59432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7560" y="5029200"/>
                  <a:ext cx="6324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990720" y="5562720"/>
                <a:ext cx="7238880" cy="533160"/>
                <a:chOff x="990720" y="5562720"/>
                <a:chExt cx="7238880" cy="533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71600" y="556272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90720" y="556272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88620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ncular la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628640"/>
            <a:ext cx="7238880" cy="4955400"/>
            <a:chOff x="971640" y="1628640"/>
            <a:chExt cx="7238880" cy="495540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628640"/>
              <a:ext cx="7238880" cy="4267080"/>
              <a:chOff x="971640" y="1628640"/>
              <a:chExt cx="7238880" cy="42670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257640" y="1628640"/>
                <a:ext cx="2819160" cy="533160"/>
                <a:chOff x="3257640" y="1628640"/>
                <a:chExt cx="2819160" cy="533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562200" y="162864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7640" y="162864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05000" y="2162160"/>
                <a:ext cx="3124080" cy="533520"/>
                <a:chOff x="3105000" y="2162160"/>
                <a:chExt cx="3124080" cy="533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105000" y="2162160"/>
                  <a:ext cx="3124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57280" y="2162160"/>
                  <a:ext cx="28195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99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¿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495520" y="2695680"/>
                <a:ext cx="4267080" cy="533160"/>
                <a:chOff x="2495520" y="2695680"/>
                <a:chExt cx="4267080" cy="533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495520" y="2695680"/>
                  <a:ext cx="42670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86240" y="2695680"/>
                  <a:ext cx="2286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114640" y="3228840"/>
                <a:ext cx="5105160" cy="533520"/>
                <a:chOff x="2114640" y="3228840"/>
                <a:chExt cx="5105160" cy="533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8840" y="3228840"/>
                  <a:ext cx="266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14640" y="3228840"/>
                  <a:ext cx="5105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276200" y="4829040"/>
                <a:ext cx="6705360" cy="533160"/>
                <a:chOff x="1276200" y="4829040"/>
                <a:chExt cx="6705360" cy="533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518480" y="4829040"/>
                  <a:ext cx="6301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76200" y="4829040"/>
                  <a:ext cx="6705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971640" y="5362560"/>
                <a:ext cx="7238880" cy="533160"/>
                <a:chOff x="971640" y="5362560"/>
                <a:chExt cx="7238880" cy="533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52520" y="536256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71640" y="536256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81120" y="4295880"/>
                <a:ext cx="6171840" cy="533160"/>
                <a:chOff x="1581120" y="4295880"/>
                <a:chExt cx="6171840" cy="533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1120" y="4295880"/>
                  <a:ext cx="6171840" cy="533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71360" y="4295880"/>
                  <a:ext cx="5390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INICIATIVAS ESTRATEG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¿Cuáles son las prioridade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733400" y="3762360"/>
                <a:ext cx="5790960" cy="533520"/>
                <a:chOff x="1733400" y="3762360"/>
                <a:chExt cx="5790960" cy="533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809360" y="3762360"/>
                  <a:ext cx="5715000" cy="533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33400" y="3778200"/>
                  <a:ext cx="57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Balanced Scorecar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1504800" y="6276960"/>
              <a:ext cx="64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SULTADOS ESTRATE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00640" y="597204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6880" y="47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Las cuatro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1844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3160" y="5805360"/>
            <a:ext cx="19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880" y="3573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40" y="364500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3640" y="420840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880" y="2666880"/>
            <a:ext cx="3763800" cy="3138480"/>
            <a:chOff x="2666880" y="2666880"/>
            <a:chExt cx="3763800" cy="3138480"/>
          </a:xfrm>
        </p:grpSpPr>
        <p:sp>
          <p:nvSpPr>
            <p:cNvPr id="156" name=""/>
            <p:cNvSpPr/>
            <p:nvPr/>
          </p:nvSpPr>
          <p:spPr>
            <a:xfrm>
              <a:off x="2666880" y="2666880"/>
              <a:ext cx="3763800" cy="3138480"/>
            </a:xfrm>
            <a:custGeom>
              <a:avLst/>
              <a:gdLst>
                <a:gd name="textAreaLeft" fmla="*/ 1550880 w 3763800"/>
                <a:gd name="textAreaRight" fmla="*/ 2212920 w 3763800"/>
                <a:gd name="textAreaTop" fmla="*/ 1293120 h 3138480"/>
                <a:gd name="textAreaBottom" fmla="*/ 1845360 h 31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22320" y="4020840"/>
              <a:ext cx="25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Estra     tégicos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408120" y="3590640"/>
              <a:ext cx="24685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Linea     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o de los acc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 objetivos financi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vincula los objetivos de cada unidad del negocio con la estrategia de la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rve de enfoque para todos los objetivos e indicadores de todas las demás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cli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07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os segmentos de cliente y mercado donde se va a compe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de las propuestas de valor que se orientan a los clientes y merc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úa las necesidades de los clientes, como su satisfacción, lealtad, adquisición y rentabilidad con el fin de alinear los productos y servicios con sus pre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procesos intern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la cadena de valor de los procesos necesarios para entregar a los clientes soluciones a sus neces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objetivos e indicadores de esta perspectiva se derivan de estrategias explícitas para satisfacer las expectativas de los client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posv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aprendizaje y crecimi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uación del personal se refuerza con agentes motivadores que estimulen sus intereses haci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ide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capacidades d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mple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sistemas de inform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l clima organizacional para medir la motivación y las iniciativas d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2880" y="385920"/>
            <a:ext cx="75754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Perspectivas del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066680"/>
            <a:ext cx="8686800" cy="5105520"/>
            <a:chOff x="228600" y="1066680"/>
            <a:chExt cx="8686800" cy="5105520"/>
          </a:xfrm>
        </p:grpSpPr>
        <p:sp>
          <p:nvSpPr>
            <p:cNvPr id="169" name=""/>
            <p:cNvSpPr/>
            <p:nvPr/>
          </p:nvSpPr>
          <p:spPr>
            <a:xfrm>
              <a:off x="3505320" y="304776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3040" y="3352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sión y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2895480"/>
              <a:ext cx="2438640" cy="13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FIN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¿Qué objetivos financieros se debe perseguir para ser exito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2819160"/>
              <a:ext cx="2438640" cy="1447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3504960"/>
              <a:ext cx="6098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248520" y="2895480"/>
              <a:ext cx="2666880" cy="1295280"/>
              <a:chOff x="6248520" y="2895480"/>
              <a:chExt cx="2666880" cy="1295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248520" y="3047760"/>
                <a:ext cx="2666880" cy="87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Arial"/>
                  </a:rPr>
                  <a:t>PROCESO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¿En qué procesos debemos ser los mejores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48520" y="2895480"/>
                <a:ext cx="2590560" cy="1295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562720" y="350496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720" y="1066680"/>
              <a:ext cx="2514600" cy="1218960"/>
              <a:chOff x="3276720" y="1066680"/>
              <a:chExt cx="2514600" cy="121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6720" y="1142640"/>
                <a:ext cx="251460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e deben ver mis clientes para ser exitoso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3040" y="1066680"/>
                <a:ext cx="2361960" cy="12189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89200" y="2361960"/>
              <a:ext cx="11160" cy="6098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6720" y="4800600"/>
              <a:ext cx="2514600" cy="1371600"/>
              <a:chOff x="3276720" y="4800600"/>
              <a:chExt cx="2514600" cy="1371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6720" y="4843440"/>
                <a:ext cx="2514600" cy="11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APRENDIZ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antener la capacidad de cambio y mejo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2680" y="480060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4496040" y="4114440"/>
              <a:ext cx="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343400"/>
              <a:ext cx="1828800" cy="12189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91320" y="4343040"/>
              <a:ext cx="182880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95640" y="1447200"/>
              <a:ext cx="198108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67640" y="1447560"/>
              <a:ext cx="1752480" cy="12956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549360"/>
            <a:ext cx="3349440" cy="504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SION Y 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4720" y="1477800"/>
            <a:ext cx="3600360" cy="28764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4720" y="1765440"/>
            <a:ext cx="3600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é objetivos financieros debo log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2565360"/>
            <a:ext cx="3600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852640"/>
            <a:ext cx="360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la rentabilidad ¿Cómo debe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tisfacer los requerimientos de los cli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57440" y="3718080"/>
            <a:ext cx="381636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7440" y="400536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clientes ¿En qu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internos debemos de ser excel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6720" y="4870440"/>
            <a:ext cx="4392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76720" y="515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asegurar la eficiencia en nue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¿cómo debemos desarrollar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estro personal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93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1872000" y="2816640"/>
            <a:ext cx="792000" cy="721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440 h 721080"/>
              <a:gd name="textAreaBottom" fmla="*/ 6177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2520360" y="3825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3241080" y="5049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7560360" y="3969000"/>
            <a:ext cx="792360" cy="720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6481080" y="274392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61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3640" y="54792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4537080" cy="439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4653000"/>
            <a:ext cx="5184720" cy="1224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nocimientos, Habilidad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ctitudes, Principios Eticos en 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645000"/>
            <a:ext cx="3816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apacidad de Proce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637000"/>
            <a:ext cx="3311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eneficios a 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701720"/>
            <a:ext cx="2808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8" idx="2"/>
            <a:endCxn id="209" idx="2"/>
          </p:cNvCxnSpPr>
          <p:nvPr/>
        </p:nvCxnSpPr>
        <p:spPr>
          <a:xfrm flipH="1" rot="10800000">
            <a:off x="591120" y="3967920"/>
            <a:ext cx="595800" cy="1297800"/>
          </a:xfrm>
          <a:prstGeom prst="curvedConnector5">
            <a:avLst>
              <a:gd name="adj1" fmla="val -35187"/>
              <a:gd name="adj2" fmla="val 50000"/>
              <a:gd name="adj3" fmla="val -3518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2"/>
            <a:endCxn id="210" idx="2"/>
          </p:cNvCxnSpPr>
          <p:nvPr/>
        </p:nvCxnSpPr>
        <p:spPr>
          <a:xfrm flipH="1" rot="10800000">
            <a:off x="1186920" y="2959920"/>
            <a:ext cx="216720" cy="1008720"/>
          </a:xfrm>
          <a:prstGeom prst="curvedConnector5">
            <a:avLst>
              <a:gd name="adj1" fmla="val -105823"/>
              <a:gd name="adj2" fmla="val 49982"/>
              <a:gd name="adj3" fmla="val -105823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2"/>
            <a:endCxn id="211" idx="2"/>
          </p:cNvCxnSpPr>
          <p:nvPr/>
        </p:nvCxnSpPr>
        <p:spPr>
          <a:xfrm flipH="1" rot="10800000">
            <a:off x="1401840" y="2025000"/>
            <a:ext cx="289440" cy="935640"/>
          </a:xfrm>
          <a:prstGeom prst="curvedConnector5">
            <a:avLst>
              <a:gd name="adj1" fmla="val -79202"/>
              <a:gd name="adj2" fmla="val 50000"/>
              <a:gd name="adj3" fmla="val -79202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5218200" y="1268280"/>
            <a:ext cx="3457440" cy="4394160"/>
          </a:xfrm>
          <a:prstGeom prst="upArrow">
            <a:avLst>
              <a:gd name="adj1" fmla="val 50000"/>
              <a:gd name="adj2" fmla="val 31773"/>
            </a:avLst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133720"/>
            <a:ext cx="1511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estrategias deb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denarse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a –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lograr los resultados dese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620640"/>
            <a:ext cx="2089080" cy="576360"/>
          </a:xfrm>
          <a:prstGeom prst="ellipse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836640"/>
            <a:ext cx="158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341360"/>
            <a:ext cx="57636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54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86080" y="549360"/>
            <a:ext cx="45133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2040" y="4359240"/>
            <a:ext cx="531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0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¿Qué camino debo seguir?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preguntó 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Según a donde quieras llegar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observó el Gato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Me es absolutamente igual un sitio que otro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...- dijo Al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Entonces también da lo mismo un camino que otro-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añadió el G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60360" y="619200"/>
            <a:ext cx="7272360" cy="28872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60360" y="90792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198756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276640"/>
            <a:ext cx="7272360" cy="863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335592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364500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0360" y="472428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01336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979560"/>
            <a:ext cx="201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torn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2920" y="2419200"/>
            <a:ext cx="1152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563920"/>
            <a:ext cx="1152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2563920"/>
            <a:ext cx="115272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tr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5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ace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r 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g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l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1212200">
            <a:off x="539640" y="4363560"/>
            <a:ext cx="503280" cy="100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1212200">
            <a:off x="539640" y="299556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1212200">
            <a:off x="539640" y="155592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1339920"/>
            <a:ext cx="3589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1339920"/>
            <a:ext cx="2887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562200" y="2233440"/>
          <a:ext cx="3538800" cy="908280"/>
        </p:xfrm>
        <a:graphic>
          <a:graphicData uri="http://schemas.openxmlformats.org/drawingml/2006/table">
            <a:tbl>
              <a:tblPr/>
              <a:tblGrid>
                <a:gridCol w="885960"/>
                <a:gridCol w="884160"/>
                <a:gridCol w="882720"/>
                <a:gridCol w="885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770200" y="836640"/>
          <a:ext cx="3960720" cy="907920"/>
        </p:xfrm>
        <a:graphic>
          <a:graphicData uri="http://schemas.openxmlformats.org/drawingml/2006/table">
            <a:tbl>
              <a:tblPr/>
              <a:tblGrid>
                <a:gridCol w="988920"/>
                <a:gridCol w="992160"/>
                <a:gridCol w="990720"/>
                <a:gridCol w="988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354560" y="4967280"/>
          <a:ext cx="4032360" cy="909720"/>
        </p:xfrm>
        <a:graphic>
          <a:graphicData uri="http://schemas.openxmlformats.org/drawingml/2006/table">
            <a:tbl>
              <a:tblPr/>
              <a:tblGrid>
                <a:gridCol w="1008000"/>
                <a:gridCol w="1009800"/>
                <a:gridCol w="1006200"/>
                <a:gridCol w="10083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11280" y="620640"/>
            <a:ext cx="633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93720"/>
            <a:ext cx="194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Qué objetivo financiero d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canz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646200"/>
            <a:ext cx="157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SPECTIVA  FINANC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59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0200" y="206064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lcanzar nuestro objetivos financieros ¿Qué necesidades del cliente debemos satisfac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1720" y="1990800"/>
            <a:ext cx="146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CLI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3357720"/>
            <a:ext cx="6121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778200" y="3573360"/>
          <a:ext cx="3889440" cy="90828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912960"/>
                <a:gridCol w="9158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786200" y="3359160"/>
            <a:ext cx="209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PROCESOS INTER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3429000"/>
            <a:ext cx="180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 y clientes ¿Cuáles procesos empresariales debemos mejo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9840" y="4724280"/>
            <a:ext cx="6121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9800" y="472752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APRENDIZAJE Y CREC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2920" y="483876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grar nuestras metas ¿Cómo debe aprender e innovar nuestra organiz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1" idx="3"/>
            <a:endCxn id="254" idx="3"/>
          </p:cNvCxnSpPr>
          <p:nvPr/>
        </p:nvCxnSpPr>
        <p:spPr>
          <a:xfrm>
            <a:off x="6946560" y="1196640"/>
            <a:ext cx="289440" cy="1369080"/>
          </a:xfrm>
          <a:prstGeom prst="curvedConnector5">
            <a:avLst>
              <a:gd name="adj1" fmla="val 178704"/>
              <a:gd name="adj2" fmla="val 50000"/>
              <a:gd name="adj3" fmla="val 178704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4" idx="3"/>
            <a:endCxn id="257" idx="3"/>
          </p:cNvCxnSpPr>
          <p:nvPr/>
        </p:nvCxnSpPr>
        <p:spPr>
          <a:xfrm>
            <a:off x="7235640" y="256500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1"/>
            <a:endCxn id="257" idx="1"/>
          </p:cNvCxnSpPr>
          <p:nvPr/>
        </p:nvCxnSpPr>
        <p:spPr>
          <a:xfrm rot="10800000">
            <a:off x="1761480" y="393300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1"/>
            <a:endCxn id="254" idx="1"/>
          </p:cNvCxnSpPr>
          <p:nvPr/>
        </p:nvCxnSpPr>
        <p:spPr>
          <a:xfrm rot="10800000">
            <a:off x="1258200" y="2564640"/>
            <a:ext cx="504000" cy="1369080"/>
          </a:xfrm>
          <a:prstGeom prst="curvedConnector5">
            <a:avLst>
              <a:gd name="adj1" fmla="val 145389"/>
              <a:gd name="adj2" fmla="val 50000"/>
              <a:gd name="adj3" fmla="val 145389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4" idx="1"/>
            <a:endCxn id="252" idx="1"/>
          </p:cNvCxnSpPr>
          <p:nvPr/>
        </p:nvCxnSpPr>
        <p:spPr>
          <a:xfrm rot="10800000">
            <a:off x="610560" y="119628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7" idx="3"/>
            <a:endCxn id="261" idx="3"/>
          </p:cNvCxnSpPr>
          <p:nvPr/>
        </p:nvCxnSpPr>
        <p:spPr>
          <a:xfrm>
            <a:off x="7883280" y="393336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324000" y="333360"/>
          <a:ext cx="8496000" cy="5910120"/>
        </p:xfrm>
        <a:graphic>
          <a:graphicData uri="http://schemas.openxmlformats.org/drawingml/2006/table">
            <a:tbl>
              <a:tblPr/>
              <a:tblGrid>
                <a:gridCol w="1971360"/>
                <a:gridCol w="1432080"/>
                <a:gridCol w="622440"/>
                <a:gridCol w="622080"/>
                <a:gridCol w="620640"/>
                <a:gridCol w="1627200"/>
                <a:gridCol w="1600200"/>
              </a:tblGrid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FINANCI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PROCESOS INTERN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 APRENDIZAJE Y 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92720" y="2637000"/>
            <a:ext cx="3598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Horas de capaci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propuestas de mej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cono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tecnolog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joramiento Clima Organiz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3598920" cy="43200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3600" y="836640"/>
            <a:ext cx="3311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lumen de 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gen de Contrib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dades brutas /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565360"/>
            <a:ext cx="33116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% de participación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entr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ce de satisfac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librio precio/benefic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200" y="2205000"/>
            <a:ext cx="33130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508640"/>
            <a:ext cx="36748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869000"/>
            <a:ext cx="36748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rol de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ut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cic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mplimiento de espec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ceso de distrib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7020360" y="83556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187280" y="98064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4508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4000" y="4580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476280"/>
            <a:ext cx="331164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l que no sabe dónde está, seguro que está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el que no sabe adónde va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eguro que llega a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quivocad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720" y="3762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rol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necesidad de u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s las empresas necesitan tener claro cual es su razón de ser en el mercado, a donde quiere llegar, cuando, cómo y con qué recursos humanos, económicos y materiales, sin embarg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¿ Cómo sabe la empresa si está avanzando en la implementación de la estrategia plant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¿ Cómo sabe la empresa si está logrando los objetivos estratégicos  plante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os del 10% de las estrategias bien formuladas son ejecutadas efec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ía de los casos (aproximadamente 70%), el problema real no es una mala estrategia sino una mala ejecu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ortune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820800"/>
            <a:ext cx="7200720" cy="368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MPRESAS CON Y SIN ALI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565360"/>
            <a:ext cx="3024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284640"/>
            <a:ext cx="136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211200"/>
            <a:ext cx="215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56000" y="27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00360" y="321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35280" y="3860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95640" y="393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71640" y="3933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987640" y="3860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56000" y="393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4581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4653000"/>
            <a:ext cx="14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4000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87280" y="46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347640" y="4581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2492280"/>
            <a:ext cx="3024000" cy="2737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56000" y="321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732720" y="3213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300360" y="328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5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8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167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73272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4149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435280" y="4365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72360" y="4508640"/>
            <a:ext cx="431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300720" y="4723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948360" y="458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019640" y="44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51664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NERGIA – PRODUCTIVIDAD - R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51664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ERSION DE ESFUERZOS Y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modelo de gestión que permite a las organizaciones alinear las estrategias hacia su visión y traducirlas en objetivos que dirijan las iniciativas  y actividades del personal, enfocándolo en la creación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e una metodología que traduce la Visión y la Estrategia de la organización en objetivos cuantificables y relacionados entre si, utilizando mecanismos de medición que proveen el marco para el segu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ar a conocer la estrategia de la empresa a todo su personal, señalándole las prioridades y las relaciones de causa- efecto entre la estrategia y las acciones que emprenda la organización, sinergizando las fuer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elimitar las responsabilidades del equipo directivo, expresándola en indicadores tanto colectivos como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628640"/>
            <a:ext cx="813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traduce la Estrategia en Objetivos Cuantific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de a través de Indicadores Claves de Desempeño y Metas claramente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one de un medio sencillo y práctico de seguimiento al cumpl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alida que las acciones estén orientadas al logro de objetivo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 en cuenta perspectiva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Dr. Robert Kaplan"/>
          <p:cNvPicPr/>
          <p:nvPr/>
        </p:nvPicPr>
        <p:blipFill>
          <a:blip r:embed="rId1"/>
          <a:stretch/>
        </p:blipFill>
        <p:spPr>
          <a:xfrm>
            <a:off x="1547640" y="1844640"/>
            <a:ext cx="2160720" cy="302436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pic>
        <p:nvPicPr>
          <p:cNvPr id="94" name="" descr="David P. Norton"/>
          <p:cNvPicPr/>
          <p:nvPr/>
        </p:nvPicPr>
        <p:blipFill>
          <a:blip r:embed="rId2"/>
          <a:stretch/>
        </p:blipFill>
        <p:spPr>
          <a:xfrm>
            <a:off x="5219640" y="1916280"/>
            <a:ext cx="2665440" cy="295272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826920" y="749160"/>
            <a:ext cx="741708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¿ QUIENES SON LOS CREADORES DEL BSC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5300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OBERT S.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525312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AVID P. NOR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van Alvarez</cp:lastModifiedBy>
  <dcterms:modified xsi:type="dcterms:W3CDTF">2007-11-12T00:10:16Z</dcterms:modified>
  <cp:revision>18</cp:revision>
  <dc:subject/>
  <dc:title>Diapositiva 1</dc:title>
</cp:coreProperties>
</file>