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36B91-176A-4959-92E6-F1F8D31BA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77BAC-2712-40D3-B42C-6A46F27F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91471-ACD7-4096-B7B5-05E7F5F5E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C7561-D451-448B-8819-692E6CFC0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8B413-C110-4FE7-994F-7A21BB42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7FD1A-DAB0-46E0-82B6-D15A1ABF0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FC0E1-1C4A-45E4-8382-26F63C664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AA7FA-F7A2-4758-95A6-5D267BD68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022F0-4D2D-44BB-B5AF-D7D8F572B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E6E3-C311-4518-A6AA-E61E092E8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02921-AC3F-40D8-9A3D-4B9882B01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7550-D6AA-4136-B63B-426068045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13C3-4039-4E28-B8B8-2A53B7F574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costos, ingres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es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es,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sentación</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Desarrollo y utilización de tácticas para implementar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Desarrollo y establecimiento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r>
              <a:rPr b="0" lang="es-ES" sz="2000" spc="-1" strike="noStrike">
                <a:solidFill>
                  <a:srgbClr val="000000"/>
                </a:solidFill>
                <a:latin typeface="Arial"/>
              </a:rPr>
              <a:t> </a:t>
            </a:r>
            <a:endParaRPr b="0" lang="en-US" sz="2000" spc="-1" strike="noStrike">
              <a:solidFill>
                <a:srgbClr val="000000"/>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84360" y="808200"/>
            <a:ext cx="784836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van Alvarez</cp:lastModifiedBy>
  <dcterms:modified xsi:type="dcterms:W3CDTF">2007-09-29T22:02:53Z</dcterms:modified>
  <cp:revision>13</cp:revision>
  <dc:subject/>
  <dc:title>Diapositiva 1</dc:title>
</cp:coreProperties>
</file>