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96380-1A16-424A-A829-D17DE4D9C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01E2B-1E50-4791-8A9C-B93B30F91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BC091-365F-402E-8472-DAB265A9F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3EDDA-C774-4EFA-A784-2C0047E5A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CFB70-F380-4674-A97F-9D9E689C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AE883-E4DF-44EE-96FA-5A381A746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1B9A9-37A2-4ED0-961F-CBE430A64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FB21-BEF6-43EC-83F4-DA5A44FFB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84F3D-3B53-4D00-8719-986A4CF6A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5DD4-20DB-4D7C-8145-90BE3A441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F7F26-DF43-4C9B-8CF0-BC5EA8CA7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8254-59D1-42B5-AA8F-9A9D4E74E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C693-D898-424A-9DE9-91EB991C0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costos, ingres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es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es,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sentación</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Desarrollo y utilización de tácticas para implementar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Desarrollo y establecimiento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4360" y="808200"/>
            <a:ext cx="784836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van Alvarez</cp:lastModifiedBy>
  <dcterms:modified xsi:type="dcterms:W3CDTF">2007-09-29T22:02:53Z</dcterms:modified>
  <cp:revision>13</cp:revision>
  <dc:subject/>
  <dc:title>Diapositiva 1</dc:title>
</cp:coreProperties>
</file>