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D51A6-82C6-4749-A0A0-90007E0FF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661C2-2323-407C-ADD2-5FB6CCF8E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9A30F-6F3F-4C32-858A-833AC0078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E87B5-F955-419D-9312-E45115140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78453-EB45-4753-BD7A-BC7B336A1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725CC-AEC1-4DEE-B001-E73BEFBA4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353A0-CC7A-4DC8-AC12-771FBB5E3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6532E-4A32-4D57-939A-A83CCB848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2DAC1-4E91-4BE0-BD8F-15B8EB039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77D70-A992-4180-8D8C-BC8C793D8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0D599-DFBC-4134-80CC-F3DF36372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60597-465E-46E5-9BBD-E40B97B4C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D6B18-9273-4BF5-8A9F-D1F1B7AF53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Gerencia Estratégica de Costos</a:t>
            </a:r>
            <a:br>
              <a:rPr sz="4000"/>
            </a:br>
            <a:r>
              <a:rPr b="0" lang="es-ES_tradnl" sz="4000" spc="-1" strike="noStrike">
                <a:solidFill>
                  <a:srgbClr val="000000"/>
                </a:solidFill>
                <a:latin typeface="Arial"/>
              </a:rPr>
              <a:t>El enfoque de proceso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adena de valor</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adena de valor en cualquier empresa de cualquier área, es el conjunto interrelacionado de actividades creadoras de valor, que se extienden por todos los procesos, que van desde la búsqueda de proveedores de materias primas, hasta que el producto terminado que se entrega al consumido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enfoque externo a la empr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 a la empresa en el contexto de la totalidad de la cadena de actividades creadoras de valor de la cual la empresa es sólo una par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dena de valor</a:t>
            </a: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tabilidad Gerencial suele adoptar un enfoque ampliamente dirigido a los factores internos de la empresa: compras, procesos,  funciones, productos y client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cho de otra manera, la contabilidad gerencial asume una perspectiva de valor agregado, que comienza con los pagos hechos a los proveedores (compras) y termina con los costos pagados por el consumidor (vent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sunto clave es maximizar la diferencia (valor agregado) entre compras y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dena de valor</a:t>
            </a: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cepto de cadena de valor es fundamentalmente diferente del concepto de valor agrega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de el punto de vista estratégico, el concepto de valor agregado tiene dos problemas: comienza demasiado tarde y termina demasiado pront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El hecho de iniciar el análisis de costos con las compras y terminar con la venta, hace perder todas las oportunidades de aprovechar los lazos existentes con los proveedores y clientes de la empres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todología de la cadena de valor</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metodología para construir y utilizar la cadena de valor considera</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siguientes paso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r la cadena de valor de la industria y asignarles costos, ingresos y activos a las actividades de val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agnosticar las causas de costo que regulan cada actividad de val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a:t>
            </a:r>
            <a:r>
              <a:rPr b="0" lang="es-ES_tradnl" sz="2000" spc="-1" strike="noStrike">
                <a:solidFill>
                  <a:srgbClr val="000000"/>
                </a:solidFill>
                <a:latin typeface="Arial"/>
              </a:rPr>
              <a:t>	</a:t>
            </a:r>
            <a:r>
              <a:rPr b="0" lang="es-ES_tradnl" sz="2000" spc="-1" strike="noStrike">
                <a:solidFill>
                  <a:srgbClr val="000000"/>
                </a:solidFill>
                <a:latin typeface="Arial"/>
              </a:rPr>
              <a:t>Desarrollar una ventaja competitiva sostenible, ya sea controlando las causa de costo mejor que los competidores, o bien reconfigurando la cadena de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ventaja competitiva no puede ser examinada en toda su significación en el ámbito de la industria como un to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adena de valores descompone la industria en sus diferentes actividades estratégic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consiguiente, el punto de partida para el análisis de costo es definir una cadena de valor para la industria y asignarles costos, ingresos y activos a las actividades de valo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s actividades son los bloques de construcción, mediante los cuales las firmas en la industria crean un producto de valor para los comprad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s actividades deberán aislarse y separarse 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presentan un porcentaje importante de los costos operativo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mportamiento de costo de las actividades (o las causas de costo) son diferente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jecutan en forma diferente a los competidore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enen un alto potencial para crear diferenci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da actividad de valor incurre en costos, genera ingresos y está ligada a activos en el proces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uego de identificar la cadena de valores, se les deben asignar costos de operación, ingresos y activos a las actividades de valor, individualment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las actividades de valor intermedias, los ingresos se asignarán ajustando los precios internos de transferencia a precios competitivos del merca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esta información será posible calcular el rendimiento sobre activos para cada actividad de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2: Diagnosticar las causales de costo</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aso siguiente es identificar las causas de costo que expliquen su comportamiento (variaciones) en cada actividad de val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contabilidad gerencial tradicional, el costo es considerado una función, principalmente del volumen de produc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los conceptos de costo relativos al volumen producido dominan la literatura de la gerencia tradicional de costos, en el marco de la cadena de valores el volumen de producción, como tal, parece captar muy poco de la riqueza del comportamiento de cos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realidad es que operan múltiples causales del costo, las que difieren a través de las actividades de val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 del Costo</a:t>
            </a:r>
            <a:endParaRPr b="0" lang="en-US" sz="28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literatura gerencial estratégica existen sugerencias respecto de las causas de costo (Riley) las que se dividen en dos categorí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a:t>
            </a:r>
            <a:r>
              <a:rPr b="0" lang="es-ES_tradnl" sz="2000" spc="-1" strike="noStrike">
                <a:solidFill>
                  <a:srgbClr val="000000"/>
                </a:solidFill>
                <a:latin typeface="Arial"/>
              </a:rPr>
              <a:t>	</a:t>
            </a:r>
            <a:r>
              <a:rPr b="0" lang="es-ES_tradnl" sz="2000" spc="-1" strike="noStrike">
                <a:solidFill>
                  <a:srgbClr val="000000"/>
                </a:solidFill>
                <a:latin typeface="Arial"/>
              </a:rPr>
              <a:t>Causales de costo estructur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a:t>
            </a:r>
            <a:r>
              <a:rPr b="0" lang="es-ES_tradnl" sz="2000" spc="-1" strike="noStrike">
                <a:solidFill>
                  <a:srgbClr val="000000"/>
                </a:solidFill>
                <a:latin typeface="Arial"/>
              </a:rPr>
              <a:t>	</a:t>
            </a:r>
            <a:r>
              <a:rPr b="0" lang="es-ES_tradnl" sz="2000" spc="-1" strike="noStrike">
                <a:solidFill>
                  <a:srgbClr val="000000"/>
                </a:solidFill>
                <a:latin typeface="Arial"/>
              </a:rPr>
              <a:t>Causales de costo ejecucion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 del Costo</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ualquiera que sea la lista de causas de costo, las ideas claves son:</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nálisis de la cadena de valor es el marco más amplio; el concepto de causal de costos es una manera de entender el comportamiento del costo en cada actividad de la cadena de valor.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este modo, las ideas tales como el costeo ABC, es sólo un subconjunto del marco de la cadena de valo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l análisis estratégico, el volumen es una forma poca interesante de explicar el comportamiento del costo.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 que es más útil en un sentido estratégico, es explicar </a:t>
            </a:r>
            <a:r>
              <a:rPr b="0" lang="es-ES_tradnl" sz="2000" spc="-1" strike="noStrike">
                <a:solidFill>
                  <a:srgbClr val="000000"/>
                </a:solidFill>
                <a:latin typeface="Arial"/>
              </a:rPr>
              <a:t>el costo en función de las elecciones estructurales y de las habilidades de ejecución que integran la posición competitiva de la empres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sentación</a:t>
            </a:r>
            <a:endParaRPr b="0" lang="en-US" sz="2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dicionalmente, se considera el análisis de costos como el proceso para estimar el impacto financiero que pueden ejercer decisiones alternativas gerenciale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nuevo enfoque es el que se ha denominado “Gerencia Estratégica de Costos”, (GEC).</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Ésta es similar a un análisis de costos, pero dentro de un contexto más amplio, en el que los elementos estratégicos aparecen en forma más explícita, formal y conscient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los datos de costos se utilizan para desarrollar estrategias superiores, con objeto de alcanzar ventajas competitivas que se puedan manten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entación</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aradigma de fondo es que un conocimiento profundo de la estructura de costos de una empresa, puede ser de gran ayuda en la búsqueda de ventajas competitivas sostenible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Gestión Estratégica de los negocios</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000" spc="-1" strike="noStrike">
                <a:solidFill>
                  <a:srgbClr val="000000"/>
                </a:solidFill>
                <a:latin typeface="Arial"/>
              </a:rPr>
              <a:t>Se puede concebir como un proceso cíclico continu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Formulación de estrategi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Comunicación de estas estrategias a toda la organiz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Desarrollo y utilización de tácticas para implementar las estrateg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Desarrollo y establecimiento de controles para medir del grado de éxito en alcanzar los objetivos estratégico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información contable sirve en cada una de las cuatro etapas de este cic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y la gestión estrategia</a:t>
            </a: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ormulación de estrategias</a:t>
            </a:r>
            <a:r>
              <a:rPr b="0" lang="es-ES_tradnl" sz="2000" spc="-1" strike="noStrike">
                <a:solidFill>
                  <a:srgbClr val="000000"/>
                </a:solidFill>
                <a:latin typeface="Arial"/>
              </a:rPr>
              <a:t>: la información contable es la base para realizar el análisis financiero, el cual constituye un elemento del proceso de evaluación de estrategias alternativas.</a:t>
            </a:r>
            <a:r>
              <a:rPr b="0" lang="es-ES" sz="2000" spc="-1" strike="noStrike">
                <a:solidFill>
                  <a:srgbClr val="000000"/>
                </a:solidFill>
                <a:latin typeface="Arial"/>
              </a:rPr>
              <a:t> </a:t>
            </a:r>
            <a:endParaRPr b="0" lang="en-US" sz="2000" spc="-1" strike="noStrike">
              <a:solidFill>
                <a:srgbClr val="000000"/>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unicación</a:t>
            </a:r>
            <a:r>
              <a:rPr b="0" lang="es-ES_tradnl" sz="2000" spc="-1" strike="noStrike">
                <a:solidFill>
                  <a:srgbClr val="000000"/>
                </a:solidFill>
                <a:latin typeface="Arial"/>
              </a:rPr>
              <a:t>: los informes contables constituyen una de las formas importantes a través de las cuales la estrategia se comunica a toda la organización.</a:t>
            </a:r>
            <a:r>
              <a:rPr b="0" lang="es-ES" sz="2000" spc="-1" strike="noStrike">
                <a:solidFill>
                  <a:srgbClr val="000000"/>
                </a:solidFill>
                <a:latin typeface="Arial"/>
              </a:rPr>
              <a:t> </a:t>
            </a:r>
            <a:endParaRPr b="0" lang="en-US" sz="2000" spc="-1" strike="noStrike">
              <a:solidFill>
                <a:srgbClr val="000000"/>
              </a:solidFill>
              <a:latin typeface="Arial"/>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mplementación:</a:t>
            </a:r>
            <a:r>
              <a:rPr b="0" lang="es-ES_tradnl" sz="2000" spc="-1" strike="noStrike">
                <a:solidFill>
                  <a:srgbClr val="000000"/>
                </a:solidFill>
                <a:latin typeface="Arial"/>
              </a:rPr>
              <a:t> se deben desarrollar tácticas específicas que apoyen a la estrategia en su conjunto, y que se implementen hasta el final.</a:t>
            </a:r>
            <a:r>
              <a:rPr b="0" lang="es-ES" sz="2000" spc="-1" strike="noStrike">
                <a:solidFill>
                  <a:srgbClr val="000000"/>
                </a:solidFill>
                <a:latin typeface="Arial"/>
              </a:rPr>
              <a:t> </a:t>
            </a:r>
            <a:r>
              <a:rPr b="0" lang="es-ES_tradnl" sz="2000" spc="-1" strike="noStrike">
                <a:solidFill>
                  <a:srgbClr val="000000"/>
                </a:solidFill>
                <a:latin typeface="Arial"/>
              </a:rPr>
              <a:t>Una base importante es la información contable.</a:t>
            </a:r>
            <a:r>
              <a:rPr b="0" lang="es-ES" sz="2000" spc="-1" strike="noStrike">
                <a:solidFill>
                  <a:srgbClr val="000000"/>
                </a:solidFill>
                <a:latin typeface="Arial"/>
              </a:rPr>
              <a:t> </a:t>
            </a:r>
            <a:endParaRPr b="0" lang="en-US" sz="2000" spc="-1" strike="noStrike">
              <a:solidFill>
                <a:srgbClr val="000000"/>
              </a:solidFill>
              <a:latin typeface="Arial"/>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ol:</a:t>
            </a:r>
            <a:r>
              <a:rPr b="0" lang="es-ES" sz="2000" spc="-1" strike="noStrike">
                <a:solidFill>
                  <a:srgbClr val="000000"/>
                </a:solidFill>
                <a:latin typeface="Arial"/>
              </a:rPr>
              <a:t> la supervisión del desempeño de los gerentes o de las diferentes unidades del negocio habitualmente depende, en parte, de la información contable. </a:t>
            </a:r>
            <a:endParaRPr b="0" lang="en-US" sz="2000" spc="-1" strike="noStrike">
              <a:solidFill>
                <a:srgbClr val="000000"/>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flexiones Generales sobre la Contabilidad</a:t>
            </a: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tabilidad no es un objetivo en sí mismo; es un medio para ayudar a alcanzar el éxito empresarial.  Por tanto, no se puede afirmar que existan buenas o malas prácticas contables como t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técnicas o los sistemas contables deben ser evaluados en función del papel que se espera que cumplan y de los resultados obtenid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flexiones Generales sobre la Contabilidad</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rve la técnica o sistema contable para lograr un objetivo de negocios claramente distinguible?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ejemplo, para facilitar la formulación de estrategias, para evaluar el desempeño gerencial, etc.</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 éste las posibilidades de alcanzar el objetivo para el cual se seleccionó?</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a:t>
            </a:r>
            <a:r>
              <a:rPr b="0" lang="es-ES_tradnl" sz="2000" spc="-1" strike="noStrike">
                <a:solidFill>
                  <a:srgbClr val="000000"/>
                </a:solidFill>
                <a:latin typeface="Arial"/>
              </a:rPr>
              <a:t>	</a:t>
            </a:r>
            <a:r>
              <a:rPr b="0" lang="es-ES_tradnl" sz="2000" spc="-1" strike="noStrike">
                <a:solidFill>
                  <a:srgbClr val="000000"/>
                </a:solidFill>
                <a:latin typeface="Arial"/>
              </a:rPr>
              <a:t>¿El objetivo que el concepto contable ayuda a lograr, encaja estratégicamente con la finalidad global de la empre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rencia Estratégica de Costos</a:t>
            </a:r>
            <a:endParaRPr b="0" lang="en-US" sz="2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rencia estratégica de costos (GEC) consiste en la utilización que la gerencia hace de la información de costos en una o más de las cuatro etapas de la Gerencia Estratégic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C plantea que para una administración eficiente de costos se requiere un enfoque global externo a la firm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enfoque fue aportado por M. Porter (1985) y se denominó la </a:t>
            </a:r>
            <a:r>
              <a:rPr b="0" lang="es-ES_tradnl" sz="2000" spc="-1" strike="noStrike">
                <a:solidFill>
                  <a:srgbClr val="333399"/>
                </a:solidFill>
                <a:latin typeface="Arial"/>
              </a:rPr>
              <a:t>Cadena de Valor</a:t>
            </a:r>
            <a:r>
              <a:rPr b="0" lang="es-ES_tradnl"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84360" y="808200"/>
            <a:ext cx="7848360" cy="528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8:55:52Z</dcterms:created>
  <dc:creator>Ivan Alvarez</dc:creator>
  <dc:description/>
  <dc:language>en-US</dc:language>
  <cp:lastModifiedBy>Ivan Alvarez</cp:lastModifiedBy>
  <dcterms:modified xsi:type="dcterms:W3CDTF">2007-09-29T22:02:53Z</dcterms:modified>
  <cp:revision>13</cp:revision>
  <dc:subject/>
  <dc:title>Diapositiva 1</dc:title>
</cp:coreProperties>
</file>