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9DBBC-CF14-4482-832A-4A2A20AC8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2613A-779A-4B71-AC4F-46E59A07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C898B-247D-4ACC-B291-98ED0CF5C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DC750-C3EB-426B-B145-31ED8739B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F202-5C1A-4206-910A-472D02B47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1FF8D-3130-4464-BBEC-18865DCE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5895-2342-4273-8AF1-F9A588D9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BA9D-BB43-4795-B2D6-128EC1E7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4F38-22F5-4C0E-979E-D70E3D6FD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11DB-70D6-401A-8175-61E275460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936C-779E-43E1-8890-0A5A143B2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0665-16E5-4CE2-9E5B-B7B309EB7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89B8-29F4-418E-BF5D-C557E0EA6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costos, ingres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es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es,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entación</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arrollo y utilización de tácticas para implementar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Desarrollo y establecimiento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4360" y="808200"/>
            <a:ext cx="784836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van Alvarez</cp:lastModifiedBy>
  <dcterms:modified xsi:type="dcterms:W3CDTF">2007-09-29T22:02:53Z</dcterms:modified>
  <cp:revision>13</cp:revision>
  <dc:subject/>
  <dc:title>Diapositiva 1</dc:title>
</cp:coreProperties>
</file>