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6EBA8-B732-4AEE-979D-708DACD07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FE615-5106-4AF1-8667-4A4BD811B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95648-4192-4DE5-8BD2-FD6F6F1AB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447A6-1C25-4D14-A850-871E8BB75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4188B-77BE-413E-B087-C3B63574F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0622A-45DB-49BF-A07E-F582266AD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B8472-E302-4CC5-8223-1FDE957FE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E3703-7863-43F6-8ED5-B7D11938A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03A62-CBEC-438A-A366-4532F8CBC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43816-D45E-41BD-A870-C2148BD3E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95944-6536-4124-A7C9-2FBDE2736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7262A-74D1-4243-AB8E-7E254DEB2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F805-7A1A-48B2-AAAF-45C6C73BAB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a:t>
            </a:r>
            <a:r>
              <a:rPr b="0" lang="es-MX" sz="2000" spc="-1" strike="noStrike">
                <a:solidFill>
                  <a:srgbClr val="000000"/>
                </a:solidFill>
                <a:latin typeface="Arial"/>
              </a:rPr>
              <a:t> de la empresa se incremente se incremente</a:t>
            </a:r>
            <a:r>
              <a:rPr b="0" lang="es-MX" sz="2000" spc="-1" strike="noStrike">
                <a:solidFill>
                  <a:srgbClr val="000000"/>
                </a:solidFill>
                <a:latin typeface="Arial"/>
              </a:rPr>
              <a:t>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cp:lastModifiedBy>
  <dcterms:modified xsi:type="dcterms:W3CDTF">2007-09-29T21:35:03Z</dcterms:modified>
  <cp:revision>9</cp:revision>
  <dc:subject/>
  <dc:title>Diapositiva 1</dc:title>
</cp:coreProperties>
</file>