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D0B0C3-BD6A-465C-B1C8-635CA908D7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606B0-BAC7-4311-B8C5-49D108638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C1B8E7-2D27-46AF-AC76-83344483BE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B74C27-731A-49EA-A498-D27F150BB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492EC-76CC-41BE-AEA9-0D2C5F3AC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BFE74-C294-49F4-88E5-1B425D292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0FADE-C447-40E8-B6BB-98C701F84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2A7C3-0055-4BCF-B4E9-8E4EB35CB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803D8-DD40-4A17-ADD9-A6B887F39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0D03C-1BB7-406A-A313-B8D341F12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522A8-9D20-4A21-A378-F97F0D02F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BFF39-EBB7-49FE-BCA9-FB7CCB93BC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5A01F-18D7-4846-8347-C644C322FA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ecios de Transferenc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os de Transferencia basados en costos</a:t>
            </a:r>
            <a:endParaRPr b="0" lang="en-US" sz="28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ocasiones, los precios en el mercado no están disponibles, son inapropiados o demasiado altos para fijarlos como precios de transferenci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roducto puede ser especializado o singular, las listas de precios pueden no estar disponibles fácilmente o el producto interno puede ser diferente de productos disponibles externamente en términos</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 sz="2000" spc="-1" strike="noStrike">
                <a:solidFill>
                  <a:srgbClr val="000000"/>
                </a:solidFill>
                <a:latin typeface="Arial"/>
              </a:rPr>
              <a:t>de calidad y servici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stos casos, muchas organizaciones utilizan mediciones basadas en costos como precios de transferenci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33520" y="1447920"/>
            <a:ext cx="8092800" cy="46677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n este enfoque es posible utilizar una variedad de conceptos de costo. </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Por ejemplo, el costo se puede referir al:</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sto total unitario del producto: los materiales directos, la mano de obra directa y los gastos indirectos están incluidos en el precio de transferencia</a:t>
            </a:r>
            <a:endParaRPr b="0" lang="en-US" sz="20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sto variable unitario del producto: los gastos indirectos, se excluyen del precio de transferencia.</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Al utilizar los costos reales, se corre con el riesgo de transferir las ineficiencias de la división productora a la división compradora.</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
          <p:cNvSpPr/>
          <p:nvPr/>
        </p:nvSpPr>
        <p:spPr>
          <a:xfrm>
            <a:off x="395280" y="549360"/>
            <a:ext cx="46075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 sz="2800" spc="-1" strike="noStrike">
                <a:solidFill>
                  <a:srgbClr val="000000"/>
                </a:solidFill>
                <a:latin typeface="Arial"/>
              </a:rPr>
              <a:t>Precios de Transferencia basados en costo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aciones sobre Impuestos </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directivos siempre deben tomar en cuenta los aspectos  tributarios que se derivan de los métodos de transferencia alternativ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impuestos incluye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Valor agregad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Impuestos relacionados con el ambien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 Otros gravámenes gubernamental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os prácticos sobre</a:t>
            </a:r>
            <a:br>
              <a:rPr sz="4000"/>
            </a:br>
            <a:r>
              <a:rPr b="0" lang="en-US" sz="4000" spc="-1" strike="noStrike">
                <a:solidFill>
                  <a:srgbClr val="000000"/>
                </a:solidFill>
                <a:latin typeface="Arial"/>
              </a:rPr>
              <a:t>Precios de Transferencia</a:t>
            </a:r>
            <a:endParaRPr b="0" lang="en-US" sz="4000" spc="-1" strike="noStrike">
              <a:solidFill>
                <a:srgbClr val="000000"/>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mplo 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10760" y="333360"/>
            <a:ext cx="4502880" cy="115956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VISIÓN DE PRODUC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Variables por Barril de Petróleo Crudo = US$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Fijos por Barril de Petróleo Crudo = US$ 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Totales por Barril de Petróleo Crudo = US$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
          <p:cNvSpPr/>
          <p:nvPr/>
        </p:nvSpPr>
        <p:spPr>
          <a:xfrm>
            <a:off x="6540840" y="260280"/>
            <a:ext cx="1867680" cy="158580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rcado Externo</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cio en el merc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barril de petróle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rudo vendido 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rceras person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US$ 1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
          <p:cNvSpPr/>
          <p:nvPr/>
        </p:nvSpPr>
        <p:spPr>
          <a:xfrm>
            <a:off x="410760" y="2133720"/>
            <a:ext cx="4502880" cy="115956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VISIÓN DE TRANSPOR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Variables por Barril de Petróleo Crudo = US$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Fijos por Barril de Petróleo Crudo = US$ 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Totales por Barril de Petróleo Crudo = US$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
          <p:cNvSpPr/>
          <p:nvPr/>
        </p:nvSpPr>
        <p:spPr>
          <a:xfrm>
            <a:off x="6540840" y="2205000"/>
            <a:ext cx="1867680" cy="137268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rcado Externo</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cio en el merc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barril de gasoli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endido a tercer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rsonas = US$ 5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
          <p:cNvSpPr/>
          <p:nvPr/>
        </p:nvSpPr>
        <p:spPr>
          <a:xfrm>
            <a:off x="417600" y="4076640"/>
            <a:ext cx="1909080" cy="179892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rcado Externo</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cio en el merc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barril de petróle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rudo entregado p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oveedores extern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la refinería 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ouston = US$ 1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
          <p:cNvSpPr/>
          <p:nvPr/>
        </p:nvSpPr>
        <p:spPr>
          <a:xfrm>
            <a:off x="3780000" y="4437000"/>
            <a:ext cx="4786200" cy="11595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VISIÓN DE REFINA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Variables por Barril de Gasolina = US$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Fijos por Barril de Gasolina = US$ 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Totales por Barril de Gasolina = US$1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
          <p:cNvSpPr/>
          <p:nvPr/>
        </p:nvSpPr>
        <p:spPr>
          <a:xfrm>
            <a:off x="5003640" y="1125360"/>
            <a:ext cx="1440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484360" y="1628640"/>
            <a:ext cx="0" cy="43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356000" y="3429000"/>
            <a:ext cx="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V="1">
            <a:off x="7524720" y="3716280"/>
            <a:ext cx="0" cy="649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411280" y="5013360"/>
            <a:ext cx="1297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 name=""/>
          <p:cNvGraphicFramePr/>
          <p:nvPr/>
        </p:nvGraphicFramePr>
        <p:xfrm>
          <a:off x="1523880" y="1828800"/>
          <a:ext cx="6083280" cy="4059360"/>
        </p:xfrm>
        <a:graphic>
          <a:graphicData uri="http://schemas.openxmlformats.org/presentationml/2006/ole">
            <p:oleObj r:id="rId1" spid="">
              <p:embed/>
              <p:pic>
                <p:nvPicPr>
                  <p:cNvPr id="85" name="" descr=""/>
                  <p:cNvPicPr/>
                  <p:nvPr/>
                </p:nvPicPr>
                <p:blipFill>
                  <a:blip r:embed="rId2"/>
                  <a:stretch/>
                </p:blipFill>
                <p:spPr>
                  <a:xfrm>
                    <a:off x="1523880" y="1828800"/>
                    <a:ext cx="6083280" cy="4059360"/>
                  </a:xfrm>
                  <a:prstGeom prst="rect">
                    <a:avLst/>
                  </a:prstGeom>
                  <a:ln w="0">
                    <a:noFill/>
                  </a:ln>
                </p:spPr>
              </p:pic>
            </p:oleObj>
          </a:graphicData>
        </a:graphic>
      </p:graphicFrame>
      <p:pic>
        <p:nvPicPr>
          <p:cNvPr id="86" name="" descr=""/>
          <p:cNvPicPr/>
          <p:nvPr/>
        </p:nvPicPr>
        <p:blipFill>
          <a:blip r:embed="rId3"/>
          <a:stretch/>
        </p:blipFill>
        <p:spPr>
          <a:xfrm>
            <a:off x="971640" y="260280"/>
            <a:ext cx="7129440" cy="2952720"/>
          </a:xfrm>
          <a:prstGeom prst="rect">
            <a:avLst/>
          </a:prstGeom>
          <a:ln w="0">
            <a:noFill/>
          </a:ln>
        </p:spPr>
      </p:pic>
      <p:pic>
        <p:nvPicPr>
          <p:cNvPr id="87" name="" descr=""/>
          <p:cNvPicPr/>
          <p:nvPr/>
        </p:nvPicPr>
        <p:blipFill>
          <a:blip r:embed="rId4"/>
          <a:stretch/>
        </p:blipFill>
        <p:spPr>
          <a:xfrm>
            <a:off x="971640" y="3429000"/>
            <a:ext cx="7129440" cy="324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042920" y="549360"/>
            <a:ext cx="6913800" cy="3095640"/>
          </a:xfrm>
          <a:prstGeom prst="rect">
            <a:avLst/>
          </a:prstGeom>
          <a:ln w="0">
            <a:noFill/>
          </a:ln>
        </p:spPr>
      </p:pic>
      <p:pic>
        <p:nvPicPr>
          <p:cNvPr id="89" name="" descr=""/>
          <p:cNvPicPr/>
          <p:nvPr/>
        </p:nvPicPr>
        <p:blipFill>
          <a:blip r:embed="rId2"/>
          <a:stretch/>
        </p:blipFill>
        <p:spPr>
          <a:xfrm>
            <a:off x="1042920" y="4221000"/>
            <a:ext cx="6769080" cy="2087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mplo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457200" y="533520"/>
            <a:ext cx="8153280" cy="563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593640" y="1488960"/>
            <a:ext cx="8169480" cy="43628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nforme se expanden las compañías y crean operaciones descentralizadas a través de las fronteras nacionales, se añaden nuevas dimensiones y complicaciones al problema de los precio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os precios de transferencia corresponden la fijación de precios de los bienes y servicios intercambiados en transacciones de compra </a:t>
            </a:r>
            <a:r>
              <a:rPr b="0" lang="es-MX" sz="2000" spc="-1" strike="noStrike">
                <a:solidFill>
                  <a:srgbClr val="333399"/>
                </a:solidFill>
                <a:latin typeface="Arial"/>
              </a:rPr>
              <a:t>ínter corporativas</a:t>
            </a:r>
            <a:r>
              <a:rPr b="0" lang="es-MX" sz="2000" spc="-1" strike="noStrike">
                <a:solidFill>
                  <a:srgbClr val="333399"/>
                </a:solidFill>
                <a:latin typeface="Arial"/>
              </a:rPr>
              <a:t>.</a:t>
            </a:r>
            <a:r>
              <a:rPr b="0" lang="es-MX"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ES" sz="2000" spc="-1" strike="noStrike">
                <a:solidFill>
                  <a:srgbClr val="000000"/>
                </a:solidFill>
                <a:latin typeface="Arial"/>
              </a:rPr>
              <a:t>Un precio de transferencia es el precio que una sub unidad (segmento, departamento, división, etc.) de una organización cobra por un bien o servicio suministrado a otra sub unidad de la misma organizació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1026360" y="444600"/>
            <a:ext cx="655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é son los Precios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457200" y="457200"/>
            <a:ext cx="8153280" cy="571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09480" y="1371600"/>
            <a:ext cx="8093160" cy="25333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Debido a que este precio afecta las metas de ambas sub unidades, su determinación es un punto sensible para los gerente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os precios de transferencia  se deben de determinar de tal manera que la utilidad total</a:t>
            </a:r>
            <a:r>
              <a:rPr b="0" lang="es-MX" sz="2000" spc="-1" strike="noStrike">
                <a:solidFill>
                  <a:srgbClr val="000000"/>
                </a:solidFill>
                <a:latin typeface="Arial"/>
              </a:rPr>
              <a:t> de la empresa se incremente se incremente</a:t>
            </a:r>
            <a:r>
              <a:rPr b="0" lang="es-MX" sz="2000" spc="-1" strike="noStrike">
                <a:solidFill>
                  <a:srgbClr val="000000"/>
                </a:solidFill>
                <a:latin typeface="Arial"/>
              </a:rPr>
              <a:t> cuando los productos se transfieren entre las sub unidade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
          <p:cNvSpPr/>
          <p:nvPr/>
        </p:nvSpPr>
        <p:spPr>
          <a:xfrm>
            <a:off x="1098000" y="299880"/>
            <a:ext cx="655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é son los Precios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5280" y="401760"/>
            <a:ext cx="7921800" cy="8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 del Precio de Transferencia</a:t>
            </a:r>
            <a:endParaRPr b="0" lang="en-US" sz="2800" spc="-1" strike="noStrike">
              <a:solidFill>
                <a:srgbClr val="000000"/>
              </a:solidFill>
              <a:latin typeface="Arial"/>
            </a:endParaRPr>
          </a:p>
        </p:txBody>
      </p:sp>
      <p:sp>
        <p:nvSpPr>
          <p:cNvPr id="47" name="PlaceHolder 2"/>
          <p:cNvSpPr>
            <a:spLocks noGrp="1"/>
          </p:cNvSpPr>
          <p:nvPr>
            <p:ph/>
          </p:nvPr>
        </p:nvSpPr>
        <p:spPr>
          <a:xfrm>
            <a:off x="468360" y="1447920"/>
            <a:ext cx="8207280" cy="4876560"/>
          </a:xfrm>
          <a:prstGeom prst="rect">
            <a:avLst/>
          </a:prstGeom>
          <a:noFill/>
          <a:ln w="0">
            <a:noFill/>
          </a:ln>
        </p:spPr>
        <p:txBody>
          <a:bodyPr lIns="90000" rIns="90000" tIns="46800" bIns="46800" anchor="t">
            <a:normAutofit fontScale="97000"/>
          </a:bodyPr>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precio de transferencia debe conducir a una unidad de negocios a</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mar decisiones que beneficien al consorcio u organización como un</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do, observando los siguientes objetivos:</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ngruencia organizacional</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unidades de negocio deben actuar de tal forma que sus decisiones</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eneficien a todo el negocio.</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valuación del desempeño</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unidades deberían ser evaluadas en base al beneficio de toda la</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rganización, considerando que una unidad no se beneficia con el</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terioro de otra.</a:t>
            </a:r>
            <a:endParaRPr b="0" lang="en-US" sz="2000" spc="-1" strike="noStrike">
              <a:solidFill>
                <a:srgbClr val="000000"/>
              </a:solidFill>
              <a:latin typeface="Arial"/>
            </a:endParaRPr>
          </a:p>
          <a:p>
            <a:pPr lvl="1" marL="7207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utonomía</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administración central no debe interferir en la toma de decisiones</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las unidades.</a:t>
            </a:r>
            <a:endParaRPr b="0" lang="en-US" sz="2000" spc="-1" strike="noStrike">
              <a:solidFill>
                <a:srgbClr val="000000"/>
              </a:solidFill>
              <a:latin typeface="Arial"/>
            </a:endParaRPr>
          </a:p>
          <a:p>
            <a:pPr marL="332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0720" indent="0">
              <a:lnSpc>
                <a:spcPct val="1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68360" y="1557360"/>
            <a:ext cx="8169120" cy="1679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Arial"/>
              </a:rPr>
              <a:t> </a:t>
            </a:r>
            <a:r>
              <a:rPr b="0" lang="es-MX" sz="2000" spc="-1" strike="noStrike">
                <a:solidFill>
                  <a:srgbClr val="000000"/>
                </a:solidFill>
                <a:latin typeface="Arial"/>
              </a:rPr>
              <a:t>Minimizar impuestos, cuotas y arancele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valuar el desempeño de la unidad.</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Tomar mejores decisiones.</a:t>
            </a:r>
            <a:endParaRPr b="0" lang="en-US" sz="2000" spc="-1" strike="noStrike">
              <a:solidFill>
                <a:srgbClr val="000000"/>
              </a:solidFill>
              <a:latin typeface="Arial"/>
            </a:endParaRPr>
          </a:p>
        </p:txBody>
      </p:sp>
      <p:sp>
        <p:nvSpPr>
          <p:cNvPr id="49" name=""/>
          <p:cNvSpPr/>
          <p:nvPr/>
        </p:nvSpPr>
        <p:spPr>
          <a:xfrm>
            <a:off x="1042920" y="4762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0" name=""/>
          <p:cNvSpPr/>
          <p:nvPr/>
        </p:nvSpPr>
        <p:spPr>
          <a:xfrm>
            <a:off x="686880" y="404640"/>
            <a:ext cx="594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 del Precio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114280" y="3716280"/>
            <a:ext cx="461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Enfoque de Precio Negociado</a:t>
            </a:r>
            <a:endParaRPr b="0" lang="en-US" sz="2400" spc="-1" strike="noStrike">
              <a:solidFill>
                <a:srgbClr val="000000"/>
              </a:solidFill>
              <a:latin typeface="Arial"/>
            </a:endParaRPr>
          </a:p>
        </p:txBody>
      </p:sp>
      <p:sp>
        <p:nvSpPr>
          <p:cNvPr id="52" name=""/>
          <p:cNvSpPr/>
          <p:nvPr/>
        </p:nvSpPr>
        <p:spPr>
          <a:xfrm>
            <a:off x="1116000" y="3357720"/>
            <a:ext cx="6553080" cy="1143000"/>
          </a:xfrm>
          <a:prstGeom prst="ellipse">
            <a:avLst/>
          </a:prstGeom>
          <a:noFill/>
          <a:ln w="5724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1187280" y="1773360"/>
            <a:ext cx="6553440" cy="1143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196720" y="2060640"/>
            <a:ext cx="477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Enfoque de Precio de Mercado</a:t>
            </a:r>
            <a:endParaRPr b="0" lang="en-US" sz="2400" spc="-1" strike="noStrike">
              <a:solidFill>
                <a:srgbClr val="000000"/>
              </a:solidFill>
              <a:latin typeface="Arial"/>
            </a:endParaRPr>
          </a:p>
        </p:txBody>
      </p:sp>
      <p:sp>
        <p:nvSpPr>
          <p:cNvPr id="55" name=""/>
          <p:cNvSpPr/>
          <p:nvPr/>
        </p:nvSpPr>
        <p:spPr>
          <a:xfrm>
            <a:off x="1187280" y="4941720"/>
            <a:ext cx="6553440" cy="1143000"/>
          </a:xfrm>
          <a:prstGeom prst="ellipse">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945520" y="5300640"/>
            <a:ext cx="281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Enfoque de Costo</a:t>
            </a:r>
            <a:endParaRPr b="0" lang="en-US" sz="2400" spc="-1" strike="noStrike">
              <a:solidFill>
                <a:srgbClr val="000000"/>
              </a:solidFill>
              <a:latin typeface="Arial"/>
            </a:endParaRPr>
          </a:p>
        </p:txBody>
      </p:sp>
      <p:sp>
        <p:nvSpPr>
          <p:cNvPr id="57" name=""/>
          <p:cNvSpPr/>
          <p:nvPr/>
        </p:nvSpPr>
        <p:spPr>
          <a:xfrm>
            <a:off x="1190160" y="404640"/>
            <a:ext cx="7090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étodos para fijar Precios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539640" y="1628640"/>
            <a:ext cx="8209080" cy="38138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000" spc="-1" strike="noStrike">
                <a:solidFill>
                  <a:srgbClr val="000000"/>
                </a:solidFill>
                <a:latin typeface="Arial"/>
              </a:rPr>
              <a:t>Es el precio al cual el producto o el servicio transferido internamente entre sus divisiones o segmentos es igual al que le podrían vender a compradores o clientes externos. </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l principal inconveniente de los precios basados en el mercado, es que no siempre están disponibles para los artículos que se transfieren internamente.</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uando el mercado intermedio es perfectamente competitivo, no hay costos o beneficios adicionales para la organización como un todo, en usar precios de mercado en lugar de precios interno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
          <p:cNvSpPr/>
          <p:nvPr/>
        </p:nvSpPr>
        <p:spPr>
          <a:xfrm>
            <a:off x="468360" y="333360"/>
            <a:ext cx="8280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ecios de Transferencia basados en el </a:t>
            </a:r>
            <a:r>
              <a:rPr b="0" lang="es-ES_tradnl" sz="2800" spc="-1" strike="noStrike">
                <a:solidFill>
                  <a:srgbClr val="000000"/>
                </a:solidFill>
                <a:latin typeface="Arial"/>
              </a:rPr>
              <a:t>Merc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ecios de Transferencia basados en el </a:t>
            </a:r>
            <a:r>
              <a:rPr b="0" lang="es-ES_tradnl" sz="2800" spc="-1" strike="noStrike">
                <a:solidFill>
                  <a:srgbClr val="000000"/>
                </a:solidFill>
                <a:latin typeface="Arial"/>
              </a:rPr>
              <a:t>Mercado</a:t>
            </a:r>
            <a:endParaRPr b="0" lang="en-US" sz="28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mercado perfectamente competitivo existe cuando hay un producto homogéneo con precios equivalentes de venta y compra y ningún comprador o vendedor individual puede afectar esos precios por sus propias accion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precios de mercado conducen generalmente a decisiones óptim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ando una industria tiene capacidad excesiva, los precios de mercado pueden bajar considerablemente por debajo de su promedio históric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57200" y="1600200"/>
            <a:ext cx="816912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e enfoque permite a los gerentes de los centros de responsabilidad convengan </a:t>
            </a:r>
            <a:r>
              <a:rPr b="0" i="1" lang="es-MX" sz="2000" spc="-1" strike="noStrike">
                <a:solidFill>
                  <a:srgbClr val="000000"/>
                </a:solidFill>
                <a:latin typeface="Arial"/>
              </a:rPr>
              <a:t>(</a:t>
            </a:r>
            <a:r>
              <a:rPr b="0" lang="es-MX" sz="2000" spc="-1" strike="noStrike">
                <a:solidFill>
                  <a:srgbClr val="000000"/>
                </a:solidFill>
                <a:latin typeface="Arial"/>
              </a:rPr>
              <a:t>negocien) entre sí acerca del precio de transferencia.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única restricción sobre las negociaciones, es que el precio de transferencia sea menor que el precio de mercado, pero mayor que los costos variables unitarios del centro de costos que es proveedor.</a:t>
            </a:r>
            <a:endParaRPr b="0" lang="en-US" sz="2000" spc="-1" strike="noStrike">
              <a:solidFill>
                <a:srgbClr val="000000"/>
              </a:solidFill>
              <a:latin typeface="Arial"/>
            </a:endParaRPr>
          </a:p>
        </p:txBody>
      </p:sp>
      <p:sp>
        <p:nvSpPr>
          <p:cNvPr id="63" name=""/>
          <p:cNvSpPr/>
          <p:nvPr/>
        </p:nvSpPr>
        <p:spPr>
          <a:xfrm>
            <a:off x="1116000" y="476280"/>
            <a:ext cx="7281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ecio de Transferencia Negoci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8T03:24:37Z</dcterms:created>
  <dc:creator>Ivan Alvarez</dc:creator>
  <dc:description/>
  <dc:language>en-US</dc:language>
  <cp:lastModifiedBy>Ivan Alvarez</cp:lastModifiedBy>
  <dcterms:modified xsi:type="dcterms:W3CDTF">2007-09-29T21:35:03Z</dcterms:modified>
  <cp:revision>9</cp:revision>
  <dc:subject/>
  <dc:title>Diapositiva 1</dc:title>
</cp:coreProperties>
</file>