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BC895-4990-4561-B10C-D5AB46B32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AA108-79AC-4712-AEF4-4ED0D5302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6A752-68BA-4015-9548-ED07A3F95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E8F34-0E2C-4506-8594-E4E811FF7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22820-5127-47B8-B306-BA1740EB7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24003-759E-433C-99F2-7FF2554C1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4F60-0B4B-413F-8145-DACE44388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CB258-7BB5-4DEB-BFB1-C69253D69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BDC97-368B-4E92-9F8C-294B41B9C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DF67-0276-4740-9DF3-C6A62A5AB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756A-987B-4375-9D4B-D00DE0EA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4BFA-8A3D-4917-87B7-119961C87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1155-0DB1-4B57-AB5B-964C8B8F38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a:t>
            </a:r>
            <a:r>
              <a:rPr b="0" lang="es-MX" sz="2000" spc="-1" strike="noStrike">
                <a:solidFill>
                  <a:srgbClr val="000000"/>
                </a:solidFill>
                <a:latin typeface="Arial"/>
              </a:rPr>
              <a:t> de la empresa se incremente se incremente</a:t>
            </a:r>
            <a:r>
              <a:rPr b="0" lang="es-MX" sz="2000" spc="-1" strike="noStrike">
                <a:solidFill>
                  <a:srgbClr val="000000"/>
                </a:solidFill>
                <a:latin typeface="Arial"/>
              </a:rPr>
              <a:t>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cp:lastModifiedBy>
  <dcterms:modified xsi:type="dcterms:W3CDTF">2007-09-29T21:35:03Z</dcterms:modified>
  <cp:revision>9</cp:revision>
  <dc:subject/>
  <dc:title>Diapositiva 1</dc:title>
</cp:coreProperties>
</file>