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4D2E4-B20A-49FC-A2A2-F76E2D842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A5E65-153D-405C-A771-4E20E6CB0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A0982-68D9-41F3-A90F-2F4572D23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306AF-2FC8-43DF-997C-2B530A7CF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AACF0-E0C4-4FB3-97F5-25FC63D1A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8CD75-6B46-4DBC-B3DF-78CEE54A4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DE642-CF5B-4A85-8B21-5B47B2C46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65C91-D46C-4369-8C28-2AB662018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06FFA-205C-4BF2-B71E-D29732D85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EA718-F5B6-4523-BC93-8AF77445E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1DB08-D444-48F7-8E49-68EA8D41B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BE1F2-7F5B-46E1-8090-D739A82AE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4B443-ACFD-4047-A48F-93C7BDD11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A426C-C278-4D50-8AD9-649E37F79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62D09-3F16-4C54-86CF-28685DE35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173EC-1338-4621-B36F-BF0DE75AC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42FA1-8696-4790-BB0F-67743D5B4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BDBB1-1069-43D0-BD05-A5C24CBEE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5B758-2AAD-4FED-AFFC-450D2D3C6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52B8D-EDA2-4803-AC2B-490FB9453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DAA6E-CD85-45F4-961B-0172C933B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087FB-E296-40B1-9870-122465B56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1B318-62EC-4413-94CA-0022AFEAA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A7D19-BDC4-4AB1-94CF-88E5A2CD0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3A49-3649-42AD-9437-53666B54AB79}"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D0D71-A0E5-4903-8010-C97DD102768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ontrol de gestión </a:t>
            </a:r>
            <a:br>
              <a:rPr sz="2600"/>
            </a:br>
            <a:r>
              <a:rPr b="1" lang="en-U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29040" indent="-3290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29040" indent="-32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47880" indent="-28188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van Alvarez</cp:lastModifiedBy>
  <dcterms:modified xsi:type="dcterms:W3CDTF">2007-08-31T02:57:02Z</dcterms:modified>
  <cp:revision>40</cp:revision>
  <dc:subject/>
  <dc:title>El control de la gestión</dc:title>
</cp:coreProperties>
</file>