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8CE41-67F6-49D9-8B89-51C949C01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95506-FBF5-4291-82A5-290EA9DB6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D8816-7390-4F75-9457-736066731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17FC1-6C4D-4C5E-A2BD-B9CACEA52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93855-C67F-4453-A46C-8C3D6BD3B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A3A57-C57C-485B-ADCE-04DEBD75E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C6D4E-D4C2-4E66-AB55-2518429B7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FD2D1-D781-4D5F-A3EF-1F5CDAE4F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8214E-9AF3-4E5C-BBCB-702DED170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662E9-B4BC-4C3D-851A-E4BDBEA99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78B4F-1B70-466C-AFF1-16821D5EC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C649B-A748-41B8-A572-4BC19CFBE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EF87F-AC94-4F81-BEEB-695DC261A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FC74D-4C10-4420-B4F4-4378EDBE4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CCA60-6DCA-4D10-902E-6E662B346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13FEF0-169B-42B7-ACF2-1557A4859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94587-30DD-4C7D-8197-6A74C7A95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ABDBA-DAC9-422D-A932-01CA85C4C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38470-2F8D-45CF-BF74-E92C851F1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AB399-3BD3-4B86-A266-5244E2855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B6FAB-2291-458B-9360-AB597FCED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F284B-DDB8-4742-8300-CDFB8D878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C144F-11D6-43CD-8E96-7AC913A6D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38908-880D-4A1F-A1A7-FC6C0DDF4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15E3-0466-4033-8931-2FC83CBA89C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77B2-74ED-4956-9EE7-26FDCA1C189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rm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rm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ontrol de gestión </a:t>
            </a:r>
            <a:br>
              <a:rPr sz="2600"/>
            </a:br>
            <a:r>
              <a:rPr b="1" lang="en-U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29040" indent="-3290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29040" indent="-329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47880" indent="-28188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van Alvarez</cp:lastModifiedBy>
  <dcterms:modified xsi:type="dcterms:W3CDTF">2007-08-31T02:57:02Z</dcterms:modified>
  <cp:revision>40</cp:revision>
  <dc:subject/>
  <dc:title>El control de la gestión</dc:title>
</cp:coreProperties>
</file>