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A19F8-EE97-4BAF-9B55-F58FA95AB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1390B-9D3F-49D1-B777-13E0F022F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D29A9-BD21-443D-A68F-4C3DD3A09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83570-5C88-42D4-9D62-747EC74B3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64737-FEA7-4D3A-9C67-459200B02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631A2-3A04-4365-998D-15519875B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8DE19-386E-4896-850B-2100F7709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75F09-3FD0-4E91-9F7D-645420891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A5D8A-2167-473F-BBD7-B5C4BDCE5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C5448-89AF-4EE2-9192-917B48CA2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E1044-8EAF-49F7-AC2C-5CE3ABDDF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D3D8B-8AA4-478B-B4CD-F7EC0618F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E555A-F564-44FF-ADD1-D4C0EFF07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93F6F-D557-4466-BEDF-899CB1804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A714A-9232-48EC-B45F-E9F49C43E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B2583-9F58-419D-B07B-92B2AA94E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57641-F963-45C1-89BD-B2C4D2D5C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6E877-B1EB-4961-B80D-3AF675A88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8DDE2-D826-4C7C-840C-DB0EE650D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79D59-E689-4920-82D3-D839DDE1E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FF1E8-52B5-4014-AA3A-1DABEB9AF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8C900-6893-4B62-85C2-F2F12C45F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9268B-D68E-41DC-B443-AA002DA31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0E22F-4CAD-4EFD-A71F-9804E2C44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20CF-DB89-4DDC-AAB8-ED7DB581846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82C3-7912-4F98-ABC9-A8368ACC016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ontrol de gestión </a:t>
            </a:r>
            <a:br>
              <a:rPr sz="2600"/>
            </a:br>
            <a:r>
              <a:rPr b="1" lang="en-U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29040" indent="-3290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29040" indent="-32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47880" indent="-28188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van Alvarez</cp:lastModifiedBy>
  <dcterms:modified xsi:type="dcterms:W3CDTF">2007-08-31T02:57:02Z</dcterms:modified>
  <cp:revision>40</cp:revision>
  <dc:subject/>
  <dc:title>El control de la gestión</dc:title>
</cp:coreProperties>
</file>