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BA9-ADCB-44CF-9123-DBC4B765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55F-9EC0-4406-8F46-BC3908CB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C807-F4DF-4B78-BB7F-7B4ACFB4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46A-A7A2-4FF4-BE2F-43DD5A9D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0C8-41C7-49E5-998A-DC1D3839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17A-0F43-4678-969D-1CCE7952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1C1-F604-4F76-B994-E5CB472F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3BB-1015-4B22-BE69-8D9EAB46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330D-7D3B-4747-8E36-4CF304AD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03D-3850-4820-878F-AE5E7936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263-A5FF-437D-A5DD-42C2E08E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7FD-444C-48CC-A8FB-D22687E4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D045-8B4E-410A-8D49-CAC5ADA0C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4869000"/>
            <a:ext cx="335268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eficacia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404640"/>
            <a:ext cx="83059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Lucida Sans Unicode"/>
                <a:ea typeface="Lucida Sans Unicode"/>
              </a:rPr>
              <a:t>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úmero de suscriptores:  Estimados = 50.000 líneas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ales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0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Arriendo (Costo 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 (Costos 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marketing (Costos 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fabr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1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2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Arriendo (Costo 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 (Costos 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marketing (Costos 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fabr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3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0960" y="457200"/>
            <a:ext cx="33537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os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es y Mano de O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de Fabricación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Adm.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ostos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end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reciaciones de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Adm.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ostos Fij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80880"/>
            <a:ext cx="190476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SU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ST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25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0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2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380880"/>
            <a:ext cx="190476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RESULTADO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.288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92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36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.4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778.4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6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9.5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9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4.5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85.1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28960" y="5167440"/>
            <a:ext cx="296964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F- :  Variación 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D- : Variación des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51040" y="205740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51400" y="236232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8954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040" y="25909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12952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257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riación  To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favor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 39.9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94680" y="457200"/>
            <a:ext cx="2504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de Fab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Admón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Admón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00.0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Times New Roman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95760" y="5243400"/>
            <a:ext cx="125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9120" y="1219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8040" y="25909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9120" y="1905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9840" y="22096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840" y="26668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4382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120" y="342900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3160" y="4648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4648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5029200"/>
            <a:ext cx="546552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F- :  Variación 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D-: Variación des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ff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ipos de Presupuestos</a:t>
            </a: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038480"/>
            <a:ext cx="829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el horizonte, de los objetivos y la incertidumbr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los presupuestos pued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supuesto Maestr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fija las metas  y objetivos globales 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financieros proyec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períodos entre 5 y 10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indica las inversiones que debe ha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mpresa para las instalaciones, equipos y demás in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largo plazo para el cumplimento de los objetivos propues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canzar los resultados y la posición finan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os presupuest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xpresa de forma cuantitativa los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todas las subunidades para el primer año de operaciones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n de largo plazo, por tanto incluye proyecciones de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peraciones de la empresa (presupuesto de ventas, compr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sto de produc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gastos,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esultados)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supuestos financiero (presupuesto de capital, de efectivo y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racterísticas del  Presupuesto Flex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Control Presupuesta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Desviación</a:t>
            </a:r>
            <a:r>
              <a:rPr b="0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eficiencia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</cp:lastModifiedBy>
  <dcterms:modified xsi:type="dcterms:W3CDTF">2007-08-24T02:04:35Z</dcterms:modified>
  <cp:revision>24</cp:revision>
  <dc:subject/>
  <dc:title>Presentación de PowerPoint</dc:title>
</cp:coreProperties>
</file>