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CCB-5522-476F-AC3D-15C5024A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80DE-D316-49AA-80CB-6DAAE8C7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701-1E80-4FCA-9136-C619A5CA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5EE-89E1-415D-B44D-37887405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664-EFB0-4352-894C-B21FEAB6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511-6FE9-4160-B03E-C4B93C60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47D2-58E6-4A1C-BC48-FA67998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1A5-2C87-4E90-9879-FC4E40ED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995-C0D3-4921-8828-C109B333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9F7-2368-4979-BD98-F15551C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B0B-B357-45F5-AFCD-F6A34B16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BD0-898C-420B-82F6-52F8B83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41E0-ECD9-4C68-8375-1B3B2E5EF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4869000"/>
            <a:ext cx="335268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acia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04640"/>
            <a:ext cx="8305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úmero de suscriptores:  Estimados = 50.000 líneas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les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0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1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2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3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0960" y="457200"/>
            <a:ext cx="33537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de Fabricació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80880"/>
            <a:ext cx="19047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SU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ST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80880"/>
            <a:ext cx="19047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RESULTAD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8960" y="5167440"/>
            <a:ext cx="296964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 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1040" y="20574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51400" y="23623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8954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12952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ción  To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fav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39.9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4680" y="457200"/>
            <a:ext cx="2504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de Fab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00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5760" y="5243400"/>
            <a:ext cx="125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9120" y="1219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8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9120" y="1905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9840" y="22096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840" y="2666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4382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120" y="34290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160" y="4648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4648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029200"/>
            <a:ext cx="54655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ipos de Presupuestos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38480"/>
            <a:ext cx="829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el horizonte, de los objetivos y la incertidum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os presupuestos pued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Maestr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fija las metas  y objetivos globale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financieros proy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períodos entre 5 y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indica las inversiones que debe ha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mpresa para las instalaciones, equipos y demá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rgo plazo para el cumplimento de los objetivos pro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zar los resultados y la posición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presupues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presa de forma cuantitativa lo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todas las subunidades para el primer año de operacione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 de largo plazo, por tanto incluye proyeccione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raciones de la empresa (presupuesto de ventas, comp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astos,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sultados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upuestos financiero (presupuesto de capital, de efectivo y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acterísticas del  Presupuesto Flex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Control Presupuest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Desviación</a:t>
            </a:r>
            <a:r>
              <a:rPr b="0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iencia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</cp:lastModifiedBy>
  <dcterms:modified xsi:type="dcterms:W3CDTF">2007-08-24T02:04:35Z</dcterms:modified>
  <cp:revision>24</cp:revision>
  <dc:subject/>
  <dc:title>Presentación de PowerPoint</dc:title>
</cp:coreProperties>
</file>