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E467-D41C-4843-BB3F-CFFE225E5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606E-B125-481A-BE75-783AEED3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AEBE-81C7-435C-A070-0A18644B3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3D2E-3F1C-400C-B128-07223A4B5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0852-7E0B-4D70-A55F-081C1B81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7A4F-286D-4A19-B841-83A2D4CD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9F82-2508-404A-9028-FA939F9B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92F7-E019-4A17-BCF7-94F24852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A314-01B7-4B7D-9244-04BC1745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1A4F-91AB-460E-BE70-5FC14541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7CBA-145F-454D-A4CC-2E84F222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C880-EF5C-41ED-8C10-ED97323E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B04C-749C-4094-8CEE-C7AD552AE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Control Presupuestario y </a:t>
            </a:r>
            <a:br>
              <a:rPr sz="3200"/>
            </a:b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Análisis de Desvi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ariación Vol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1628640"/>
            <a:ext cx="4114800" cy="7038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ferencia entre el presupuesto estático y el flex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03280" y="3141720"/>
            <a:ext cx="6858000" cy="7038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mbio del nivel de actividad (ventas de un menor o mayor número de unidades) y no a control 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92720" y="4869000"/>
            <a:ext cx="3352680" cy="7038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fleja la eficacia en el logro de objetivos.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Ejemplo 1</a:t>
            </a:r>
            <a:br>
              <a:rPr sz="4400"/>
            </a:b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Presupuesto Flex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404640"/>
            <a:ext cx="83059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Lucida Sans Unicode"/>
                <a:ea typeface="Lucida Sans Unicode"/>
              </a:rPr>
              <a:t>NIVEL DE ACTIVIDAD Y COSTOS ESTIMADOS E INCURR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Lucida Sans Unicode"/>
                <a:ea typeface="Lucida Sans Unicode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Número de suscriptores:  Estimados = 50.000 líneas    (Tarifa = $ 25.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Reales      = 56.000 líneas    (Tarifa = $ 23.000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84464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Sans Unicode"/>
                <a:ea typeface="Lucida Sans Unicode"/>
              </a:rPr>
              <a:t>Costos y gastos estimad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629080" y="1676520"/>
            <a:ext cx="3886200" cy="2133360"/>
            <a:chOff x="2629080" y="1676520"/>
            <a:chExt cx="3886200" cy="2133360"/>
          </a:xfrm>
        </p:grpSpPr>
        <p:grpSp>
          <p:nvGrpSpPr>
            <p:cNvPr id="70" name=""/>
            <p:cNvGrpSpPr/>
            <p:nvPr/>
          </p:nvGrpSpPr>
          <p:grpSpPr>
            <a:xfrm>
              <a:off x="2631600" y="1680120"/>
              <a:ext cx="3880800" cy="2125080"/>
              <a:chOff x="2631600" y="1680120"/>
              <a:chExt cx="3880800" cy="2125080"/>
            </a:xfrm>
          </p:grpSpPr>
          <p:grpSp>
            <p:nvGrpSpPr>
              <p:cNvPr id="71" name=""/>
              <p:cNvGrpSpPr/>
              <p:nvPr/>
            </p:nvGrpSpPr>
            <p:grpSpPr>
              <a:xfrm>
                <a:off x="2631600" y="1680120"/>
                <a:ext cx="3880800" cy="353880"/>
                <a:chOff x="2631600" y="1680120"/>
                <a:chExt cx="3880800" cy="35388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2649960" y="168012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Arriendo (Costo fijo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631600" y="168012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2631600" y="2034000"/>
                <a:ext cx="3880800" cy="353880"/>
                <a:chOff x="2631600" y="2034000"/>
                <a:chExt cx="3880800" cy="35388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2649960" y="203400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Gastos Administrativos (Costos fijos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2631600" y="203400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2631600" y="2388240"/>
                <a:ext cx="3880800" cy="354240"/>
                <a:chOff x="2631600" y="2388240"/>
                <a:chExt cx="3880800" cy="35424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649960" y="2388240"/>
                  <a:ext cx="3843360" cy="35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Gastos de marketing (Costos fijo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631600" y="2388240"/>
                  <a:ext cx="3880800" cy="35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2631600" y="2742840"/>
                <a:ext cx="3880800" cy="353880"/>
                <a:chOff x="2631600" y="2742840"/>
                <a:chExt cx="3880800" cy="3538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2649960" y="274284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Materiales y mano de obra direct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2631600" y="274284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2631600" y="3097080"/>
                <a:ext cx="3880800" cy="353880"/>
                <a:chOff x="2631600" y="3097080"/>
                <a:chExt cx="3880800" cy="3538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2649960" y="309708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Gastos de fabric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631600" y="309708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631600" y="3451320"/>
                <a:ext cx="3880800" cy="353880"/>
                <a:chOff x="2631600" y="3451320"/>
                <a:chExt cx="3880800" cy="3538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649960" y="345132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Gastos Administrativ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631600" y="345132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" name=""/>
            <p:cNvSpPr/>
            <p:nvPr/>
          </p:nvSpPr>
          <p:spPr>
            <a:xfrm>
              <a:off x="2629080" y="1676520"/>
              <a:ext cx="3886200" cy="213336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705720" y="1676520"/>
            <a:ext cx="2057400" cy="2133360"/>
            <a:chOff x="6705720" y="1676520"/>
            <a:chExt cx="2057400" cy="2133360"/>
          </a:xfrm>
        </p:grpSpPr>
        <p:grpSp>
          <p:nvGrpSpPr>
            <p:cNvPr id="91" name=""/>
            <p:cNvGrpSpPr/>
            <p:nvPr/>
          </p:nvGrpSpPr>
          <p:grpSpPr>
            <a:xfrm>
              <a:off x="6707160" y="1680120"/>
              <a:ext cx="2054520" cy="2125080"/>
              <a:chOff x="6707160" y="1680120"/>
              <a:chExt cx="2054520" cy="212508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6707160" y="1680120"/>
                <a:ext cx="2054520" cy="353880"/>
                <a:chOff x="6707160" y="1680120"/>
                <a:chExt cx="2054520" cy="3538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6716880" y="168012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  5.0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6707160" y="168012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6707160" y="2034000"/>
                <a:ext cx="2054520" cy="353880"/>
                <a:chOff x="6707160" y="2034000"/>
                <a:chExt cx="2054520" cy="3538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6716880" y="203400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10.0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707160" y="203400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6707160" y="2388240"/>
                <a:ext cx="2054520" cy="354240"/>
                <a:chOff x="6707160" y="2388240"/>
                <a:chExt cx="2054520" cy="3542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6716880" y="2388240"/>
                  <a:ext cx="2034720" cy="35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10.000.000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707160" y="2388240"/>
                  <a:ext cx="2054520" cy="35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6707160" y="2742840"/>
                <a:ext cx="2054520" cy="353880"/>
                <a:chOff x="6707160" y="2742840"/>
                <a:chExt cx="2054520" cy="35388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6716880" y="274284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  5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6707160" y="274284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6707160" y="3097080"/>
                <a:ext cx="2054520" cy="353880"/>
                <a:chOff x="6707160" y="3097080"/>
                <a:chExt cx="2054520" cy="35388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6716880" y="309708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  8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6707160" y="309708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6707160" y="3451320"/>
                <a:ext cx="2054520" cy="353880"/>
                <a:chOff x="6707160" y="3451320"/>
                <a:chExt cx="2054520" cy="35388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716880" y="345132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  1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707160" y="345132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0" name=""/>
            <p:cNvSpPr/>
            <p:nvPr/>
          </p:nvSpPr>
          <p:spPr>
            <a:xfrm>
              <a:off x="6705720" y="1676520"/>
              <a:ext cx="2057400" cy="213336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629080" y="4003560"/>
            <a:ext cx="3886200" cy="2397240"/>
            <a:chOff x="2629080" y="4003560"/>
            <a:chExt cx="3886200" cy="2397240"/>
          </a:xfrm>
        </p:grpSpPr>
        <p:grpSp>
          <p:nvGrpSpPr>
            <p:cNvPr id="112" name=""/>
            <p:cNvGrpSpPr/>
            <p:nvPr/>
          </p:nvGrpSpPr>
          <p:grpSpPr>
            <a:xfrm>
              <a:off x="2631600" y="4007880"/>
              <a:ext cx="3880800" cy="2388240"/>
              <a:chOff x="2631600" y="4007880"/>
              <a:chExt cx="3880800" cy="238824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2631600" y="4007880"/>
                <a:ext cx="3880800" cy="397800"/>
                <a:chOff x="2631600" y="4007880"/>
                <a:chExt cx="3880800" cy="39780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649960" y="400788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Arriendo (Costo fijo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631600" y="400788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631600" y="4405680"/>
                <a:ext cx="3880800" cy="397800"/>
                <a:chOff x="2631600" y="4405680"/>
                <a:chExt cx="3880800" cy="39780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649960" y="440568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Gastos Administrativos (Costos fijos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631600" y="440568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2631600" y="4803840"/>
                <a:ext cx="3880800" cy="398160"/>
                <a:chOff x="2631600" y="4803840"/>
                <a:chExt cx="3880800" cy="3981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2649960" y="4803840"/>
                  <a:ext cx="3843360" cy="39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Gastos de marketing (Costos fijo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631600" y="4803840"/>
                  <a:ext cx="3880800" cy="39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2631600" y="5202360"/>
                <a:ext cx="3880800" cy="397800"/>
                <a:chOff x="2631600" y="5202360"/>
                <a:chExt cx="3880800" cy="39780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2649960" y="520236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Materiales y mano de obra direct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631600" y="520236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2631600" y="5600160"/>
                <a:ext cx="3880800" cy="397800"/>
                <a:chOff x="2631600" y="5600160"/>
                <a:chExt cx="3880800" cy="3978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2649960" y="560016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Gastos de fabric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631600" y="560016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2631600" y="5998320"/>
                <a:ext cx="3880800" cy="397800"/>
                <a:chOff x="2631600" y="5998320"/>
                <a:chExt cx="3880800" cy="3978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649960" y="599832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Gastos Administrativ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631600" y="599832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1" name=""/>
            <p:cNvSpPr/>
            <p:nvPr/>
          </p:nvSpPr>
          <p:spPr>
            <a:xfrm>
              <a:off x="2629080" y="4003560"/>
              <a:ext cx="3886200" cy="239724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705720" y="4038480"/>
            <a:ext cx="2057400" cy="2362320"/>
            <a:chOff x="6705720" y="4038480"/>
            <a:chExt cx="2057400" cy="2362320"/>
          </a:xfrm>
        </p:grpSpPr>
        <p:grpSp>
          <p:nvGrpSpPr>
            <p:cNvPr id="133" name=""/>
            <p:cNvGrpSpPr/>
            <p:nvPr/>
          </p:nvGrpSpPr>
          <p:grpSpPr>
            <a:xfrm>
              <a:off x="6707160" y="4042440"/>
              <a:ext cx="2054520" cy="2353320"/>
              <a:chOff x="6707160" y="4042440"/>
              <a:chExt cx="2054520" cy="235332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6707160" y="4042440"/>
                <a:ext cx="2054520" cy="392040"/>
                <a:chOff x="6707160" y="4042440"/>
                <a:chExt cx="2054520" cy="3920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6716880" y="404244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 6.0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707160" y="404244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6707160" y="4434480"/>
                <a:ext cx="2054520" cy="392040"/>
                <a:chOff x="6707160" y="4434480"/>
                <a:chExt cx="2054520" cy="3920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6716880" y="443448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 9.5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707160" y="443448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6707160" y="4826880"/>
                <a:ext cx="2054520" cy="392400"/>
                <a:chOff x="6707160" y="4826880"/>
                <a:chExt cx="2054520" cy="3924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6716880" y="4826880"/>
                  <a:ext cx="203472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 9.000.000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707160" y="4826880"/>
                  <a:ext cx="205452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6707160" y="5219280"/>
                <a:ext cx="2054520" cy="392040"/>
                <a:chOff x="6707160" y="5219280"/>
                <a:chExt cx="2054520" cy="39204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6716880" y="521928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 7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707160" y="521928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6707160" y="5611680"/>
                <a:ext cx="2054520" cy="392040"/>
                <a:chOff x="6707160" y="5611680"/>
                <a:chExt cx="2054520" cy="39204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6716880" y="561168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 6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707160" y="561168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6707160" y="6003720"/>
                <a:ext cx="2054520" cy="392040"/>
                <a:chOff x="6707160" y="6003720"/>
                <a:chExt cx="2054520" cy="39204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6716880" y="600372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    9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707160" y="600372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2" name=""/>
            <p:cNvSpPr/>
            <p:nvPr/>
          </p:nvSpPr>
          <p:spPr>
            <a:xfrm>
              <a:off x="6705720" y="4038480"/>
              <a:ext cx="2057400" cy="236232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39640" y="39337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Sans Unicode"/>
                <a:ea typeface="Lucida Sans Unicode"/>
              </a:rPr>
              <a:t>Costos y gastos reales: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13372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10960" y="457200"/>
            <a:ext cx="335376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da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stos Variab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teriales y Mano de O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astos de Fabricación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astos Adm.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tal Costos Variab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stos Fij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rend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preciaciones de equi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astos Adm. F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tal Costos Fij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1120" y="380880"/>
            <a:ext cx="1904760" cy="53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RESUPUES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ESTÁ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25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50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00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50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00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10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5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25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380880"/>
            <a:ext cx="1904760" cy="55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imes New Roman"/>
              </a:rPr>
              <a:t>RESULTADOS RE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56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1.288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392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336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50.4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778.4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6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9.5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9.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24.5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485.1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28960" y="5167440"/>
            <a:ext cx="2969640" cy="14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-F- :  Variación favorab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-D- : Variación desfavorab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248520" y="396252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51040" y="205740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51400" y="236232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51040" y="289548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51040" y="25909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37339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48520" y="426708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449568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24480" y="129528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10080" y="52578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ariación  Tot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sfavor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$ 39.9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181480" y="5181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7848720" y="51051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5562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9152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94680" y="457200"/>
            <a:ext cx="25048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ida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stos Variab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teriales y mano de o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tos de Fab. 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tos Admón.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tal Costos Variab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stos Fij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rend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preciaciones de equi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tos Admón. 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tal Costos Fij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228600"/>
            <a:ext cx="19051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PRESUPUES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EST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2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5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0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5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00.00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81480" y="228600"/>
            <a:ext cx="19051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PRESUPUES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FLEXIBLE</a:t>
            </a: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8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48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5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84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91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10280" y="228600"/>
            <a:ext cx="19051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Times New Roman"/>
              </a:rPr>
              <a:t>RESULTADOS RE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5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1.28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392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33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50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778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9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9.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24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485.1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95760" y="5243400"/>
            <a:ext cx="1250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ari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$ 6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5257800"/>
            <a:ext cx="217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ari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s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$ 105.9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89120" y="12193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08040" y="25909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86600" y="36576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89120" y="19051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89840" y="220968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89840" y="266688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89840" y="243828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89120" y="342900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13160" y="46483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86600" y="38862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86600" y="41148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05520" y="121932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464832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26708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845820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24852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6708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71500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24852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00100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5029200"/>
            <a:ext cx="5465520" cy="14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-F- :  Variación favorab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-D-: Variación desfavorab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Ejemplo 2</a:t>
            </a:r>
            <a:br>
              <a:rPr sz="4400"/>
            </a:b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Análisis de Desvi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95280" y="304920"/>
            <a:ext cx="813924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28600" y="318960"/>
            <a:ext cx="86868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04920" y="620640"/>
            <a:ext cx="85341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5820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ff"/>
                </a:solidFill>
                <a:latin typeface="Arial"/>
              </a:rPr>
              <a:t>Obje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visar los conceptos de Presupuesto Flexible, Análisis de Desviaciones y Costo Estándar, y su apl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381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104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38188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Costos Están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0000"/>
                </a:solidFill>
                <a:latin typeface="Arial"/>
              </a:rPr>
              <a:t>Costos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écnica de la contabilidad de costos que compara el costo considerado normal de cada producto, servicio o elemento con su costo re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costos estándar son costos preestablecidos, se calculan antes de comenzar las oper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 una herramienta del control presupuest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mite evaluar la eficiencia de la gestión y tomar inmediatamente las acciones correctivas que se estimen pertin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igual que con los costos históricos, se pueden combinar con los métodos de costeo variable y absobente, y con los sistemas de costos por procesos y por órdenes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medida que se conocen los costos e ingresos reales, se van registrando en la contabilidad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os datos reales se comparan con los estándar, y las desviaciones entre unos y otros se ponen de manifiesto por el propio sistema con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Ventajas de los Costos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cilitan la “dirección por excepción”, que consiste en centrar la atención de la dirección en aquellas situaciones que se apartan de la norm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cilitan la valoración de los stocks y la fijación de precios, entre o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igen una definición de responsabilidades por centros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ipos de Costos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datos de la empresa en ejercicios anteri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datos de la empresa en ejercicios anteriores, pero correg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estudios técnicos. En este caso el estándar puede represent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mejor actuación po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a actuación efi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idere el siguiente Centro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“Presupuesto para un periodo”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nsidera precios y cantidades estánd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_tradnl" sz="2000" spc="-1" strike="noStrike">
                <a:solidFill>
                  <a:srgbClr val="cc0099"/>
                </a:solidFill>
                <a:latin typeface="Arial"/>
              </a:rPr>
              <a:t>“Costos históricos”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nstituyen los precios y costos reales obtenidos en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Ejemplo 3</a:t>
            </a:r>
            <a:br>
              <a:rPr sz="4400"/>
            </a:b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Costo Están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4360" y="40464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esupuesto</a:t>
            </a:r>
            <a:r>
              <a:rPr b="1" lang="en-US" sz="3200" spc="-1" strike="noStrike">
                <a:solidFill>
                  <a:srgbClr val="333399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1341360"/>
            <a:ext cx="822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gún Horngren un presupuesto es la expresión formal, cuantitativa de los planes de un individuo, empresa u organización, que proporcionan un punto de referencia para medir el desempeño re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321300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ipos de Presupuestos</a:t>
            </a:r>
            <a:r>
              <a:rPr b="1" lang="en-US" sz="3200" spc="-1" strike="noStrike">
                <a:solidFill>
                  <a:srgbClr val="ff0000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4038480"/>
            <a:ext cx="8294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gún el horizonte, de los objetivos y la incertidumbr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,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los presupuestos pueden s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lan Estratég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lan de Largo Plaz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esupuesto de Capi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esupuesto Maestro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476360" y="549360"/>
            <a:ext cx="604836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6624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Desviaciones en Materias Pr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Global =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500 x 800 x 6 – 550 x 800 x 5 = 2.400.000 – 2.200.000 = 2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as cantidades (técn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500x800 – 550x800) x 6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24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os precios (económ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6 - 5) x 550 x 800 = + 44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4360" y="47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Desviaciones en Man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Global =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5 x 800 x 40 – 26,25 x 800 x 45 = 800.000 – 945.000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14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as cantidades (técn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25x800 – 26,25x800) x 40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4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os precios (económ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40 - 45) x 26,25 x 800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 10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lan Estratégic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, fija las metas  y objetivos globales de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rganiz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lan de Largo Plazo,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enera estado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financieros proyec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ra períodos entre 5 y 10 añ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resupuesto de Capital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indica las inversiones que debe hac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empresa para las instalaciones, equipos y demás inver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largo plazo para el cumplimento de los objetivos propuest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sí como par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lcanzar los resultados y la posición financi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ablecid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 los presupuesto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de largo plaz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resupuesto Maestr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expresa de forma cuantitativa los pl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todas las subunidades para el primer año de operaciones 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lan de largo plazo, por tanto incluye proyecciones de l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peraciones de la empresa (presupuesto de ventas, compr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sto de producción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gastos,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 presupuest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resultados)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esupuestos financiero (presupuesto de capital, de efectivo y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alance general).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4360" y="283680"/>
            <a:ext cx="7704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Presupue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4247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Presupuesto Estátic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basa en el nivel de producción planificado al inicio del periodo del presupue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Presupuesto Flexibl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desarrolla considerando los precios y costos variables presupuestados y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l nivel de producción r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9640" y="4365720"/>
            <a:ext cx="822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La evaluación del desempeño a partir del presupuesto flexible se realiza al calcular y analizar las variaciones de volumen y de presupuesto flexible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916280"/>
            <a:ext cx="829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l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Lucida Sans Unicode"/>
              </a:rPr>
              <a:t>Presupuesto Flexibl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se basa en los mismos supuestos y formatos del presupuesto maestro (estático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pero combinándolos con los cambios que implican las variaciones del nivel de ventas o actividade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6094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racterísticas del  Presupuesto Flexi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3141720"/>
            <a:ext cx="82947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La necesidad de uso de los presupuestos flexibles obedece a que las discrepancias (variaciones) entre los resultados reales y los presupuestados se deben a causas distintas</a:t>
            </a:r>
            <a:r>
              <a:rPr b="1" lang="es-ES_tradnl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.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53316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trol Presupuestario y Análisis de Desvi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848720" cy="42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 u="sng">
                <a:solidFill>
                  <a:srgbClr val="3333ff"/>
                </a:solidFill>
                <a:uFillTx/>
                <a:latin typeface="Arial"/>
              </a:rPr>
              <a:t>Control Presupuestari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Proceso permanente de comparación entre lo planificado (plasmado en los presupuestos) y lo acontecido en la re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 u="sng">
                <a:solidFill>
                  <a:srgbClr val="3333ff"/>
                </a:solidFill>
                <a:uFillTx/>
                <a:latin typeface="Arial"/>
              </a:rPr>
              <a:t>Desviación</a:t>
            </a:r>
            <a:r>
              <a:rPr b="0" lang="es-ES_tradnl" sz="2000" spc="-1" strike="noStrike" u="sng">
                <a:solidFill>
                  <a:srgbClr val="3333ff"/>
                </a:solidFill>
                <a:uFillTx/>
                <a:latin typeface="Arial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iferencia entre el resultado real y el proyectado (puede ser favorable o desfavorab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35344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El análisis de las desviaciones es importante por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uestra si los responsables están cumpliendo o no con los objetivos especific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mite el feed-back o proceso de retroalimentación, mediante el cual la empresa tomará las medidas correctivas para ajustarse a lo plane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tituye un proceso de aprendiza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ariación de presupues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628640"/>
            <a:ext cx="417672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ferencia entre el presupuesto flexible y los resultados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08000" y="3141720"/>
            <a:ext cx="571500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mbios en los precios unitarios de ventas, y en los costos variables y fijos to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84720" y="4724280"/>
            <a:ext cx="449568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fleja la eficiencia de la empresa en el uso de sus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4T21:02:37Z</dcterms:created>
  <dc:creator>Marisela Morillo</dc:creator>
  <dc:description/>
  <dc:language>en-US</dc:language>
  <cp:lastModifiedBy>Ivan Alvarez</cp:lastModifiedBy>
  <dcterms:modified xsi:type="dcterms:W3CDTF">2007-08-24T02:04:35Z</dcterms:modified>
  <cp:revision>24</cp:revision>
  <dc:subject/>
  <dc:title>Presentación de PowerPoint</dc:title>
</cp:coreProperties>
</file>