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5585-44D1-41C1-A7AD-B1C8184D0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AD08-9D79-42D0-BAA6-094C16B96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5CBD-C649-40E3-A7A4-95A38E335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9973-90AD-4459-9996-0841D90B97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46FB0-52F3-41BC-B00C-CBCEA017A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626C-2D3F-43F3-9385-F5A2196EF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7B20-879F-40F6-A0C9-8CBD1D2C8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E429-5045-46C2-B668-BD4B28FDF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A06E-7633-4462-9B20-3674C77F2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F375-3A0E-4413-96E7-B277B8EE8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E238-B8FE-4DC8-A08B-1FAAF4D84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1D44-9504-4258-B177-FFF154B79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DDFB3-3C5E-4B5C-A8F6-470E5C6DDA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99"/>
                </a:solidFill>
                <a:latin typeface="Arial"/>
              </a:rPr>
              <a:t>Control Presupuestario y </a:t>
            </a:r>
            <a:br>
              <a:rPr sz="3200"/>
            </a:br>
            <a:r>
              <a:rPr b="1" lang="es-ES_tradnl" sz="3200" spc="-1" strike="noStrike">
                <a:solidFill>
                  <a:srgbClr val="333399"/>
                </a:solidFill>
                <a:latin typeface="Arial"/>
              </a:rPr>
              <a:t>Análisis de Desvi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Variación Volu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8360" y="1628640"/>
            <a:ext cx="4114800" cy="70380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iferencia entre el presupuesto estático y el flex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03280" y="3141720"/>
            <a:ext cx="6858000" cy="70380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Cambio del nivel de actividad (ventas de un menor o mayor número de unidades) y no a control de cos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292720" y="4869000"/>
            <a:ext cx="3352680" cy="703800"/>
          </a:xfrm>
          <a:prstGeom prst="rect">
            <a:avLst/>
          </a:prstGeom>
          <a:noFill/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Refleja la eficacia en el logro de objetivos.</a:t>
            </a:r>
            <a:r>
              <a:rPr b="1" lang="en-US" sz="20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Arial"/>
              </a:rPr>
              <a:t>Ejemplo 1</a:t>
            </a:r>
            <a:br>
              <a:rPr sz="4400"/>
            </a:br>
            <a:r>
              <a:rPr b="0" lang="es-ES_tradnl" sz="4400" spc="-1" strike="noStrike">
                <a:solidFill>
                  <a:srgbClr val="333399"/>
                </a:solidFill>
                <a:latin typeface="Arial"/>
              </a:rPr>
              <a:t>Presupuesto Flexi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57200" y="404640"/>
            <a:ext cx="830592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Lucida Sans Unicode"/>
                <a:ea typeface="Lucida Sans Unicode"/>
              </a:rPr>
              <a:t>NIVEL DE ACTIVIDAD Y COSTOS ESTIMADOS E INCURRI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0000"/>
                </a:solidFill>
                <a:latin typeface="Lucida Sans Unicode"/>
                <a:ea typeface="Lucida Sans Unicode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Número de suscriptores:  Estimados = 50.000 líneas    (Tarifa = $ 25.00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Reales      = 56.000 líneas    (Tarifa = $ 23.000)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9640" y="1844640"/>
            <a:ext cx="144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Lucida Sans Unicode"/>
                <a:ea typeface="Lucida Sans Unicode"/>
              </a:rPr>
              <a:t>Costos y gastos estimad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2629080" y="1676520"/>
            <a:ext cx="3886200" cy="2133360"/>
            <a:chOff x="2629080" y="1676520"/>
            <a:chExt cx="3886200" cy="2133360"/>
          </a:xfrm>
        </p:grpSpPr>
        <p:grpSp>
          <p:nvGrpSpPr>
            <p:cNvPr id="70" name=""/>
            <p:cNvGrpSpPr/>
            <p:nvPr/>
          </p:nvGrpSpPr>
          <p:grpSpPr>
            <a:xfrm>
              <a:off x="2631600" y="1680120"/>
              <a:ext cx="3880800" cy="2125080"/>
              <a:chOff x="2631600" y="1680120"/>
              <a:chExt cx="3880800" cy="2125080"/>
            </a:xfrm>
          </p:grpSpPr>
          <p:grpSp>
            <p:nvGrpSpPr>
              <p:cNvPr id="71" name=""/>
              <p:cNvGrpSpPr/>
              <p:nvPr/>
            </p:nvGrpSpPr>
            <p:grpSpPr>
              <a:xfrm>
                <a:off x="2631600" y="1680120"/>
                <a:ext cx="3880800" cy="353880"/>
                <a:chOff x="2631600" y="1680120"/>
                <a:chExt cx="3880800" cy="353880"/>
              </a:xfrm>
            </p:grpSpPr>
            <p:sp>
              <p:nvSpPr>
                <p:cNvPr id="72" name=""/>
                <p:cNvSpPr/>
                <p:nvPr/>
              </p:nvSpPr>
              <p:spPr>
                <a:xfrm>
                  <a:off x="2649960" y="1680120"/>
                  <a:ext cx="384336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Lucida Sans Unicode"/>
                      <a:ea typeface="Lucida Sans Unicode"/>
                    </a:rPr>
                    <a:t>Arriendo (Costo fijo)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2631600" y="1680120"/>
                  <a:ext cx="388080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2631600" y="2034000"/>
                <a:ext cx="3880800" cy="353880"/>
                <a:chOff x="2631600" y="2034000"/>
                <a:chExt cx="3880800" cy="35388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2649960" y="2034000"/>
                  <a:ext cx="384336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Lucida Sans Unicode"/>
                      <a:ea typeface="Lucida Sans Unicode"/>
                    </a:rPr>
                    <a:t>Gastos Administrativos (Costos fijos)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2631600" y="2034000"/>
                  <a:ext cx="388080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" name=""/>
              <p:cNvGrpSpPr/>
              <p:nvPr/>
            </p:nvGrpSpPr>
            <p:grpSpPr>
              <a:xfrm>
                <a:off x="2631600" y="2388240"/>
                <a:ext cx="3880800" cy="354240"/>
                <a:chOff x="2631600" y="2388240"/>
                <a:chExt cx="3880800" cy="354240"/>
              </a:xfrm>
            </p:grpSpPr>
            <p:sp>
              <p:nvSpPr>
                <p:cNvPr id="78" name=""/>
                <p:cNvSpPr/>
                <p:nvPr/>
              </p:nvSpPr>
              <p:spPr>
                <a:xfrm>
                  <a:off x="2649960" y="2388240"/>
                  <a:ext cx="3843360" cy="35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Lucida Sans Unicode"/>
                      <a:ea typeface="Lucida Sans Unicode"/>
                    </a:rPr>
                    <a:t>Gastos de marketing (Costos fijos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2631600" y="2388240"/>
                  <a:ext cx="3880800" cy="35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" name=""/>
              <p:cNvGrpSpPr/>
              <p:nvPr/>
            </p:nvGrpSpPr>
            <p:grpSpPr>
              <a:xfrm>
                <a:off x="2631600" y="2742840"/>
                <a:ext cx="3880800" cy="353880"/>
                <a:chOff x="2631600" y="2742840"/>
                <a:chExt cx="3880800" cy="35388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2649960" y="2742840"/>
                  <a:ext cx="384336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Lucida Sans Unicode"/>
                      <a:ea typeface="Lucida Sans Unicode"/>
                    </a:rPr>
                    <a:t>Materiales y mano de obra directa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2631600" y="2742840"/>
                  <a:ext cx="388080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" name=""/>
              <p:cNvGrpSpPr/>
              <p:nvPr/>
            </p:nvGrpSpPr>
            <p:grpSpPr>
              <a:xfrm>
                <a:off x="2631600" y="3097080"/>
                <a:ext cx="3880800" cy="353880"/>
                <a:chOff x="2631600" y="3097080"/>
                <a:chExt cx="3880800" cy="35388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2649960" y="3097080"/>
                  <a:ext cx="384336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Lucida Sans Unicode"/>
                      <a:ea typeface="Lucida Sans Unicode"/>
                    </a:rPr>
                    <a:t>Gastos de fabricació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2631600" y="3097080"/>
                  <a:ext cx="388080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" name=""/>
              <p:cNvGrpSpPr/>
              <p:nvPr/>
            </p:nvGrpSpPr>
            <p:grpSpPr>
              <a:xfrm>
                <a:off x="2631600" y="3451320"/>
                <a:ext cx="3880800" cy="353880"/>
                <a:chOff x="2631600" y="3451320"/>
                <a:chExt cx="3880800" cy="35388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2649960" y="3451320"/>
                  <a:ext cx="384336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Lucida Sans Unicode"/>
                      <a:ea typeface="Lucida Sans Unicode"/>
                    </a:rPr>
                    <a:t>Gastos Administrativo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2631600" y="3451320"/>
                  <a:ext cx="388080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9" name=""/>
            <p:cNvSpPr/>
            <p:nvPr/>
          </p:nvSpPr>
          <p:spPr>
            <a:xfrm>
              <a:off x="2629080" y="1676520"/>
              <a:ext cx="3886200" cy="2133360"/>
            </a:xfrm>
            <a:prstGeom prst="rect">
              <a:avLst/>
            </a:prstGeom>
            <a:noFill/>
            <a:ln w="1440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6705720" y="1676520"/>
            <a:ext cx="2057400" cy="2133360"/>
            <a:chOff x="6705720" y="1676520"/>
            <a:chExt cx="2057400" cy="2133360"/>
          </a:xfrm>
        </p:grpSpPr>
        <p:grpSp>
          <p:nvGrpSpPr>
            <p:cNvPr id="91" name=""/>
            <p:cNvGrpSpPr/>
            <p:nvPr/>
          </p:nvGrpSpPr>
          <p:grpSpPr>
            <a:xfrm>
              <a:off x="6707160" y="1680120"/>
              <a:ext cx="2054520" cy="2125080"/>
              <a:chOff x="6707160" y="1680120"/>
              <a:chExt cx="2054520" cy="2125080"/>
            </a:xfrm>
          </p:grpSpPr>
          <p:grpSp>
            <p:nvGrpSpPr>
              <p:cNvPr id="92" name=""/>
              <p:cNvGrpSpPr/>
              <p:nvPr/>
            </p:nvGrpSpPr>
            <p:grpSpPr>
              <a:xfrm>
                <a:off x="6707160" y="1680120"/>
                <a:ext cx="2054520" cy="353880"/>
                <a:chOff x="6707160" y="1680120"/>
                <a:chExt cx="2054520" cy="35388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6716880" y="1680120"/>
                  <a:ext cx="203472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Lucida Sans Unicode"/>
                      <a:ea typeface="Lucida Sans Unicode"/>
                    </a:rPr>
                    <a:t>$   5.000.0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6707160" y="1680120"/>
                  <a:ext cx="205452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6707160" y="2034000"/>
                <a:ext cx="2054520" cy="353880"/>
                <a:chOff x="6707160" y="2034000"/>
                <a:chExt cx="2054520" cy="35388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6716880" y="2034000"/>
                  <a:ext cx="203472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Lucida Sans Unicode"/>
                      <a:ea typeface="Lucida Sans Unicode"/>
                    </a:rPr>
                    <a:t>$ 10.000.0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6707160" y="2034000"/>
                  <a:ext cx="205452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8" name=""/>
              <p:cNvGrpSpPr/>
              <p:nvPr/>
            </p:nvGrpSpPr>
            <p:grpSpPr>
              <a:xfrm>
                <a:off x="6707160" y="2388240"/>
                <a:ext cx="2054520" cy="354240"/>
                <a:chOff x="6707160" y="2388240"/>
                <a:chExt cx="2054520" cy="35424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6716880" y="2388240"/>
                  <a:ext cx="2034720" cy="35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Lucida Sans Unicode"/>
                      <a:ea typeface="Lucida Sans Unicode"/>
                    </a:rPr>
                    <a:t>$ 10.000.000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6707160" y="2388240"/>
                  <a:ext cx="2054520" cy="354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"/>
              <p:cNvGrpSpPr/>
              <p:nvPr/>
            </p:nvGrpSpPr>
            <p:grpSpPr>
              <a:xfrm>
                <a:off x="6707160" y="2742840"/>
                <a:ext cx="2054520" cy="353880"/>
                <a:chOff x="6707160" y="2742840"/>
                <a:chExt cx="2054520" cy="353880"/>
              </a:xfrm>
            </p:grpSpPr>
            <p:sp>
              <p:nvSpPr>
                <p:cNvPr id="102" name=""/>
                <p:cNvSpPr/>
                <p:nvPr/>
              </p:nvSpPr>
              <p:spPr>
                <a:xfrm>
                  <a:off x="6716880" y="2742840"/>
                  <a:ext cx="203472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Lucida Sans Unicode"/>
                      <a:ea typeface="Lucida Sans Unicode"/>
                    </a:rPr>
                    <a:t>$   5.000/lin.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6707160" y="2742840"/>
                  <a:ext cx="205452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4" name=""/>
              <p:cNvGrpSpPr/>
              <p:nvPr/>
            </p:nvGrpSpPr>
            <p:grpSpPr>
              <a:xfrm>
                <a:off x="6707160" y="3097080"/>
                <a:ext cx="2054520" cy="353880"/>
                <a:chOff x="6707160" y="3097080"/>
                <a:chExt cx="2054520" cy="353880"/>
              </a:xfrm>
            </p:grpSpPr>
            <p:sp>
              <p:nvSpPr>
                <p:cNvPr id="105" name=""/>
                <p:cNvSpPr/>
                <p:nvPr/>
              </p:nvSpPr>
              <p:spPr>
                <a:xfrm>
                  <a:off x="6716880" y="3097080"/>
                  <a:ext cx="203472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Lucida Sans Unicode"/>
                      <a:ea typeface="Lucida Sans Unicode"/>
                    </a:rPr>
                    <a:t>$   8.000/lin.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6707160" y="3097080"/>
                  <a:ext cx="205452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7" name=""/>
              <p:cNvGrpSpPr/>
              <p:nvPr/>
            </p:nvGrpSpPr>
            <p:grpSpPr>
              <a:xfrm>
                <a:off x="6707160" y="3451320"/>
                <a:ext cx="2054520" cy="353880"/>
                <a:chOff x="6707160" y="3451320"/>
                <a:chExt cx="2054520" cy="35388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6716880" y="3451320"/>
                  <a:ext cx="2034720" cy="35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Lucida Sans Unicode"/>
                      <a:ea typeface="Lucida Sans Unicode"/>
                    </a:rPr>
                    <a:t>$   1.000/lin.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6707160" y="3451320"/>
                  <a:ext cx="2054520" cy="353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10" name=""/>
            <p:cNvSpPr/>
            <p:nvPr/>
          </p:nvSpPr>
          <p:spPr>
            <a:xfrm>
              <a:off x="6705720" y="1676520"/>
              <a:ext cx="2057400" cy="2133360"/>
            </a:xfrm>
            <a:prstGeom prst="rect">
              <a:avLst/>
            </a:prstGeom>
            <a:noFill/>
            <a:ln w="1440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2629080" y="4003560"/>
            <a:ext cx="3886200" cy="2397240"/>
            <a:chOff x="2629080" y="4003560"/>
            <a:chExt cx="3886200" cy="2397240"/>
          </a:xfrm>
        </p:grpSpPr>
        <p:grpSp>
          <p:nvGrpSpPr>
            <p:cNvPr id="112" name=""/>
            <p:cNvGrpSpPr/>
            <p:nvPr/>
          </p:nvGrpSpPr>
          <p:grpSpPr>
            <a:xfrm>
              <a:off x="2631600" y="4007880"/>
              <a:ext cx="3880800" cy="2388240"/>
              <a:chOff x="2631600" y="4007880"/>
              <a:chExt cx="3880800" cy="238824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2631600" y="4007880"/>
                <a:ext cx="3880800" cy="397800"/>
                <a:chOff x="2631600" y="4007880"/>
                <a:chExt cx="3880800" cy="39780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2649960" y="4007880"/>
                  <a:ext cx="3843360" cy="39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Lucida Sans Unicode"/>
                      <a:ea typeface="Lucida Sans Unicode"/>
                    </a:rPr>
                    <a:t>Arriendo (Costo fijo)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2631600" y="4007880"/>
                  <a:ext cx="3880800" cy="39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2631600" y="4405680"/>
                <a:ext cx="3880800" cy="397800"/>
                <a:chOff x="2631600" y="4405680"/>
                <a:chExt cx="3880800" cy="39780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2649960" y="4405680"/>
                  <a:ext cx="3843360" cy="39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Lucida Sans Unicode"/>
                      <a:ea typeface="Lucida Sans Unicode"/>
                    </a:rPr>
                    <a:t>Gastos Administrativos (Costos fijos)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2631600" y="4405680"/>
                  <a:ext cx="3880800" cy="39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9" name=""/>
              <p:cNvGrpSpPr/>
              <p:nvPr/>
            </p:nvGrpSpPr>
            <p:grpSpPr>
              <a:xfrm>
                <a:off x="2631600" y="4803840"/>
                <a:ext cx="3880800" cy="398160"/>
                <a:chOff x="2631600" y="4803840"/>
                <a:chExt cx="3880800" cy="398160"/>
              </a:xfrm>
            </p:grpSpPr>
            <p:sp>
              <p:nvSpPr>
                <p:cNvPr id="120" name=""/>
                <p:cNvSpPr/>
                <p:nvPr/>
              </p:nvSpPr>
              <p:spPr>
                <a:xfrm>
                  <a:off x="2649960" y="4803840"/>
                  <a:ext cx="3843360" cy="398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Lucida Sans Unicode"/>
                      <a:ea typeface="Lucida Sans Unicode"/>
                    </a:rPr>
                    <a:t>Gastos de marketing (Costos fijos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2631600" y="4803840"/>
                  <a:ext cx="3880800" cy="398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2" name=""/>
              <p:cNvGrpSpPr/>
              <p:nvPr/>
            </p:nvGrpSpPr>
            <p:grpSpPr>
              <a:xfrm>
                <a:off x="2631600" y="5202360"/>
                <a:ext cx="3880800" cy="397800"/>
                <a:chOff x="2631600" y="5202360"/>
                <a:chExt cx="3880800" cy="397800"/>
              </a:xfrm>
            </p:grpSpPr>
            <p:sp>
              <p:nvSpPr>
                <p:cNvPr id="123" name=""/>
                <p:cNvSpPr/>
                <p:nvPr/>
              </p:nvSpPr>
              <p:spPr>
                <a:xfrm>
                  <a:off x="2649960" y="5202360"/>
                  <a:ext cx="3843360" cy="39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Lucida Sans Unicode"/>
                      <a:ea typeface="Lucida Sans Unicode"/>
                    </a:rPr>
                    <a:t>Materiales y mano de obra directa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2631600" y="5202360"/>
                  <a:ext cx="3880800" cy="39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2631600" y="5600160"/>
                <a:ext cx="3880800" cy="397800"/>
                <a:chOff x="2631600" y="5600160"/>
                <a:chExt cx="3880800" cy="39780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2649960" y="5600160"/>
                  <a:ext cx="3843360" cy="39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Lucida Sans Unicode"/>
                      <a:ea typeface="Lucida Sans Unicode"/>
                    </a:rPr>
                    <a:t>Gastos de fabricación 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2631600" y="5600160"/>
                  <a:ext cx="3880800" cy="39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2631600" y="5998320"/>
                <a:ext cx="3880800" cy="397800"/>
                <a:chOff x="2631600" y="5998320"/>
                <a:chExt cx="3880800" cy="39780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2649960" y="5998320"/>
                  <a:ext cx="3843360" cy="397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Lucida Sans Unicode"/>
                      <a:ea typeface="Lucida Sans Unicode"/>
                    </a:rPr>
                    <a:t>Gastos Administrativo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2631600" y="5998320"/>
                  <a:ext cx="3880800" cy="3978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31" name=""/>
            <p:cNvSpPr/>
            <p:nvPr/>
          </p:nvSpPr>
          <p:spPr>
            <a:xfrm>
              <a:off x="2629080" y="4003560"/>
              <a:ext cx="3886200" cy="2397240"/>
            </a:xfrm>
            <a:prstGeom prst="rect">
              <a:avLst/>
            </a:prstGeom>
            <a:noFill/>
            <a:ln w="1440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6705720" y="4038480"/>
            <a:ext cx="2057400" cy="2362320"/>
            <a:chOff x="6705720" y="4038480"/>
            <a:chExt cx="2057400" cy="2362320"/>
          </a:xfrm>
        </p:grpSpPr>
        <p:grpSp>
          <p:nvGrpSpPr>
            <p:cNvPr id="133" name=""/>
            <p:cNvGrpSpPr/>
            <p:nvPr/>
          </p:nvGrpSpPr>
          <p:grpSpPr>
            <a:xfrm>
              <a:off x="6707160" y="4042440"/>
              <a:ext cx="2054520" cy="2353320"/>
              <a:chOff x="6707160" y="4042440"/>
              <a:chExt cx="2054520" cy="2353320"/>
            </a:xfrm>
          </p:grpSpPr>
          <p:grpSp>
            <p:nvGrpSpPr>
              <p:cNvPr id="134" name=""/>
              <p:cNvGrpSpPr/>
              <p:nvPr/>
            </p:nvGrpSpPr>
            <p:grpSpPr>
              <a:xfrm>
                <a:off x="6707160" y="4042440"/>
                <a:ext cx="2054520" cy="392040"/>
                <a:chOff x="6707160" y="4042440"/>
                <a:chExt cx="2054520" cy="39204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6716880" y="4042440"/>
                  <a:ext cx="2034720" cy="39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Lucida Sans Unicode"/>
                      <a:ea typeface="Lucida Sans Unicode"/>
                    </a:rPr>
                    <a:t>$  6.000.0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6707160" y="4042440"/>
                  <a:ext cx="2054520" cy="39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6707160" y="4434480"/>
                <a:ext cx="2054520" cy="392040"/>
                <a:chOff x="6707160" y="4434480"/>
                <a:chExt cx="2054520" cy="392040"/>
              </a:xfrm>
            </p:grpSpPr>
            <p:sp>
              <p:nvSpPr>
                <p:cNvPr id="138" name=""/>
                <p:cNvSpPr/>
                <p:nvPr/>
              </p:nvSpPr>
              <p:spPr>
                <a:xfrm>
                  <a:off x="6716880" y="4434480"/>
                  <a:ext cx="2034720" cy="39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Lucida Sans Unicode"/>
                      <a:ea typeface="Lucida Sans Unicode"/>
                    </a:rPr>
                    <a:t>$  9.500.00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6707160" y="4434480"/>
                  <a:ext cx="2054520" cy="39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6707160" y="4826880"/>
                <a:ext cx="2054520" cy="392400"/>
                <a:chOff x="6707160" y="4826880"/>
                <a:chExt cx="2054520" cy="3924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6716880" y="4826880"/>
                  <a:ext cx="2034720" cy="39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Lucida Sans Unicode"/>
                      <a:ea typeface="Lucida Sans Unicode"/>
                    </a:rPr>
                    <a:t>$  9.000.000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6707160" y="4826880"/>
                  <a:ext cx="2054520" cy="39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6707160" y="5219280"/>
                <a:ext cx="2054520" cy="392040"/>
                <a:chOff x="6707160" y="5219280"/>
                <a:chExt cx="2054520" cy="39204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6716880" y="5219280"/>
                  <a:ext cx="2034720" cy="39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Lucida Sans Unicode"/>
                      <a:ea typeface="Lucida Sans Unicode"/>
                    </a:rPr>
                    <a:t>$  7.000/lin.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707160" y="5219280"/>
                  <a:ext cx="2054520" cy="39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6" name=""/>
              <p:cNvGrpSpPr/>
              <p:nvPr/>
            </p:nvGrpSpPr>
            <p:grpSpPr>
              <a:xfrm>
                <a:off x="6707160" y="5611680"/>
                <a:ext cx="2054520" cy="392040"/>
                <a:chOff x="6707160" y="5611680"/>
                <a:chExt cx="2054520" cy="39204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6716880" y="5611680"/>
                  <a:ext cx="2034720" cy="39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Lucida Sans Unicode"/>
                      <a:ea typeface="Lucida Sans Unicode"/>
                    </a:rPr>
                    <a:t>$  6.000/lin.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707160" y="5611680"/>
                  <a:ext cx="2054520" cy="39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9" name=""/>
              <p:cNvGrpSpPr/>
              <p:nvPr/>
            </p:nvGrpSpPr>
            <p:grpSpPr>
              <a:xfrm>
                <a:off x="6707160" y="6003720"/>
                <a:ext cx="2054520" cy="392040"/>
                <a:chOff x="6707160" y="6003720"/>
                <a:chExt cx="2054520" cy="392040"/>
              </a:xfrm>
            </p:grpSpPr>
            <p:sp>
              <p:nvSpPr>
                <p:cNvPr id="150" name=""/>
                <p:cNvSpPr/>
                <p:nvPr/>
              </p:nvSpPr>
              <p:spPr>
                <a:xfrm>
                  <a:off x="6716880" y="6003720"/>
                  <a:ext cx="2034720" cy="39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Lucida Sans Unicode"/>
                      <a:ea typeface="Lucida Sans Unicode"/>
                    </a:rPr>
                    <a:t>$     900/lin.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6707160" y="6003720"/>
                  <a:ext cx="2054520" cy="39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2" name=""/>
            <p:cNvSpPr/>
            <p:nvPr/>
          </p:nvSpPr>
          <p:spPr>
            <a:xfrm>
              <a:off x="6705720" y="4038480"/>
              <a:ext cx="2057400" cy="2362320"/>
            </a:xfrm>
            <a:prstGeom prst="rect">
              <a:avLst/>
            </a:prstGeom>
            <a:noFill/>
            <a:ln w="1440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539640" y="393372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Lucida Sans Unicode"/>
                <a:ea typeface="Lucida Sans Unicode"/>
              </a:rPr>
              <a:t>Costos y gastos reales: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13372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110960" y="457200"/>
            <a:ext cx="335376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nidad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e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stos Variabl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teriales y Mano de Ob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astos de Fabricación Vari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astos Adm. Vari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tal Costos Variabl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Costos Fij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rrend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preciaciones de equip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Gastos Adm. Fij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otal Costos Fij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T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191120" y="380880"/>
            <a:ext cx="1904760" cy="53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PRESUPUEST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ESTÁTI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.25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50.00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400.00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50.00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700.00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.00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0.00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10.00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5.00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525.00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477120" y="380880"/>
            <a:ext cx="1904760" cy="55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Times New Roman"/>
              </a:rPr>
              <a:t>RESULTADOS RE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56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1.288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392.00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336.00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Times New Roman"/>
              </a:rPr>
              <a:t>50.40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778.40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6.00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9.50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Times New Roman"/>
              </a:rPr>
              <a:t>9.</a:t>
            </a: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0</a:t>
            </a:r>
            <a:r>
              <a:rPr b="1" lang="es-ES" sz="1800" spc="-1" strike="noStrike" u="sng">
                <a:solidFill>
                  <a:srgbClr val="000000"/>
                </a:solidFill>
                <a:uFillTx/>
                <a:latin typeface="Times New Roman"/>
              </a:rPr>
              <a:t>0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24.50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485.10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128960" y="5167440"/>
            <a:ext cx="2969640" cy="14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-F- :  Variación favorabl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-D- : Variación desfavorabl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248520" y="3962520"/>
            <a:ext cx="54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251040" y="205740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D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251400" y="236232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251040" y="289548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D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251040" y="259092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D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248520" y="3733920"/>
            <a:ext cx="46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D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248520" y="4267080"/>
            <a:ext cx="54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248520" y="4495680"/>
            <a:ext cx="54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324480" y="1295280"/>
            <a:ext cx="54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410080" y="525780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ariación  Tot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sfavorab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$ 39.900.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5181480" y="518112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7848720" y="51051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181480" y="55627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391520" y="56386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994680" y="457200"/>
            <a:ext cx="250488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nidad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en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stos Variabl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ateriales y mano de ob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tos de Fab.  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tos Admón. Vari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tal Costos Variabl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stos Fij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rrend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preciaciones de equi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tos Admón. Fij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tal Costos Fij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T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124080" y="228600"/>
            <a:ext cx="190512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PRESUPUEST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ESTÁT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25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5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0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5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00.000.000,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1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5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25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181480" y="228600"/>
            <a:ext cx="190512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PRESUPUEST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Times New Roman"/>
              </a:rPr>
              <a:t>FLEXIBLE</a:t>
            </a:r>
            <a:r>
              <a:rPr b="1" lang="en-US" sz="1600" spc="-1" strike="noStrike">
                <a:solidFill>
                  <a:srgbClr val="009999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6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4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8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48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56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84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10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5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91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010280" y="228600"/>
            <a:ext cx="190512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3399"/>
                </a:solidFill>
                <a:latin typeface="Times New Roman"/>
              </a:rPr>
              <a:t>RESULTADOS RE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56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1.288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392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336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1" lang="es-ES" sz="1600" spc="-1" strike="noStrike" u="sng">
                <a:solidFill>
                  <a:srgbClr val="000000"/>
                </a:solidFill>
                <a:uFillTx/>
                <a:latin typeface="Times New Roman"/>
              </a:rPr>
              <a:t>50.4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778.4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6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9.5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Times New Roman"/>
              </a:rPr>
              <a:t>9.</a:t>
            </a: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0</a:t>
            </a:r>
            <a:r>
              <a:rPr b="1" lang="es-ES" sz="1600" spc="-1" strike="noStrike" u="sng">
                <a:solidFill>
                  <a:srgbClr val="000000"/>
                </a:solidFill>
                <a:uFillTx/>
                <a:latin typeface="Times New Roman"/>
              </a:rPr>
              <a:t>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24.5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485.1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95760" y="5243400"/>
            <a:ext cx="1250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aria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olum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avor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$ 66.0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324480" y="5257800"/>
            <a:ext cx="2178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ariació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resupues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esfavor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$ 105.900.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089120" y="121932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D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108040" y="259092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D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086600" y="3657600"/>
            <a:ext cx="54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089120" y="190512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D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089840" y="2209680"/>
            <a:ext cx="43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89840" y="2666880"/>
            <a:ext cx="43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089840" y="2438280"/>
            <a:ext cx="43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089120" y="342900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D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013160" y="464832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D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086600" y="3886200"/>
            <a:ext cx="54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086600" y="4114800"/>
            <a:ext cx="54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105520" y="1219320"/>
            <a:ext cx="54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29200" y="4648320"/>
            <a:ext cx="54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F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4267080" y="5029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8458200" y="5029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6248520" y="5029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267080" y="5562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715000" y="5562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248520" y="5562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001000" y="5562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90720" y="5029200"/>
            <a:ext cx="5465520" cy="14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-F- :  Variación favorabl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Lucida Sans Unicode"/>
                <a:ea typeface="Times New Roman"/>
              </a:rPr>
              <a:t>-D-: Variación desfavorabl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Arial"/>
              </a:rPr>
              <a:t>Ejemplo 2</a:t>
            </a:r>
            <a:br>
              <a:rPr sz="4400"/>
            </a:br>
            <a:r>
              <a:rPr b="0" lang="es-ES_tradnl" sz="4400" spc="-1" strike="noStrike">
                <a:solidFill>
                  <a:srgbClr val="333399"/>
                </a:solidFill>
                <a:latin typeface="Arial"/>
              </a:rPr>
              <a:t>Análisis de Desviacio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95280" y="304920"/>
            <a:ext cx="8139240" cy="62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28600" y="318960"/>
            <a:ext cx="8686800" cy="62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304920" y="620640"/>
            <a:ext cx="853416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8458200" cy="39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ff"/>
                </a:solidFill>
                <a:latin typeface="Arial"/>
              </a:rPr>
              <a:t>Objeti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visar los conceptos de Presupuesto Flexible, Análisis de Desviaciones y Costo Estándar, y su aplic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38188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61048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381880" cy="18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00000"/>
                </a:solidFill>
                <a:latin typeface="Arial"/>
              </a:rPr>
              <a:t>Costos Están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4536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990000"/>
                </a:solidFill>
                <a:latin typeface="Arial"/>
              </a:rPr>
              <a:t>Costos Están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écnica de la contabilidad de costos que compara el costo considerado normal de cada producto, servicio o elemento con su costo re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os costos estándar son costos preestablecidos, se calculan antes de comenzar las opera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 una herramienta del control presupuestar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ermite evaluar la eficiencia de la gestión y tomar inmediatamente las acciones correctivas que se estimen pertin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685440" y="685440"/>
            <a:ext cx="80773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l igual que con los costos históricos, se pueden combinar con los métodos de costeo variable y absobente, y con los sistemas de costos por procesos y por órdenes de trabaj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 medida que se conocen los costos e ingresos reales, se van registrando en la contabilidad de cos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os datos reales se comparan con los estándar, y las desviaciones entre unos y otros se ponen de manifiesto por el propio sistema con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4536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Ventajas de los Costos Están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acilitan la “dirección por excepción”, que consiste en centrar la atención de la dirección en aquellas situaciones que se apartan de la normal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acilitan la valoración de los stocks y la fijación de precios, entre ot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xigen una definición de responsabilidades por centros de cos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45360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Tipos de Costos Están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 partir de datos de la empresa en ejercicios anteri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 partir de datos de la empresa en ejercicios anteriores, pero corregi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 partir de estudios técnicos. En este caso el estándar puede representa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mejor actuación po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Una actuación efic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sidere el siguiente Centro de Cos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ES_tradnl" sz="2000" spc="-1" strike="noStrike">
                <a:solidFill>
                  <a:srgbClr val="333399"/>
                </a:solidFill>
                <a:latin typeface="Arial"/>
              </a:rPr>
              <a:t>“Presupuesto para un periodo”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considera precios y cantidades estánd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1" lang="es-ES_tradnl" sz="2000" spc="-1" strike="noStrike">
                <a:solidFill>
                  <a:srgbClr val="cc0099"/>
                </a:solidFill>
                <a:latin typeface="Arial"/>
              </a:rPr>
              <a:t>“Costos históricos”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constituyen los precios y costos reales obtenidos en la p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333399"/>
                </a:solidFill>
                <a:latin typeface="Arial"/>
              </a:rPr>
              <a:t>Ejemplo 3</a:t>
            </a:r>
            <a:br>
              <a:rPr sz="4400"/>
            </a:br>
            <a:r>
              <a:rPr b="0" lang="es-ES_tradnl" sz="4400" spc="-1" strike="noStrike">
                <a:solidFill>
                  <a:srgbClr val="333399"/>
                </a:solidFill>
                <a:latin typeface="Arial"/>
              </a:rPr>
              <a:t>Costo Estánd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4360" y="40464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Presupuesto</a:t>
            </a:r>
            <a:r>
              <a:rPr b="1" lang="en-US" sz="3200" spc="-1" strike="noStrike">
                <a:solidFill>
                  <a:srgbClr val="333399"/>
                </a:solidFill>
                <a:latin typeface="Lucida Sans Unicod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68360" y="1341360"/>
            <a:ext cx="8223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Según Horngren un presupuesto es la expresión formal, cuantitativa de los planes de un individuo, empresa u organización, que proporcionan un punto de referencia para medir el desempeño real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3213000"/>
            <a:ext cx="556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ipos de Presupuestos</a:t>
            </a:r>
            <a:r>
              <a:rPr b="1" lang="en-US" sz="3200" spc="-1" strike="noStrike">
                <a:solidFill>
                  <a:srgbClr val="ff0000"/>
                </a:solidFill>
                <a:latin typeface="Lucida Sans Unicod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4038480"/>
            <a:ext cx="8294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Según el horizonte, de los objetivos y la incertidumbre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,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los presupuestos pueden ser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lan Estratég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lan de Largo Plaz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resupuesto de Capi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resupuesto Maestro.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85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1476360" y="549360"/>
            <a:ext cx="6048360" cy="58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258920" y="404640"/>
            <a:ext cx="662472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45360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Desviaciones en Materias Pri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viación Global = 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500 x 800 x 6 – 550 x 800 x 5 = 2.400.000 – 2.200.000 = 20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viación por causa de las cantidades (técnica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(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)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(500x800 – 550x800) x 6 = </a:t>
            </a: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-24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viación por causa de los precios (económica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(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) Q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(6 - 5) x 550 x 800 = + 44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4360" y="4726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333399"/>
                </a:solidFill>
                <a:latin typeface="Arial"/>
              </a:rPr>
              <a:t>Desviaciones en Mano de Ob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viación Global = 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25 x 800 x 40 – 26,25 x 800 x 45 = 800.000 – 945.000 = </a:t>
            </a: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-145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viación por causa de las cantidades (técnica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(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)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(25x800 – 26,25x800) x 40 = </a:t>
            </a: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-40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sviación por causa de los precios (económica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(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– P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) H</a:t>
            </a:r>
            <a:r>
              <a:rPr b="0" lang="es-CL" sz="2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 = (40 - 45) x 26,25 x 800 = </a:t>
            </a:r>
            <a:r>
              <a:rPr b="0" lang="es-CL" sz="2000" spc="-1" strike="noStrike">
                <a:solidFill>
                  <a:srgbClr val="ff0000"/>
                </a:solidFill>
                <a:latin typeface="Arial"/>
              </a:rPr>
              <a:t>- 105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Plan Estratégico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, fija las metas  y objetivos globales de 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organizaci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l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Plan de Largo Plazo,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genera estado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financieros proyect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ara períodos entre 5 y 10 añ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l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Presupuesto de Capital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indica las inversiones que debe hac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la empresa para las instalaciones, equipos y demás invers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e largo plazo para el cumplimento de los objetivos propuesto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sí como para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lcanzar los resultados y la posición financi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stablecida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n los presupuestos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de largo plazo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</a:rPr>
              <a:t>Presupuesto Maestro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expresa de forma cuantitativa los pla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e todas las subunidades para el primer año de operaciones d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lan de largo plazo, por tanto incluye proyecciones de l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operaciones de la empresa (presupuesto de ventas, compra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costo de producción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gastos, 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y presupuesto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e resultados)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esupuestos financiero (presupuesto de capital, de efectivo y 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balance general).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4360" y="283680"/>
            <a:ext cx="77043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Presupues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42472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00"/>
                </a:solidFill>
                <a:latin typeface="Arial"/>
              </a:rPr>
              <a:t>Presupuesto Estátic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se basa en el nivel de producción planificado al inicio del periodo del presupues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990000"/>
                </a:solidFill>
                <a:latin typeface="Arial"/>
              </a:rPr>
              <a:t>Presupuesto Flexible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se desarrolla considerando los precios y costos variables presupuestados y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el nivel de producción re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9640" y="4365720"/>
            <a:ext cx="82234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Arial"/>
                <a:ea typeface="Lucida Sans Unicode"/>
              </a:rPr>
              <a:t>La evaluación del desempeño a partir del presupuesto flexible se realiza al calcular y analizar las variaciones de volumen y de presupuesto flexible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1916280"/>
            <a:ext cx="829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El </a:t>
            </a:r>
            <a:r>
              <a:rPr b="1" lang="es-ES" sz="2000" spc="-1" strike="noStrike">
                <a:solidFill>
                  <a:srgbClr val="333399"/>
                </a:solidFill>
                <a:latin typeface="Arial"/>
                <a:ea typeface="Lucida Sans Unicode"/>
              </a:rPr>
              <a:t>Presupuesto Flexible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se basa en los mismos supuestos y formatos del presupuesto maestro (estático)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,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  pero combinándolos con los cambios que implican las variaciones del nivel de ventas o actividades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11280" y="609480"/>
            <a:ext cx="820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aracterísticas del  Presupuesto Flexibl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3141720"/>
            <a:ext cx="829476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La necesidad de uso de los presupuestos flexibles obedece a que las discrepancias (variaciones) entre los resultados reales y los presupuestados se deben a causas distintas</a:t>
            </a:r>
            <a:r>
              <a:rPr b="1" lang="es-ES_tradnl" sz="2200" spc="-1" strike="noStrike">
                <a:solidFill>
                  <a:srgbClr val="000000"/>
                </a:solidFill>
                <a:latin typeface="Lucida Sans Unicode"/>
                <a:ea typeface="Lucida Sans Unicode"/>
              </a:rPr>
              <a:t>.</a:t>
            </a: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53316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7588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ontrol Presupuestario y Análisis de Desvi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060640"/>
            <a:ext cx="7848720" cy="4263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 u="sng">
                <a:solidFill>
                  <a:srgbClr val="3333ff"/>
                </a:solidFill>
                <a:uFillTx/>
                <a:latin typeface="Arial"/>
              </a:rPr>
              <a:t>Control Presupuestari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: Proceso permanente de comparación entre lo planificado (plasmado en los presupuestos) y lo acontecido en la real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859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 u="sng">
                <a:solidFill>
                  <a:srgbClr val="3333ff"/>
                </a:solidFill>
                <a:uFillTx/>
                <a:latin typeface="Arial"/>
              </a:rPr>
              <a:t>Desviación</a:t>
            </a:r>
            <a:r>
              <a:rPr b="0" lang="es-ES_tradnl" sz="2000" spc="-1" strike="noStrike" u="sng">
                <a:solidFill>
                  <a:srgbClr val="3333ff"/>
                </a:solidFill>
                <a:uFillTx/>
                <a:latin typeface="Arial"/>
              </a:rPr>
              <a:t>: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Diferencia entre el resultado real y el proyectado (puede ser favorable o desfavorabl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95280" y="549000"/>
            <a:ext cx="835344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"/>
              </a:rPr>
              <a:t>El análisis de las desviaciones es importante porqu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uestra si los responsables están cumpliendo o no con los objetivos especific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ermite el feed-back o proceso de retroalimentación, mediante el cual la empresa tomará las medidas correctivas para ajustarse a lo plane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stituye un proceso de aprendizaj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Variación de presupues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1628640"/>
            <a:ext cx="4176720" cy="703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iferencia entre el presupuesto flexible y los resultados re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08000" y="3141720"/>
            <a:ext cx="5715000" cy="703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Cambios en los precios unitarios de ventas, y en los costos variables y fijos tot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284720" y="4724280"/>
            <a:ext cx="4495680" cy="703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Refleja la eficiencia de la empresa en el uso de sus recur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4T21:02:37Z</dcterms:created>
  <dc:creator>Marisela Morillo</dc:creator>
  <dc:description/>
  <dc:language>en-US</dc:language>
  <cp:lastModifiedBy>Ivan Alvarez</cp:lastModifiedBy>
  <dcterms:modified xsi:type="dcterms:W3CDTF">2007-08-24T02:04:35Z</dcterms:modified>
  <cp:revision>24</cp:revision>
  <dc:subject/>
  <dc:title>Presentación de PowerPoint</dc:title>
</cp:coreProperties>
</file>