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17F-25BD-48DF-9C52-992BAC8F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B14-8D69-4EDE-8C59-898C077A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145-8AD3-440B-821E-4CF1643B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0D8-8858-44A6-B72D-7E557EAF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74DE-889B-4B91-9985-73517713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ECEB-6092-4916-B7C3-0E6039F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44F3-8CF2-4CFE-BCA3-C3471A82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E423-8588-4006-9AE5-25A5386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527-5845-4730-B879-DFAEF476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7A8C-A8F4-4ECD-B4A7-CC1BF44E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0C96-5791-437E-8581-F9169C8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A65-1039-4368-A499-390A1267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BC93-2DF0-4A43-82CE-0656029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C8C8-B96F-4DD6-8FB7-183222F5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0602-E704-448E-8BE9-B3029FF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DA7-ACE9-4196-8287-98A17765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D783-3302-4702-B8AD-96BE71FB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4DF-1D32-4108-AB42-B4F1EEA6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81F-DA39-4062-A54E-F6088386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94D-FE0B-455C-B066-EE3EA97A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6A3-1001-4033-868C-4EB9085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A2C-B690-4ECC-8E09-5AD9901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568-DC14-490A-BFAC-958438A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652-24F2-4EC9-866C-87D97311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83C-73B6-4FF9-A7D7-3385CFA1374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A07D-092D-42CA-B5DA-CCD3329023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. y Equ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umento capa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es de A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s operaciones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494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se requiere de ciertas definiciones previ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 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n embargo, para fines de confección de un presupuesto, es suficiente contar con un conjunto de lineamientos, que puedan orientar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45672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809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Maes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38544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981000"/>
            <a:ext cx="0" cy="453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" y="1412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Estratég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0680" y="1366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Ope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3000" y="13424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ivel Financi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3716280"/>
            <a:ext cx="50472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3716280"/>
            <a:ext cx="503280" cy="0"/>
          </a:xfrm>
          <a:prstGeom prst="line">
            <a:avLst/>
          </a:prstGeom>
          <a:ln w="7632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033080"/>
            <a:ext cx="2089080" cy="642600"/>
          </a:xfrm>
          <a:prstGeom prst="rect">
            <a:avLst/>
          </a:prstGeom>
          <a:solidFill>
            <a:srgbClr val="66ffff"/>
          </a:solidFill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068640"/>
            <a:ext cx="0" cy="12970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306864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32000" y="4365720"/>
            <a:ext cx="4320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141720"/>
            <a:ext cx="0" cy="1224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141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8-17T02:43:08Z</dcterms:modified>
  <cp:revision>52</cp:revision>
  <dc:subject/>
  <dc:title>Sin título de diapositiva</dc:title>
</cp:coreProperties>
</file>